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DDE1-AC1D-4D8B-A6F0-61539F6A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35C6-3134-4F18-A5CA-2F24A11E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EBD5-85A5-4269-90C4-99A82CDA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9762-0874-4376-A41F-B9B8644E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A5D4-B7C5-4014-89E3-F715032D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268F-B51A-4B76-A9A7-6BF6D3CA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ED24-DE33-4028-9A9A-94915299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0807-88B2-44DD-9B6C-0A078862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8108-9D5A-4861-9E03-DFBD7E56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8DC3-D289-4969-A65F-AF995CC3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AA09-D337-4422-838E-4B188CD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662B-E126-4851-AE0E-D110C83E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0B46-3CD0-4040-804B-889E44E5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5D11-4BC7-4BAA-B034-9A804A7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D69A-CF47-48B6-8E18-583D1B04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4025-BB12-41DA-8B0E-ABC721C6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BD27-4B60-4808-9502-9932FD83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BD76-D434-4046-A97F-52134F52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180F-367F-4246-BC5C-CBDA63A7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8B21-7A72-4A68-868D-21BB7834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C162-4698-4059-A1A8-4FA345C8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D593-7B27-4E90-8B33-86F27A5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6D0F-3A0C-4976-B20E-1859CDB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4700-640E-4096-8631-165340D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6918-F738-45D1-A1D1-4DC65AD4A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B47E-4C48-44C0-87DB-91B6A06EA0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A Review Day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 7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ll find the area of composite (compound) figu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16680" y="5732640"/>
            <a:ext cx="1643040" cy="90360"/>
          </a:xfrm>
          <a:custGeom>
            <a:avLst/>
            <a:gdLst/>
            <a:ahLst/>
            <a:rect l="l" t="t" r="r" b="b"/>
            <a:pathLst>
              <a:path w="4565" h="249">
                <a:moveTo>
                  <a:pt x="14213" y="16173"/>
                </a:moveTo>
                <a:cubicBezTo>
                  <a:pt x="14303" y="16173"/>
                  <a:pt x="14376" y="16155"/>
                  <a:pt x="14461" y="16148"/>
                </a:cubicBezTo>
                <a:cubicBezTo>
                  <a:pt x="14520" y="16143"/>
                  <a:pt x="14589" y="16128"/>
                  <a:pt x="14635" y="16123"/>
                </a:cubicBezTo>
                <a:cubicBezTo>
                  <a:pt x="14688" y="16117"/>
                  <a:pt x="14734" y="16103"/>
                  <a:pt x="14784" y="16098"/>
                </a:cubicBezTo>
                <a:cubicBezTo>
                  <a:pt x="14860" y="16091"/>
                  <a:pt x="14932" y="16080"/>
                  <a:pt x="15007" y="16073"/>
                </a:cubicBezTo>
                <a:cubicBezTo>
                  <a:pt x="15257" y="16051"/>
                  <a:pt x="15547" y="16115"/>
                  <a:pt x="15776" y="16098"/>
                </a:cubicBezTo>
                <a:cubicBezTo>
                  <a:pt x="15812" y="16095"/>
                  <a:pt x="15915" y="16060"/>
                  <a:pt x="15949" y="16049"/>
                </a:cubicBezTo>
                <a:cubicBezTo>
                  <a:pt x="16049" y="16017"/>
                  <a:pt x="16142" y="16024"/>
                  <a:pt x="16247" y="16024"/>
                </a:cubicBezTo>
                <a:cubicBezTo>
                  <a:pt x="16323" y="16024"/>
                  <a:pt x="16362" y="16015"/>
                  <a:pt x="16421" y="15999"/>
                </a:cubicBezTo>
                <a:cubicBezTo>
                  <a:pt x="16471" y="15985"/>
                  <a:pt x="16519" y="15985"/>
                  <a:pt x="16570" y="15974"/>
                </a:cubicBezTo>
                <a:cubicBezTo>
                  <a:pt x="16661" y="15954"/>
                  <a:pt x="16749" y="15931"/>
                  <a:pt x="16842" y="15925"/>
                </a:cubicBezTo>
                <a:cubicBezTo>
                  <a:pt x="16891" y="15922"/>
                  <a:pt x="16956" y="15928"/>
                  <a:pt x="17016" y="15925"/>
                </a:cubicBezTo>
                <a:cubicBezTo>
                  <a:pt x="17058" y="15923"/>
                  <a:pt x="17087" y="15947"/>
                  <a:pt x="17115" y="15949"/>
                </a:cubicBezTo>
                <a:cubicBezTo>
                  <a:pt x="17323" y="15963"/>
                  <a:pt x="17529" y="15954"/>
                  <a:pt x="17735" y="15974"/>
                </a:cubicBezTo>
                <a:cubicBezTo>
                  <a:pt x="17806" y="15981"/>
                  <a:pt x="17866" y="15955"/>
                  <a:pt x="17934" y="15949"/>
                </a:cubicBezTo>
                <a:cubicBezTo>
                  <a:pt x="18007" y="15942"/>
                  <a:pt x="18090" y="15930"/>
                  <a:pt x="18157" y="15925"/>
                </a:cubicBezTo>
                <a:cubicBezTo>
                  <a:pt x="18282" y="15916"/>
                  <a:pt x="18420" y="15941"/>
                  <a:pt x="18529" y="15949"/>
                </a:cubicBezTo>
                <a:cubicBezTo>
                  <a:pt x="18611" y="15955"/>
                  <a:pt x="18695" y="15949"/>
                  <a:pt x="18777" y="159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983200"/>
            <a:ext cx="2036520" cy="54000"/>
          </a:xfrm>
          <a:custGeom>
            <a:avLst/>
            <a:gdLst/>
            <a:ahLst/>
            <a:rect l="l" t="t" r="r" b="b"/>
            <a:pathLst>
              <a:path w="5657" h="150">
                <a:moveTo>
                  <a:pt x="12278" y="16768"/>
                </a:moveTo>
                <a:lnTo>
                  <a:pt x="12278" y="16768"/>
                </a:lnTo>
              </a:path>
              <a:path w="5657" h="150">
                <a:moveTo>
                  <a:pt x="12278" y="16768"/>
                </a:moveTo>
                <a:lnTo>
                  <a:pt x="12278" y="16768"/>
                </a:lnTo>
              </a:path>
              <a:path w="5657" h="150">
                <a:moveTo>
                  <a:pt x="17314" y="16644"/>
                </a:moveTo>
                <a:cubicBezTo>
                  <a:pt x="17636" y="16621"/>
                  <a:pt x="17727" y="16612"/>
                  <a:pt x="17934" y="16619"/>
                </a:cubicBezTo>
              </a:path>
              <a:path w="5657" h="150">
                <a:moveTo>
                  <a:pt x="17934" y="16619"/>
                </a:moveTo>
                <a:lnTo>
                  <a:pt x="17934" y="16619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5120" y="5965920"/>
            <a:ext cx="216000" cy="241200"/>
          </a:xfrm>
          <a:custGeom>
            <a:avLst/>
            <a:gdLst/>
            <a:ahLst/>
            <a:rect l="l" t="t" r="r" b="b"/>
            <a:pathLst>
              <a:path w="596" h="670">
                <a:moveTo>
                  <a:pt x="10592" y="16768"/>
                </a:moveTo>
                <a:cubicBezTo>
                  <a:pt x="10619" y="16763"/>
                  <a:pt x="10705" y="16754"/>
                  <a:pt x="10691" y="16718"/>
                </a:cubicBezTo>
                <a:cubicBezTo>
                  <a:pt x="10574" y="16421"/>
                  <a:pt x="10352" y="16613"/>
                  <a:pt x="10294" y="16842"/>
                </a:cubicBezTo>
                <a:cubicBezTo>
                  <a:pt x="10215" y="17155"/>
                  <a:pt x="10479" y="17212"/>
                  <a:pt x="10641" y="16991"/>
                </a:cubicBezTo>
                <a:cubicBezTo>
                  <a:pt x="10684" y="16885"/>
                  <a:pt x="10700" y="16864"/>
                  <a:pt x="10691" y="16793"/>
                </a:cubicBezTo>
                <a:cubicBezTo>
                  <a:pt x="10691" y="16934"/>
                  <a:pt x="10721" y="17057"/>
                  <a:pt x="10765" y="17190"/>
                </a:cubicBezTo>
                <a:cubicBezTo>
                  <a:pt x="10797" y="17253"/>
                  <a:pt x="10821" y="17265"/>
                  <a:pt x="10889" y="172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2960" y="5929200"/>
            <a:ext cx="973080" cy="447840"/>
          </a:xfrm>
          <a:custGeom>
            <a:avLst/>
            <a:gdLst/>
            <a:ahLst/>
            <a:rect l="l" t="t" r="r" b="b"/>
            <a:pathLst>
              <a:path w="2705" h="1242">
                <a:moveTo>
                  <a:pt x="11906" y="16818"/>
                </a:moveTo>
                <a:cubicBezTo>
                  <a:pt x="11959" y="16674"/>
                  <a:pt x="11992" y="16530"/>
                  <a:pt x="11807" y="16470"/>
                </a:cubicBezTo>
                <a:cubicBezTo>
                  <a:pt x="11568" y="16392"/>
                  <a:pt x="11634" y="16847"/>
                  <a:pt x="11658" y="16942"/>
                </a:cubicBezTo>
                <a:cubicBezTo>
                  <a:pt x="11685" y="17052"/>
                  <a:pt x="11757" y="17327"/>
                  <a:pt x="11757" y="17214"/>
                </a:cubicBezTo>
              </a:path>
              <a:path w="2705" h="1242">
                <a:moveTo>
                  <a:pt x="11534" y="16942"/>
                </a:moveTo>
                <a:cubicBezTo>
                  <a:pt x="11719" y="16960"/>
                  <a:pt x="12025" y="16905"/>
                  <a:pt x="12179" y="17016"/>
                </a:cubicBezTo>
                <a:cubicBezTo>
                  <a:pt x="12255" y="17071"/>
                  <a:pt x="12229" y="17161"/>
                  <a:pt x="12229" y="17239"/>
                </a:cubicBezTo>
              </a:path>
              <a:path w="2705" h="1242">
                <a:moveTo>
                  <a:pt x="12725" y="16942"/>
                </a:moveTo>
                <a:cubicBezTo>
                  <a:pt x="12607" y="16912"/>
                  <a:pt x="12352" y="17032"/>
                  <a:pt x="12402" y="17214"/>
                </a:cubicBezTo>
                <a:cubicBezTo>
                  <a:pt x="12467" y="17450"/>
                  <a:pt x="12733" y="17082"/>
                  <a:pt x="12750" y="17016"/>
                </a:cubicBezTo>
                <a:cubicBezTo>
                  <a:pt x="12737" y="17181"/>
                  <a:pt x="12883" y="17451"/>
                  <a:pt x="12750" y="17611"/>
                </a:cubicBezTo>
                <a:cubicBezTo>
                  <a:pt x="12642" y="17741"/>
                  <a:pt x="12439" y="17700"/>
                  <a:pt x="12303" y="17686"/>
                </a:cubicBezTo>
              </a:path>
              <a:path w="2705" h="1242">
                <a:moveTo>
                  <a:pt x="12923" y="16892"/>
                </a:moveTo>
                <a:cubicBezTo>
                  <a:pt x="12868" y="17073"/>
                  <a:pt x="12810" y="17224"/>
                  <a:pt x="12898" y="17388"/>
                </a:cubicBezTo>
                <a:cubicBezTo>
                  <a:pt x="13084" y="17276"/>
                  <a:pt x="13118" y="17213"/>
                  <a:pt x="13221" y="17016"/>
                </a:cubicBezTo>
                <a:cubicBezTo>
                  <a:pt x="13123" y="16855"/>
                  <a:pt x="13259" y="17210"/>
                  <a:pt x="13345" y="17264"/>
                </a:cubicBezTo>
                <a:cubicBezTo>
                  <a:pt x="13458" y="17292"/>
                  <a:pt x="13498" y="17289"/>
                  <a:pt x="13519" y="17165"/>
                </a:cubicBezTo>
              </a:path>
              <a:path w="2705" h="1242">
                <a:moveTo>
                  <a:pt x="13543" y="16942"/>
                </a:moveTo>
                <a:cubicBezTo>
                  <a:pt x="13556" y="17088"/>
                  <a:pt x="13582" y="17220"/>
                  <a:pt x="13618" y="17363"/>
                </a:cubicBezTo>
                <a:cubicBezTo>
                  <a:pt x="13618" y="17186"/>
                  <a:pt x="13570" y="16935"/>
                  <a:pt x="13742" y="16818"/>
                </a:cubicBezTo>
                <a:cubicBezTo>
                  <a:pt x="13819" y="16798"/>
                  <a:pt x="13837" y="16774"/>
                  <a:pt x="13866" y="16818"/>
                </a:cubicBezTo>
              </a:path>
              <a:path w="2705" h="1242">
                <a:moveTo>
                  <a:pt x="14089" y="16991"/>
                </a:moveTo>
                <a:cubicBezTo>
                  <a:pt x="14188" y="16932"/>
                  <a:pt x="14216" y="16934"/>
                  <a:pt x="14238" y="16867"/>
                </a:cubicBezTo>
                <a:cubicBezTo>
                  <a:pt x="14076" y="16867"/>
                  <a:pt x="13919" y="16910"/>
                  <a:pt x="13915" y="17115"/>
                </a:cubicBezTo>
                <a:cubicBezTo>
                  <a:pt x="13964" y="17237"/>
                  <a:pt x="13978" y="17278"/>
                  <a:pt x="14089" y="172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6160" y="6037200"/>
            <a:ext cx="401760" cy="293760"/>
          </a:xfrm>
          <a:custGeom>
            <a:avLst/>
            <a:gdLst/>
            <a:ahLst/>
            <a:rect l="l" t="t" r="r" b="b"/>
            <a:pathLst>
              <a:path w="1117" h="820">
                <a:moveTo>
                  <a:pt x="15156" y="16818"/>
                </a:moveTo>
                <a:cubicBezTo>
                  <a:pt x="15156" y="16882"/>
                  <a:pt x="15095" y="17291"/>
                  <a:pt x="15255" y="17214"/>
                </a:cubicBezTo>
                <a:cubicBezTo>
                  <a:pt x="15390" y="17107"/>
                  <a:pt x="15438" y="17062"/>
                  <a:pt x="15478" y="16942"/>
                </a:cubicBezTo>
                <a:cubicBezTo>
                  <a:pt x="15533" y="16868"/>
                  <a:pt x="15464" y="17149"/>
                  <a:pt x="15627" y="17239"/>
                </a:cubicBezTo>
                <a:cubicBezTo>
                  <a:pt x="15766" y="17315"/>
                  <a:pt x="15925" y="16783"/>
                  <a:pt x="15925" y="16942"/>
                </a:cubicBezTo>
                <a:cubicBezTo>
                  <a:pt x="15925" y="17145"/>
                  <a:pt x="15925" y="17354"/>
                  <a:pt x="15925" y="17562"/>
                </a:cubicBezTo>
                <a:cubicBezTo>
                  <a:pt x="15801" y="17439"/>
                  <a:pt x="15802" y="17037"/>
                  <a:pt x="15974" y="16842"/>
                </a:cubicBezTo>
                <a:cubicBezTo>
                  <a:pt x="16032" y="16817"/>
                  <a:pt x="16090" y="16793"/>
                  <a:pt x="16148" y="16768"/>
                </a:cubicBezTo>
                <a:cubicBezTo>
                  <a:pt x="16270" y="16976"/>
                  <a:pt x="16369" y="17225"/>
                  <a:pt x="15999" y="17214"/>
                </a:cubicBezTo>
                <a:cubicBezTo>
                  <a:pt x="15834" y="17173"/>
                  <a:pt x="15760" y="17190"/>
                  <a:pt x="15825" y="170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72120" y="5813280"/>
            <a:ext cx="349200" cy="357480"/>
          </a:xfrm>
          <a:custGeom>
            <a:avLst/>
            <a:gdLst/>
            <a:ahLst/>
            <a:rect l="l" t="t" r="r" b="b"/>
            <a:pathLst>
              <a:path w="969" h="993">
                <a:moveTo>
                  <a:pt x="17140" y="16818"/>
                </a:moveTo>
                <a:cubicBezTo>
                  <a:pt x="17140" y="16793"/>
                  <a:pt x="17140" y="16768"/>
                  <a:pt x="17140" y="16743"/>
                </a:cubicBezTo>
                <a:cubicBezTo>
                  <a:pt x="17057" y="16743"/>
                  <a:pt x="17044" y="16736"/>
                  <a:pt x="16966" y="16818"/>
                </a:cubicBezTo>
                <a:cubicBezTo>
                  <a:pt x="16911" y="16875"/>
                  <a:pt x="16884" y="16963"/>
                  <a:pt x="16892" y="16991"/>
                </a:cubicBezTo>
                <a:cubicBezTo>
                  <a:pt x="16918" y="17080"/>
                  <a:pt x="16901" y="17140"/>
                  <a:pt x="17041" y="17140"/>
                </a:cubicBezTo>
                <a:cubicBezTo>
                  <a:pt x="17209" y="17140"/>
                  <a:pt x="17386" y="16915"/>
                  <a:pt x="17239" y="16768"/>
                </a:cubicBezTo>
                <a:cubicBezTo>
                  <a:pt x="17141" y="16743"/>
                  <a:pt x="17109" y="16735"/>
                  <a:pt x="17041" y="16743"/>
                </a:cubicBezTo>
                <a:cubicBezTo>
                  <a:pt x="16975" y="16908"/>
                  <a:pt x="17245" y="16808"/>
                  <a:pt x="17314" y="16793"/>
                </a:cubicBezTo>
              </a:path>
              <a:path w="969" h="993">
                <a:moveTo>
                  <a:pt x="17835" y="16173"/>
                </a:moveTo>
                <a:cubicBezTo>
                  <a:pt x="17575" y="16129"/>
                  <a:pt x="17445" y="16300"/>
                  <a:pt x="17438" y="16570"/>
                </a:cubicBezTo>
                <a:cubicBezTo>
                  <a:pt x="17435" y="16691"/>
                  <a:pt x="17597" y="17013"/>
                  <a:pt x="17512" y="170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61080" y="5867280"/>
            <a:ext cx="1920960" cy="303480"/>
          </a:xfrm>
          <a:custGeom>
            <a:avLst/>
            <a:gdLst/>
            <a:ahLst/>
            <a:rect l="l" t="t" r="r" b="b"/>
            <a:pathLst>
              <a:path w="5334" h="844">
                <a:moveTo>
                  <a:pt x="18504" y="16718"/>
                </a:moveTo>
                <a:cubicBezTo>
                  <a:pt x="18512" y="16851"/>
                  <a:pt x="18523" y="16982"/>
                  <a:pt x="18529" y="17115"/>
                </a:cubicBezTo>
                <a:cubicBezTo>
                  <a:pt x="18420" y="17151"/>
                  <a:pt x="18599" y="16800"/>
                  <a:pt x="18628" y="16768"/>
                </a:cubicBezTo>
                <a:cubicBezTo>
                  <a:pt x="18822" y="16551"/>
                  <a:pt x="18880" y="17019"/>
                  <a:pt x="18901" y="17115"/>
                </a:cubicBezTo>
                <a:cubicBezTo>
                  <a:pt x="18901" y="16970"/>
                  <a:pt x="18878" y="16846"/>
                  <a:pt x="18976" y="16718"/>
                </a:cubicBezTo>
                <a:cubicBezTo>
                  <a:pt x="19009" y="16702"/>
                  <a:pt x="19042" y="16685"/>
                  <a:pt x="19075" y="16669"/>
                </a:cubicBezTo>
                <a:cubicBezTo>
                  <a:pt x="19256" y="16818"/>
                  <a:pt x="19174" y="16959"/>
                  <a:pt x="19298" y="17140"/>
                </a:cubicBezTo>
                <a:cubicBezTo>
                  <a:pt x="19298" y="17123"/>
                  <a:pt x="19298" y="17107"/>
                  <a:pt x="19298" y="17090"/>
                </a:cubicBezTo>
              </a:path>
              <a:path w="5334" h="844">
                <a:moveTo>
                  <a:pt x="19472" y="16669"/>
                </a:moveTo>
                <a:cubicBezTo>
                  <a:pt x="19213" y="16729"/>
                  <a:pt x="19199" y="16838"/>
                  <a:pt x="19199" y="17090"/>
                </a:cubicBezTo>
                <a:cubicBezTo>
                  <a:pt x="19399" y="17098"/>
                  <a:pt x="19722" y="17087"/>
                  <a:pt x="19621" y="16768"/>
                </a:cubicBezTo>
                <a:cubicBezTo>
                  <a:pt x="19564" y="16587"/>
                  <a:pt x="19460" y="16628"/>
                  <a:pt x="19447" y="16718"/>
                </a:cubicBezTo>
              </a:path>
              <a:path w="5334" h="844">
                <a:moveTo>
                  <a:pt x="19869" y="16917"/>
                </a:moveTo>
                <a:cubicBezTo>
                  <a:pt x="19887" y="17011"/>
                  <a:pt x="19874" y="17031"/>
                  <a:pt x="19918" y="17066"/>
                </a:cubicBezTo>
                <a:cubicBezTo>
                  <a:pt x="19854" y="16897"/>
                  <a:pt x="19912" y="16786"/>
                  <a:pt x="20067" y="16694"/>
                </a:cubicBezTo>
                <a:cubicBezTo>
                  <a:pt x="20181" y="16648"/>
                  <a:pt x="20212" y="16629"/>
                  <a:pt x="20290" y="16669"/>
                </a:cubicBezTo>
              </a:path>
              <a:path w="5334" h="844">
                <a:moveTo>
                  <a:pt x="20315" y="16793"/>
                </a:moveTo>
                <a:cubicBezTo>
                  <a:pt x="20405" y="16811"/>
                  <a:pt x="20491" y="16818"/>
                  <a:pt x="20588" y="16818"/>
                </a:cubicBezTo>
                <a:cubicBezTo>
                  <a:pt x="20596" y="16818"/>
                  <a:pt x="20605" y="16818"/>
                  <a:pt x="20613" y="16818"/>
                </a:cubicBezTo>
                <a:cubicBezTo>
                  <a:pt x="20593" y="16696"/>
                  <a:pt x="20543" y="16658"/>
                  <a:pt x="20414" y="16669"/>
                </a:cubicBezTo>
                <a:cubicBezTo>
                  <a:pt x="20202" y="16688"/>
                  <a:pt x="20225" y="16964"/>
                  <a:pt x="20414" y="17016"/>
                </a:cubicBezTo>
                <a:cubicBezTo>
                  <a:pt x="20627" y="17016"/>
                  <a:pt x="20721" y="17003"/>
                  <a:pt x="20861" y="16917"/>
                </a:cubicBezTo>
              </a:path>
              <a:path w="5334" h="844">
                <a:moveTo>
                  <a:pt x="21555" y="16297"/>
                </a:moveTo>
                <a:cubicBezTo>
                  <a:pt x="21555" y="16496"/>
                  <a:pt x="21555" y="16883"/>
                  <a:pt x="21555" y="16991"/>
                </a:cubicBezTo>
              </a:path>
              <a:path w="5334" h="844">
                <a:moveTo>
                  <a:pt x="21233" y="16694"/>
                </a:moveTo>
                <a:cubicBezTo>
                  <a:pt x="21573" y="16762"/>
                  <a:pt x="21898" y="16895"/>
                  <a:pt x="22051" y="16495"/>
                </a:cubicBezTo>
                <a:cubicBezTo>
                  <a:pt x="22071" y="16378"/>
                  <a:pt x="22094" y="16356"/>
                  <a:pt x="22051" y="16297"/>
                </a:cubicBezTo>
                <a:cubicBezTo>
                  <a:pt x="22051" y="16479"/>
                  <a:pt x="22051" y="16660"/>
                  <a:pt x="22051" y="16842"/>
                </a:cubicBezTo>
                <a:cubicBezTo>
                  <a:pt x="22051" y="16998"/>
                  <a:pt x="22054" y="16626"/>
                  <a:pt x="22200" y="16570"/>
                </a:cubicBezTo>
                <a:cubicBezTo>
                  <a:pt x="22381" y="16500"/>
                  <a:pt x="22419" y="16922"/>
                  <a:pt x="22399" y="17016"/>
                </a:cubicBezTo>
                <a:cubicBezTo>
                  <a:pt x="22391" y="17016"/>
                  <a:pt x="22382" y="17016"/>
                  <a:pt x="22374" y="17016"/>
                </a:cubicBezTo>
              </a:path>
              <a:path w="5334" h="844">
                <a:moveTo>
                  <a:pt x="22870" y="16694"/>
                </a:moveTo>
                <a:cubicBezTo>
                  <a:pt x="22754" y="16534"/>
                  <a:pt x="22652" y="16513"/>
                  <a:pt x="22498" y="16694"/>
                </a:cubicBezTo>
                <a:cubicBezTo>
                  <a:pt x="22429" y="16830"/>
                  <a:pt x="22396" y="16868"/>
                  <a:pt x="22498" y="16942"/>
                </a:cubicBezTo>
                <a:cubicBezTo>
                  <a:pt x="22745" y="16929"/>
                  <a:pt x="22762" y="16879"/>
                  <a:pt x="22870" y="16644"/>
                </a:cubicBezTo>
                <a:cubicBezTo>
                  <a:pt x="22891" y="16749"/>
                  <a:pt x="22941" y="16940"/>
                  <a:pt x="23093" y="16892"/>
                </a:cubicBezTo>
                <a:cubicBezTo>
                  <a:pt x="23349" y="16812"/>
                  <a:pt x="23149" y="16754"/>
                  <a:pt x="23267" y="16867"/>
                </a:cubicBezTo>
                <a:cubicBezTo>
                  <a:pt x="23267" y="16900"/>
                  <a:pt x="23267" y="16900"/>
                  <a:pt x="23267" y="16842"/>
                </a:cubicBezTo>
                <a:cubicBezTo>
                  <a:pt x="23292" y="16706"/>
                  <a:pt x="23422" y="16297"/>
                  <a:pt x="23664" y="16495"/>
                </a:cubicBezTo>
                <a:cubicBezTo>
                  <a:pt x="23707" y="16530"/>
                  <a:pt x="23931" y="17076"/>
                  <a:pt x="23812" y="17090"/>
                </a:cubicBezTo>
                <a:cubicBezTo>
                  <a:pt x="23787" y="17074"/>
                  <a:pt x="23763" y="17057"/>
                  <a:pt x="23738" y="170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19760" y="6348240"/>
            <a:ext cx="19080" cy="206640"/>
          </a:xfrm>
          <a:custGeom>
            <a:avLst/>
            <a:gdLst/>
            <a:ahLst/>
            <a:rect l="l" t="t" r="r" b="b"/>
            <a:pathLst>
              <a:path w="51" h="572">
                <a:moveTo>
                  <a:pt x="13717" y="17636"/>
                </a:moveTo>
                <a:cubicBezTo>
                  <a:pt x="13701" y="17827"/>
                  <a:pt x="13675" y="18015"/>
                  <a:pt x="13667" y="182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7240" y="6357960"/>
            <a:ext cx="1098720" cy="339840"/>
          </a:xfrm>
          <a:custGeom>
            <a:avLst/>
            <a:gdLst/>
            <a:ahLst/>
            <a:rect l="l" t="t" r="r" b="b"/>
            <a:pathLst>
              <a:path w="3052" h="944">
                <a:moveTo>
                  <a:pt x="15180" y="17983"/>
                </a:moveTo>
                <a:cubicBezTo>
                  <a:pt x="15069" y="17983"/>
                  <a:pt x="15026" y="17987"/>
                  <a:pt x="14957" y="18033"/>
                </a:cubicBezTo>
                <a:cubicBezTo>
                  <a:pt x="14917" y="18198"/>
                  <a:pt x="15212" y="18155"/>
                  <a:pt x="15379" y="18207"/>
                </a:cubicBezTo>
                <a:cubicBezTo>
                  <a:pt x="15566" y="18265"/>
                  <a:pt x="15037" y="18333"/>
                  <a:pt x="15007" y="18331"/>
                </a:cubicBezTo>
                <a:cubicBezTo>
                  <a:pt x="14815" y="18331"/>
                  <a:pt x="15347" y="18345"/>
                  <a:pt x="15528" y="18281"/>
                </a:cubicBezTo>
                <a:cubicBezTo>
                  <a:pt x="15701" y="18182"/>
                  <a:pt x="15759" y="18149"/>
                  <a:pt x="15701" y="17983"/>
                </a:cubicBezTo>
              </a:path>
              <a:path w="3052" h="944">
                <a:moveTo>
                  <a:pt x="15677" y="17909"/>
                </a:moveTo>
                <a:cubicBezTo>
                  <a:pt x="15698" y="18124"/>
                  <a:pt x="15700" y="18175"/>
                  <a:pt x="15726" y="18306"/>
                </a:cubicBezTo>
                <a:cubicBezTo>
                  <a:pt x="15762" y="18071"/>
                  <a:pt x="15802" y="18003"/>
                  <a:pt x="15999" y="17909"/>
                </a:cubicBezTo>
                <a:cubicBezTo>
                  <a:pt x="16052" y="18005"/>
                  <a:pt x="16164" y="18298"/>
                  <a:pt x="16197" y="18306"/>
                </a:cubicBezTo>
              </a:path>
              <a:path w="3052" h="944">
                <a:moveTo>
                  <a:pt x="16669" y="17959"/>
                </a:moveTo>
                <a:cubicBezTo>
                  <a:pt x="16531" y="17971"/>
                  <a:pt x="16251" y="18076"/>
                  <a:pt x="16371" y="18281"/>
                </a:cubicBezTo>
                <a:cubicBezTo>
                  <a:pt x="16521" y="18537"/>
                  <a:pt x="16692" y="18144"/>
                  <a:pt x="16718" y="18058"/>
                </a:cubicBezTo>
                <a:cubicBezTo>
                  <a:pt x="16718" y="18187"/>
                  <a:pt x="16735" y="18367"/>
                  <a:pt x="16917" y="18355"/>
                </a:cubicBezTo>
                <a:cubicBezTo>
                  <a:pt x="17018" y="18349"/>
                  <a:pt x="17099" y="18106"/>
                  <a:pt x="17115" y="18132"/>
                </a:cubicBezTo>
                <a:cubicBezTo>
                  <a:pt x="17141" y="18313"/>
                  <a:pt x="17149" y="18379"/>
                  <a:pt x="17140" y="18504"/>
                </a:cubicBezTo>
                <a:cubicBezTo>
                  <a:pt x="17140" y="18579"/>
                  <a:pt x="17140" y="18637"/>
                  <a:pt x="17140" y="18579"/>
                </a:cubicBezTo>
                <a:cubicBezTo>
                  <a:pt x="17059" y="18397"/>
                  <a:pt x="17074" y="18158"/>
                  <a:pt x="17239" y="18008"/>
                </a:cubicBezTo>
                <a:cubicBezTo>
                  <a:pt x="17289" y="17992"/>
                  <a:pt x="17338" y="17975"/>
                  <a:pt x="17388" y="17959"/>
                </a:cubicBezTo>
                <a:cubicBezTo>
                  <a:pt x="17500" y="18089"/>
                  <a:pt x="17553" y="18311"/>
                  <a:pt x="17289" y="18355"/>
                </a:cubicBezTo>
                <a:cubicBezTo>
                  <a:pt x="17198" y="18337"/>
                  <a:pt x="17191" y="18329"/>
                  <a:pt x="17140" y="18331"/>
                </a:cubicBezTo>
              </a:path>
              <a:path w="3052" h="944">
                <a:moveTo>
                  <a:pt x="17636" y="18157"/>
                </a:moveTo>
                <a:cubicBezTo>
                  <a:pt x="17737" y="18151"/>
                  <a:pt x="17832" y="18132"/>
                  <a:pt x="17934" y="18132"/>
                </a:cubicBezTo>
                <a:cubicBezTo>
                  <a:pt x="17942" y="18132"/>
                  <a:pt x="17951" y="18132"/>
                  <a:pt x="17959" y="18132"/>
                </a:cubicBezTo>
                <a:cubicBezTo>
                  <a:pt x="17946" y="18041"/>
                  <a:pt x="17871" y="17863"/>
                  <a:pt x="17735" y="17909"/>
                </a:cubicBezTo>
                <a:cubicBezTo>
                  <a:pt x="17474" y="17998"/>
                  <a:pt x="17581" y="18271"/>
                  <a:pt x="17810" y="18281"/>
                </a:cubicBezTo>
                <a:cubicBezTo>
                  <a:pt x="17918" y="18259"/>
                  <a:pt x="17954" y="18266"/>
                  <a:pt x="17959" y="18182"/>
                </a:cubicBezTo>
              </a:path>
              <a:path w="3052" h="944">
                <a:moveTo>
                  <a:pt x="15602" y="17686"/>
                </a:moveTo>
                <a:cubicBezTo>
                  <a:pt x="15602" y="17678"/>
                  <a:pt x="15602" y="17669"/>
                  <a:pt x="15602" y="17661"/>
                </a:cubicBezTo>
                <a:cubicBezTo>
                  <a:pt x="15630" y="17670"/>
                  <a:pt x="15624" y="18005"/>
                  <a:pt x="15627" y="18033"/>
                </a:cubicBezTo>
                <a:cubicBezTo>
                  <a:pt x="15647" y="18134"/>
                  <a:pt x="15634" y="18164"/>
                  <a:pt x="15701" y="181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omposite fig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124080"/>
            <a:ext cx="914400" cy="9144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2666880"/>
            <a:ext cx="1447920" cy="2133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266688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733920"/>
            <a:ext cx="20574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048120"/>
            <a:ext cx="6858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048120"/>
            <a:ext cx="6858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116800">
            <a:off x="3276360" y="2819160"/>
            <a:ext cx="53316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8116800">
            <a:off x="4647960" y="2819160"/>
            <a:ext cx="53316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267080"/>
            <a:ext cx="685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62200"/>
            <a:ext cx="768240" cy="482760"/>
          </a:xfrm>
          <a:custGeom>
            <a:avLst/>
            <a:gdLst/>
            <a:ahLst/>
            <a:rect l="l" t="t" r="r" b="b"/>
            <a:pathLst>
              <a:path w="2135" h="1341">
                <a:moveTo>
                  <a:pt x="3448" y="10319"/>
                </a:moveTo>
                <a:cubicBezTo>
                  <a:pt x="3427" y="10330"/>
                  <a:pt x="3600" y="10532"/>
                  <a:pt x="3646" y="10592"/>
                </a:cubicBezTo>
                <a:cubicBezTo>
                  <a:pt x="3676" y="10621"/>
                  <a:pt x="3678" y="10626"/>
                  <a:pt x="3621" y="10592"/>
                </a:cubicBezTo>
              </a:path>
              <a:path w="2135" h="1341">
                <a:moveTo>
                  <a:pt x="3101" y="10492"/>
                </a:moveTo>
                <a:cubicBezTo>
                  <a:pt x="3310" y="10283"/>
                  <a:pt x="3515" y="10081"/>
                  <a:pt x="3746" y="9897"/>
                </a:cubicBezTo>
              </a:path>
              <a:path w="2135" h="1341">
                <a:moveTo>
                  <a:pt x="2778" y="11237"/>
                </a:moveTo>
                <a:cubicBezTo>
                  <a:pt x="2860" y="11216"/>
                  <a:pt x="2898" y="11218"/>
                  <a:pt x="2977" y="11187"/>
                </a:cubicBezTo>
                <a:cubicBezTo>
                  <a:pt x="3093" y="11141"/>
                  <a:pt x="3198" y="11118"/>
                  <a:pt x="3324" y="11112"/>
                </a:cubicBezTo>
                <a:cubicBezTo>
                  <a:pt x="3401" y="11108"/>
                  <a:pt x="3471" y="11091"/>
                  <a:pt x="3547" y="11088"/>
                </a:cubicBezTo>
                <a:cubicBezTo>
                  <a:pt x="3631" y="11085"/>
                  <a:pt x="3688" y="11049"/>
                  <a:pt x="3770" y="11038"/>
                </a:cubicBezTo>
                <a:cubicBezTo>
                  <a:pt x="3854" y="11026"/>
                  <a:pt x="3933" y="11016"/>
                  <a:pt x="4018" y="11013"/>
                </a:cubicBezTo>
                <a:cubicBezTo>
                  <a:pt x="4171" y="11007"/>
                  <a:pt x="4317" y="11024"/>
                  <a:pt x="4465" y="11038"/>
                </a:cubicBezTo>
                <a:cubicBezTo>
                  <a:pt x="4554" y="11047"/>
                  <a:pt x="4628" y="11029"/>
                  <a:pt x="4713" y="11063"/>
                </a:cubicBezTo>
                <a:cubicBezTo>
                  <a:pt x="4765" y="11084"/>
                  <a:pt x="4815" y="11070"/>
                  <a:pt x="4862" y="11088"/>
                </a:cubicBezTo>
                <a:cubicBezTo>
                  <a:pt x="4870" y="11096"/>
                  <a:pt x="4879" y="11104"/>
                  <a:pt x="4887" y="111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419720"/>
            <a:ext cx="366840" cy="28728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3448" y="12452"/>
                </a:moveTo>
                <a:cubicBezTo>
                  <a:pt x="3425" y="12542"/>
                  <a:pt x="3572" y="12857"/>
                  <a:pt x="3621" y="12998"/>
                </a:cubicBezTo>
                <a:cubicBezTo>
                  <a:pt x="3629" y="13023"/>
                  <a:pt x="3638" y="13047"/>
                  <a:pt x="3646" y="13072"/>
                </a:cubicBezTo>
              </a:path>
              <a:path w="1018" h="795">
                <a:moveTo>
                  <a:pt x="3175" y="12551"/>
                </a:moveTo>
                <a:cubicBezTo>
                  <a:pt x="3250" y="12476"/>
                  <a:pt x="3567" y="12080"/>
                  <a:pt x="3671" y="12353"/>
                </a:cubicBezTo>
                <a:cubicBezTo>
                  <a:pt x="3700" y="12430"/>
                  <a:pt x="3662" y="12689"/>
                  <a:pt x="3572" y="12725"/>
                </a:cubicBezTo>
                <a:cubicBezTo>
                  <a:pt x="3572" y="12717"/>
                  <a:pt x="3572" y="12708"/>
                  <a:pt x="3572" y="12700"/>
                </a:cubicBezTo>
                <a:cubicBezTo>
                  <a:pt x="3678" y="12563"/>
                  <a:pt x="3819" y="12509"/>
                  <a:pt x="3969" y="12650"/>
                </a:cubicBezTo>
                <a:cubicBezTo>
                  <a:pt x="4010" y="12689"/>
                  <a:pt x="4017" y="12793"/>
                  <a:pt x="4068" y="12799"/>
                </a:cubicBezTo>
                <a:cubicBezTo>
                  <a:pt x="4080" y="12800"/>
                  <a:pt x="4186" y="12817"/>
                  <a:pt x="4192" y="12824"/>
                </a:cubicBezTo>
                <a:cubicBezTo>
                  <a:pt x="4192" y="12832"/>
                  <a:pt x="4192" y="12841"/>
                  <a:pt x="4192" y="128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94080" y="2857680"/>
            <a:ext cx="214200" cy="187200"/>
          </a:xfrm>
          <a:custGeom>
            <a:avLst/>
            <a:gdLst/>
            <a:ahLst/>
            <a:rect l="l" t="t" r="r" b="b"/>
            <a:pathLst>
              <a:path w="596" h="521">
                <a:moveTo>
                  <a:pt x="9674" y="7962"/>
                </a:moveTo>
                <a:cubicBezTo>
                  <a:pt x="9778" y="8014"/>
                  <a:pt x="9773" y="8223"/>
                  <a:pt x="9798" y="8334"/>
                </a:cubicBezTo>
                <a:cubicBezTo>
                  <a:pt x="9809" y="8383"/>
                  <a:pt x="9862" y="8513"/>
                  <a:pt x="9798" y="8409"/>
                </a:cubicBezTo>
              </a:path>
              <a:path w="596" h="521">
                <a:moveTo>
                  <a:pt x="9426" y="8186"/>
                </a:moveTo>
                <a:cubicBezTo>
                  <a:pt x="9604" y="8126"/>
                  <a:pt x="9766" y="8025"/>
                  <a:pt x="9947" y="7962"/>
                </a:cubicBezTo>
                <a:cubicBezTo>
                  <a:pt x="9972" y="7954"/>
                  <a:pt x="9996" y="7946"/>
                  <a:pt x="10021" y="79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6840" y="2830680"/>
            <a:ext cx="2062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13593" y="8062"/>
                </a:moveTo>
                <a:cubicBezTo>
                  <a:pt x="13593" y="8045"/>
                  <a:pt x="13593" y="8029"/>
                  <a:pt x="13593" y="8012"/>
                </a:cubicBezTo>
                <a:cubicBezTo>
                  <a:pt x="13593" y="8131"/>
                  <a:pt x="13606" y="8250"/>
                  <a:pt x="13593" y="8359"/>
                </a:cubicBezTo>
                <a:cubicBezTo>
                  <a:pt x="13593" y="8384"/>
                  <a:pt x="13593" y="8392"/>
                  <a:pt x="13593" y="8359"/>
                </a:cubicBezTo>
              </a:path>
              <a:path w="571" h="522">
                <a:moveTo>
                  <a:pt x="13271" y="8062"/>
                </a:moveTo>
                <a:cubicBezTo>
                  <a:pt x="13410" y="7957"/>
                  <a:pt x="13565" y="7889"/>
                  <a:pt x="13742" y="7863"/>
                </a:cubicBezTo>
                <a:cubicBezTo>
                  <a:pt x="13800" y="7863"/>
                  <a:pt x="13808" y="7863"/>
                  <a:pt x="13841" y="78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40200" y="3232080"/>
            <a:ext cx="187560" cy="250920"/>
          </a:xfrm>
          <a:custGeom>
            <a:avLst/>
            <a:gdLst/>
            <a:ahLst/>
            <a:rect l="l" t="t" r="r" b="b"/>
            <a:pathLst>
              <a:path w="522" h="696">
                <a:moveTo>
                  <a:pt x="13469" y="9302"/>
                </a:moveTo>
                <a:cubicBezTo>
                  <a:pt x="13501" y="9426"/>
                  <a:pt x="13528" y="9554"/>
                  <a:pt x="13568" y="9674"/>
                </a:cubicBezTo>
                <a:cubicBezTo>
                  <a:pt x="13432" y="9511"/>
                  <a:pt x="13421" y="9328"/>
                  <a:pt x="13494" y="9128"/>
                </a:cubicBezTo>
                <a:cubicBezTo>
                  <a:pt x="13583" y="8994"/>
                  <a:pt x="13601" y="8934"/>
                  <a:pt x="13692" y="9054"/>
                </a:cubicBezTo>
                <a:cubicBezTo>
                  <a:pt x="13660" y="9212"/>
                  <a:pt x="13633" y="9322"/>
                  <a:pt x="13469" y="9376"/>
                </a:cubicBezTo>
                <a:cubicBezTo>
                  <a:pt x="13600" y="9402"/>
                  <a:pt x="13695" y="9497"/>
                  <a:pt x="13841" y="9500"/>
                </a:cubicBezTo>
                <a:cubicBezTo>
                  <a:pt x="13915" y="9481"/>
                  <a:pt x="13922" y="9473"/>
                  <a:pt x="13965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78080" y="3697200"/>
            <a:ext cx="2117880" cy="608040"/>
          </a:xfrm>
          <a:custGeom>
            <a:avLst/>
            <a:gdLst/>
            <a:ahLst/>
            <a:rect l="l" t="t" r="r" b="b"/>
            <a:pathLst>
              <a:path w="5880" h="1688">
                <a:moveTo>
                  <a:pt x="8830" y="10294"/>
                </a:moveTo>
                <a:cubicBezTo>
                  <a:pt x="8857" y="10291"/>
                  <a:pt x="8955" y="10288"/>
                  <a:pt x="9029" y="10294"/>
                </a:cubicBezTo>
                <a:cubicBezTo>
                  <a:pt x="9172" y="10306"/>
                  <a:pt x="9312" y="10312"/>
                  <a:pt x="9451" y="10294"/>
                </a:cubicBezTo>
                <a:cubicBezTo>
                  <a:pt x="9576" y="10278"/>
                  <a:pt x="9678" y="10290"/>
                  <a:pt x="9798" y="10294"/>
                </a:cubicBezTo>
                <a:cubicBezTo>
                  <a:pt x="9878" y="10297"/>
                  <a:pt x="9972" y="10323"/>
                  <a:pt x="10046" y="10319"/>
                </a:cubicBezTo>
                <a:cubicBezTo>
                  <a:pt x="10113" y="10315"/>
                  <a:pt x="10174" y="10296"/>
                  <a:pt x="10244" y="10294"/>
                </a:cubicBezTo>
                <a:cubicBezTo>
                  <a:pt x="10357" y="10291"/>
                  <a:pt x="10460" y="10313"/>
                  <a:pt x="10567" y="10319"/>
                </a:cubicBezTo>
                <a:cubicBezTo>
                  <a:pt x="10633" y="10323"/>
                  <a:pt x="10713" y="10339"/>
                  <a:pt x="10765" y="10344"/>
                </a:cubicBezTo>
                <a:cubicBezTo>
                  <a:pt x="11132" y="10380"/>
                  <a:pt x="11523" y="10279"/>
                  <a:pt x="11881" y="10319"/>
                </a:cubicBezTo>
                <a:cubicBezTo>
                  <a:pt x="12022" y="10335"/>
                  <a:pt x="12158" y="10340"/>
                  <a:pt x="12303" y="10344"/>
                </a:cubicBezTo>
                <a:cubicBezTo>
                  <a:pt x="12440" y="10348"/>
                  <a:pt x="12565" y="10322"/>
                  <a:pt x="12700" y="10319"/>
                </a:cubicBezTo>
                <a:cubicBezTo>
                  <a:pt x="12852" y="10315"/>
                  <a:pt x="12997" y="10316"/>
                  <a:pt x="13146" y="10344"/>
                </a:cubicBezTo>
                <a:cubicBezTo>
                  <a:pt x="13320" y="10376"/>
                  <a:pt x="13491" y="10368"/>
                  <a:pt x="13667" y="10368"/>
                </a:cubicBezTo>
                <a:cubicBezTo>
                  <a:pt x="13819" y="10368"/>
                  <a:pt x="13963" y="10389"/>
                  <a:pt x="14114" y="10393"/>
                </a:cubicBezTo>
                <a:cubicBezTo>
                  <a:pt x="14219" y="10396"/>
                  <a:pt x="14347" y="10411"/>
                  <a:pt x="14436" y="10418"/>
                </a:cubicBezTo>
                <a:cubicBezTo>
                  <a:pt x="14483" y="10422"/>
                  <a:pt x="14552" y="10394"/>
                  <a:pt x="14560" y="10393"/>
                </a:cubicBezTo>
                <a:cubicBezTo>
                  <a:pt x="14568" y="10393"/>
                  <a:pt x="14577" y="10393"/>
                  <a:pt x="14585" y="10393"/>
                </a:cubicBezTo>
              </a:path>
              <a:path w="5880" h="1688">
                <a:moveTo>
                  <a:pt x="8905" y="11881"/>
                </a:moveTo>
                <a:cubicBezTo>
                  <a:pt x="9041" y="11881"/>
                  <a:pt x="9169" y="11867"/>
                  <a:pt x="9302" y="11857"/>
                </a:cubicBezTo>
                <a:cubicBezTo>
                  <a:pt x="9533" y="11839"/>
                  <a:pt x="9771" y="11868"/>
                  <a:pt x="9996" y="11881"/>
                </a:cubicBezTo>
                <a:cubicBezTo>
                  <a:pt x="10106" y="11887"/>
                  <a:pt x="10210" y="11903"/>
                  <a:pt x="10319" y="11906"/>
                </a:cubicBezTo>
                <a:cubicBezTo>
                  <a:pt x="10423" y="11909"/>
                  <a:pt x="10515" y="11924"/>
                  <a:pt x="10616" y="11931"/>
                </a:cubicBezTo>
                <a:cubicBezTo>
                  <a:pt x="10867" y="11949"/>
                  <a:pt x="11165" y="11983"/>
                  <a:pt x="11410" y="11956"/>
                </a:cubicBezTo>
                <a:cubicBezTo>
                  <a:pt x="11502" y="11946"/>
                  <a:pt x="11587" y="11933"/>
                  <a:pt x="11683" y="11931"/>
                </a:cubicBezTo>
                <a:cubicBezTo>
                  <a:pt x="11860" y="11927"/>
                  <a:pt x="12029" y="11952"/>
                  <a:pt x="12204" y="11956"/>
                </a:cubicBezTo>
                <a:cubicBezTo>
                  <a:pt x="12487" y="11962"/>
                  <a:pt x="12768" y="11952"/>
                  <a:pt x="13047" y="11931"/>
                </a:cubicBezTo>
                <a:cubicBezTo>
                  <a:pt x="13244" y="11916"/>
                  <a:pt x="13446" y="11918"/>
                  <a:pt x="13643" y="11906"/>
                </a:cubicBezTo>
                <a:cubicBezTo>
                  <a:pt x="13793" y="11897"/>
                  <a:pt x="13941" y="11902"/>
                  <a:pt x="14089" y="11881"/>
                </a:cubicBezTo>
                <a:cubicBezTo>
                  <a:pt x="14183" y="11868"/>
                  <a:pt x="14264" y="11859"/>
                  <a:pt x="14362" y="11857"/>
                </a:cubicBezTo>
                <a:cubicBezTo>
                  <a:pt x="14486" y="11855"/>
                  <a:pt x="14560" y="11857"/>
                  <a:pt x="14684" y="118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232080"/>
            <a:ext cx="231840" cy="23328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9525" y="9227"/>
                </a:moveTo>
                <a:cubicBezTo>
                  <a:pt x="9544" y="9291"/>
                  <a:pt x="9668" y="9606"/>
                  <a:pt x="9649" y="9624"/>
                </a:cubicBezTo>
                <a:cubicBezTo>
                  <a:pt x="9583" y="9464"/>
                  <a:pt x="9379" y="9095"/>
                  <a:pt x="9624" y="8979"/>
                </a:cubicBezTo>
                <a:cubicBezTo>
                  <a:pt x="9657" y="8987"/>
                  <a:pt x="9690" y="8996"/>
                  <a:pt x="9723" y="9004"/>
                </a:cubicBezTo>
                <a:cubicBezTo>
                  <a:pt x="9733" y="9173"/>
                  <a:pt x="9728" y="9248"/>
                  <a:pt x="9550" y="9302"/>
                </a:cubicBezTo>
                <a:cubicBezTo>
                  <a:pt x="9664" y="9325"/>
                  <a:pt x="9760" y="9417"/>
                  <a:pt x="9872" y="9451"/>
                </a:cubicBezTo>
                <a:cubicBezTo>
                  <a:pt x="9995" y="9489"/>
                  <a:pt x="10051" y="9465"/>
                  <a:pt x="10170" y="94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05160" y="3857760"/>
            <a:ext cx="277920" cy="295200"/>
          </a:xfrm>
          <a:custGeom>
            <a:avLst/>
            <a:gdLst/>
            <a:ahLst/>
            <a:rect l="l" t="t" r="r" b="b"/>
            <a:pathLst>
              <a:path w="770" h="819">
                <a:moveTo>
                  <a:pt x="11683" y="10939"/>
                </a:moveTo>
                <a:cubicBezTo>
                  <a:pt x="11750" y="11140"/>
                  <a:pt x="11757" y="11320"/>
                  <a:pt x="11757" y="11534"/>
                </a:cubicBezTo>
                <a:cubicBezTo>
                  <a:pt x="11737" y="11283"/>
                  <a:pt x="11602" y="10945"/>
                  <a:pt x="11807" y="10740"/>
                </a:cubicBezTo>
                <a:cubicBezTo>
                  <a:pt x="11857" y="10732"/>
                  <a:pt x="11906" y="10724"/>
                  <a:pt x="11956" y="10716"/>
                </a:cubicBezTo>
                <a:cubicBezTo>
                  <a:pt x="12072" y="10927"/>
                  <a:pt x="12068" y="11005"/>
                  <a:pt x="11807" y="11088"/>
                </a:cubicBezTo>
                <a:cubicBezTo>
                  <a:pt x="11799" y="11088"/>
                  <a:pt x="11790" y="11088"/>
                  <a:pt x="11782" y="11088"/>
                </a:cubicBezTo>
                <a:cubicBezTo>
                  <a:pt x="11946" y="11215"/>
                  <a:pt x="12027" y="11348"/>
                  <a:pt x="12254" y="11286"/>
                </a:cubicBezTo>
                <a:cubicBezTo>
                  <a:pt x="12377" y="11233"/>
                  <a:pt x="12380" y="11209"/>
                  <a:pt x="12452" y="112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0280" y="4483080"/>
            <a:ext cx="277920" cy="187200"/>
          </a:xfrm>
          <a:custGeom>
            <a:avLst/>
            <a:gdLst/>
            <a:ahLst/>
            <a:rect l="l" t="t" r="r" b="b"/>
            <a:pathLst>
              <a:path w="770" h="522">
                <a:moveTo>
                  <a:pt x="9723" y="12774"/>
                </a:moveTo>
                <a:cubicBezTo>
                  <a:pt x="9762" y="12889"/>
                  <a:pt x="9778" y="12903"/>
                  <a:pt x="9773" y="12973"/>
                </a:cubicBezTo>
                <a:cubicBezTo>
                  <a:pt x="9773" y="12770"/>
                  <a:pt x="9673" y="12701"/>
                  <a:pt x="9798" y="12502"/>
                </a:cubicBezTo>
                <a:cubicBezTo>
                  <a:pt x="9907" y="12328"/>
                  <a:pt x="10099" y="12624"/>
                  <a:pt x="9897" y="12750"/>
                </a:cubicBezTo>
                <a:cubicBezTo>
                  <a:pt x="9856" y="12758"/>
                  <a:pt x="9814" y="12766"/>
                  <a:pt x="9773" y="12774"/>
                </a:cubicBezTo>
                <a:cubicBezTo>
                  <a:pt x="9765" y="12774"/>
                  <a:pt x="9756" y="12774"/>
                  <a:pt x="9748" y="12774"/>
                </a:cubicBezTo>
                <a:cubicBezTo>
                  <a:pt x="9866" y="12794"/>
                  <a:pt x="9972" y="12874"/>
                  <a:pt x="10096" y="12874"/>
                </a:cubicBezTo>
                <a:cubicBezTo>
                  <a:pt x="10278" y="12874"/>
                  <a:pt x="10346" y="12837"/>
                  <a:pt x="10492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3840" y="4491000"/>
            <a:ext cx="250920" cy="233280"/>
          </a:xfrm>
          <a:custGeom>
            <a:avLst/>
            <a:gdLst/>
            <a:ahLst/>
            <a:rect l="l" t="t" r="r" b="b"/>
            <a:pathLst>
              <a:path w="695" h="646">
                <a:moveTo>
                  <a:pt x="13345" y="12700"/>
                </a:moveTo>
                <a:cubicBezTo>
                  <a:pt x="13380" y="12839"/>
                  <a:pt x="13432" y="12980"/>
                  <a:pt x="13469" y="13122"/>
                </a:cubicBezTo>
                <a:cubicBezTo>
                  <a:pt x="13403" y="12914"/>
                  <a:pt x="13295" y="12587"/>
                  <a:pt x="13568" y="12477"/>
                </a:cubicBezTo>
                <a:cubicBezTo>
                  <a:pt x="13593" y="12485"/>
                  <a:pt x="13618" y="12494"/>
                  <a:pt x="13643" y="12502"/>
                </a:cubicBezTo>
                <a:cubicBezTo>
                  <a:pt x="13614" y="12647"/>
                  <a:pt x="13578" y="12675"/>
                  <a:pt x="13444" y="12750"/>
                </a:cubicBezTo>
                <a:cubicBezTo>
                  <a:pt x="13579" y="12766"/>
                  <a:pt x="13704" y="12824"/>
                  <a:pt x="13841" y="12849"/>
                </a:cubicBezTo>
                <a:cubicBezTo>
                  <a:pt x="13940" y="12874"/>
                  <a:pt x="13973" y="12882"/>
                  <a:pt x="14039" y="128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3517920"/>
            <a:ext cx="376200" cy="384120"/>
          </a:xfrm>
          <a:custGeom>
            <a:avLst/>
            <a:gdLst/>
            <a:ahLst/>
            <a:rect l="l" t="t" r="r" b="b"/>
            <a:pathLst>
              <a:path w="1043" h="1068">
                <a:moveTo>
                  <a:pt x="18901" y="10145"/>
                </a:moveTo>
                <a:cubicBezTo>
                  <a:pt x="19021" y="10376"/>
                  <a:pt x="19136" y="10605"/>
                  <a:pt x="19248" y="10840"/>
                </a:cubicBezTo>
                <a:cubicBezTo>
                  <a:pt x="19014" y="10585"/>
                  <a:pt x="18842" y="10211"/>
                  <a:pt x="19050" y="9872"/>
                </a:cubicBezTo>
                <a:cubicBezTo>
                  <a:pt x="19108" y="9839"/>
                  <a:pt x="19166" y="9806"/>
                  <a:pt x="19224" y="9773"/>
                </a:cubicBezTo>
                <a:cubicBezTo>
                  <a:pt x="19292" y="10011"/>
                  <a:pt x="19222" y="10119"/>
                  <a:pt x="19050" y="10319"/>
                </a:cubicBezTo>
                <a:cubicBezTo>
                  <a:pt x="19296" y="10357"/>
                  <a:pt x="19517" y="10392"/>
                  <a:pt x="19769" y="10344"/>
                </a:cubicBezTo>
                <a:cubicBezTo>
                  <a:pt x="19876" y="10308"/>
                  <a:pt x="19882" y="10291"/>
                  <a:pt x="19943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4960" y="2616120"/>
            <a:ext cx="822240" cy="1044720"/>
          </a:xfrm>
          <a:custGeom>
            <a:avLst/>
            <a:gdLst/>
            <a:ahLst/>
            <a:rect l="l" t="t" r="r" b="b"/>
            <a:pathLst>
              <a:path w="2283" h="2903">
                <a:moveTo>
                  <a:pt x="22498" y="8830"/>
                </a:moveTo>
                <a:cubicBezTo>
                  <a:pt x="22510" y="9001"/>
                  <a:pt x="22518" y="9137"/>
                  <a:pt x="22523" y="9302"/>
                </a:cubicBezTo>
                <a:cubicBezTo>
                  <a:pt x="22340" y="9028"/>
                  <a:pt x="22280" y="8682"/>
                  <a:pt x="22423" y="8359"/>
                </a:cubicBezTo>
                <a:cubicBezTo>
                  <a:pt x="22580" y="8158"/>
                  <a:pt x="22610" y="8084"/>
                  <a:pt x="22796" y="8136"/>
                </a:cubicBezTo>
                <a:cubicBezTo>
                  <a:pt x="22825" y="8435"/>
                  <a:pt x="22796" y="8566"/>
                  <a:pt x="22547" y="8756"/>
                </a:cubicBezTo>
                <a:cubicBezTo>
                  <a:pt x="22693" y="8928"/>
                  <a:pt x="22809" y="9012"/>
                  <a:pt x="23044" y="9004"/>
                </a:cubicBezTo>
                <a:cubicBezTo>
                  <a:pt x="23178" y="8985"/>
                  <a:pt x="23200" y="8994"/>
                  <a:pt x="23267" y="8954"/>
                </a:cubicBezTo>
              </a:path>
              <a:path w="2283" h="2903">
                <a:moveTo>
                  <a:pt x="21134" y="7317"/>
                </a:moveTo>
                <a:cubicBezTo>
                  <a:pt x="21158" y="7293"/>
                  <a:pt x="21167" y="7284"/>
                  <a:pt x="21183" y="7268"/>
                </a:cubicBezTo>
                <a:cubicBezTo>
                  <a:pt x="21174" y="7407"/>
                  <a:pt x="21150" y="7529"/>
                  <a:pt x="21109" y="7665"/>
                </a:cubicBezTo>
                <a:cubicBezTo>
                  <a:pt x="21060" y="7830"/>
                  <a:pt x="21021" y="7989"/>
                  <a:pt x="21010" y="8161"/>
                </a:cubicBezTo>
                <a:cubicBezTo>
                  <a:pt x="20992" y="8426"/>
                  <a:pt x="21011" y="8691"/>
                  <a:pt x="20985" y="8954"/>
                </a:cubicBezTo>
                <a:cubicBezTo>
                  <a:pt x="20976" y="9046"/>
                  <a:pt x="20999" y="9184"/>
                  <a:pt x="21010" y="9277"/>
                </a:cubicBezTo>
                <a:cubicBezTo>
                  <a:pt x="21027" y="9414"/>
                  <a:pt x="21041" y="9542"/>
                  <a:pt x="21084" y="9674"/>
                </a:cubicBezTo>
                <a:cubicBezTo>
                  <a:pt x="21108" y="9749"/>
                  <a:pt x="21135" y="9827"/>
                  <a:pt x="21158" y="9897"/>
                </a:cubicBezTo>
                <a:cubicBezTo>
                  <a:pt x="21181" y="9966"/>
                  <a:pt x="21183" y="10021"/>
                  <a:pt x="21183" y="10096"/>
                </a:cubicBezTo>
                <a:cubicBezTo>
                  <a:pt x="21183" y="10121"/>
                  <a:pt x="21183" y="10145"/>
                  <a:pt x="21183" y="101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8800" y="3963960"/>
            <a:ext cx="876240" cy="974880"/>
          </a:xfrm>
          <a:custGeom>
            <a:avLst/>
            <a:gdLst/>
            <a:ahLst/>
            <a:rect l="l" t="t" r="r" b="b"/>
            <a:pathLst>
              <a:path w="2432" h="2705">
                <a:moveTo>
                  <a:pt x="2580" y="13717"/>
                </a:moveTo>
                <a:cubicBezTo>
                  <a:pt x="2580" y="13671"/>
                  <a:pt x="2592" y="13645"/>
                  <a:pt x="2629" y="13618"/>
                </a:cubicBezTo>
              </a:path>
              <a:path w="2432" h="2705">
                <a:moveTo>
                  <a:pt x="3497" y="12477"/>
                </a:moveTo>
                <a:cubicBezTo>
                  <a:pt x="3505" y="12477"/>
                  <a:pt x="3514" y="12477"/>
                  <a:pt x="3522" y="12477"/>
                </a:cubicBezTo>
              </a:path>
              <a:path w="2432" h="2705">
                <a:moveTo>
                  <a:pt x="4837" y="11112"/>
                </a:moveTo>
                <a:lnTo>
                  <a:pt x="4837" y="11112"/>
                </a:lnTo>
              </a:path>
              <a:path w="2432" h="2705">
                <a:moveTo>
                  <a:pt x="4911" y="11063"/>
                </a:moveTo>
                <a:cubicBezTo>
                  <a:pt x="4919" y="11055"/>
                  <a:pt x="4928" y="11046"/>
                  <a:pt x="4936" y="11038"/>
                </a:cubicBezTo>
              </a:path>
              <a:path w="2432" h="2705">
                <a:moveTo>
                  <a:pt x="5011" y="11013"/>
                </a:moveTo>
                <a:lnTo>
                  <a:pt x="5011" y="11013"/>
                </a:lnTo>
                <a:lnTo>
                  <a:pt x="5011" y="11013"/>
                </a:lnTo>
              </a:path>
              <a:path w="2432" h="2705">
                <a:moveTo>
                  <a:pt x="5011" y="11013"/>
                </a:moveTo>
                <a:lnTo>
                  <a:pt x="5011" y="11013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area of a composite figure?  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Find the area of the squa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 Find the area of the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 Add the area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8006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886200"/>
            <a:ext cx="914400" cy="9144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7000" y="571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296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70880" y="3394080"/>
            <a:ext cx="125280" cy="17280"/>
          </a:xfrm>
          <a:custGeom>
            <a:avLst/>
            <a:gdLst/>
            <a:ahLst/>
            <a:rect l="l" t="t" r="r" b="b"/>
            <a:pathLst>
              <a:path w="348" h="50">
                <a:moveTo>
                  <a:pt x="21307" y="9475"/>
                </a:moveTo>
                <a:cubicBezTo>
                  <a:pt x="21423" y="9456"/>
                  <a:pt x="21538" y="9436"/>
                  <a:pt x="21654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47000" y="3071880"/>
            <a:ext cx="285840" cy="366480"/>
          </a:xfrm>
          <a:custGeom>
            <a:avLst/>
            <a:gdLst/>
            <a:ahLst/>
            <a:rect l="l" t="t" r="r" b="b"/>
            <a:pathLst>
              <a:path w="795" h="1018">
                <a:moveTo>
                  <a:pt x="22076" y="8533"/>
                </a:moveTo>
                <a:cubicBezTo>
                  <a:pt x="22104" y="8799"/>
                  <a:pt x="22144" y="9057"/>
                  <a:pt x="22151" y="9327"/>
                </a:cubicBezTo>
                <a:cubicBezTo>
                  <a:pt x="22151" y="9335"/>
                  <a:pt x="22151" y="9343"/>
                  <a:pt x="22151" y="9351"/>
                </a:cubicBezTo>
                <a:cubicBezTo>
                  <a:pt x="22172" y="9256"/>
                  <a:pt x="22263" y="8772"/>
                  <a:pt x="22473" y="9029"/>
                </a:cubicBezTo>
                <a:cubicBezTo>
                  <a:pt x="22613" y="9200"/>
                  <a:pt x="22367" y="9498"/>
                  <a:pt x="22175" y="9451"/>
                </a:cubicBezTo>
                <a:cubicBezTo>
                  <a:pt x="22122" y="9370"/>
                  <a:pt x="22109" y="9339"/>
                  <a:pt x="22175" y="9277"/>
                </a:cubicBezTo>
              </a:path>
              <a:path w="795" h="1018">
                <a:moveTo>
                  <a:pt x="22523" y="8607"/>
                </a:moveTo>
                <a:cubicBezTo>
                  <a:pt x="22592" y="8867"/>
                  <a:pt x="22639" y="9073"/>
                  <a:pt x="22647" y="9351"/>
                </a:cubicBezTo>
                <a:cubicBezTo>
                  <a:pt x="22553" y="9508"/>
                  <a:pt x="22688" y="9091"/>
                  <a:pt x="22696" y="9079"/>
                </a:cubicBezTo>
                <a:cubicBezTo>
                  <a:pt x="22721" y="9062"/>
                  <a:pt x="22746" y="9046"/>
                  <a:pt x="22771" y="9029"/>
                </a:cubicBezTo>
                <a:cubicBezTo>
                  <a:pt x="22866" y="9219"/>
                  <a:pt x="22900" y="9351"/>
                  <a:pt x="22820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35920" y="3490920"/>
            <a:ext cx="171360" cy="152280"/>
          </a:xfrm>
          <a:custGeom>
            <a:avLst/>
            <a:gdLst/>
            <a:ahLst/>
            <a:rect l="l" t="t" r="r" b="b"/>
            <a:pathLst>
              <a:path w="473" h="422">
                <a:moveTo>
                  <a:pt x="22324" y="9773"/>
                </a:moveTo>
                <a:cubicBezTo>
                  <a:pt x="22481" y="9738"/>
                  <a:pt x="22594" y="9700"/>
                  <a:pt x="22746" y="9723"/>
                </a:cubicBezTo>
                <a:cubicBezTo>
                  <a:pt x="22665" y="9896"/>
                  <a:pt x="22542" y="9988"/>
                  <a:pt x="22399" y="10120"/>
                </a:cubicBezTo>
                <a:cubicBezTo>
                  <a:pt x="22535" y="10099"/>
                  <a:pt x="22663" y="10045"/>
                  <a:pt x="22796" y="100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1160" y="3848040"/>
            <a:ext cx="125640" cy="19080"/>
          </a:xfrm>
          <a:custGeom>
            <a:avLst/>
            <a:gdLst/>
            <a:ahLst/>
            <a:rect l="l" t="t" r="r" b="b"/>
            <a:pathLst>
              <a:path w="349" h="50">
                <a:moveTo>
                  <a:pt x="21282" y="10740"/>
                </a:moveTo>
                <a:cubicBezTo>
                  <a:pt x="21424" y="10721"/>
                  <a:pt x="21553" y="10648"/>
                  <a:pt x="21630" y="107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02720" y="3687840"/>
            <a:ext cx="563400" cy="349200"/>
          </a:xfrm>
          <a:custGeom>
            <a:avLst/>
            <a:gdLst/>
            <a:ahLst/>
            <a:rect l="l" t="t" r="r" b="b"/>
            <a:pathLst>
              <a:path w="1564" h="969">
                <a:moveTo>
                  <a:pt x="21977" y="10517"/>
                </a:moveTo>
                <a:cubicBezTo>
                  <a:pt x="21977" y="10509"/>
                  <a:pt x="21977" y="10500"/>
                  <a:pt x="21977" y="10492"/>
                </a:cubicBezTo>
                <a:cubicBezTo>
                  <a:pt x="22025" y="10400"/>
                  <a:pt x="21960" y="10636"/>
                  <a:pt x="21952" y="10740"/>
                </a:cubicBezTo>
                <a:cubicBezTo>
                  <a:pt x="21943" y="10854"/>
                  <a:pt x="21901" y="11046"/>
                  <a:pt x="22051" y="11088"/>
                </a:cubicBezTo>
                <a:cubicBezTo>
                  <a:pt x="22124" y="11109"/>
                  <a:pt x="22241" y="11058"/>
                  <a:pt x="22299" y="11013"/>
                </a:cubicBezTo>
                <a:cubicBezTo>
                  <a:pt x="22328" y="10991"/>
                  <a:pt x="22374" y="10935"/>
                  <a:pt x="22349" y="10889"/>
                </a:cubicBezTo>
                <a:cubicBezTo>
                  <a:pt x="22328" y="10851"/>
                  <a:pt x="22242" y="10805"/>
                  <a:pt x="22200" y="10815"/>
                </a:cubicBezTo>
                <a:cubicBezTo>
                  <a:pt x="22083" y="10843"/>
                  <a:pt x="22117" y="11010"/>
                  <a:pt x="22126" y="11088"/>
                </a:cubicBezTo>
                <a:cubicBezTo>
                  <a:pt x="22126" y="11096"/>
                  <a:pt x="22126" y="11104"/>
                  <a:pt x="22126" y="11112"/>
                </a:cubicBezTo>
              </a:path>
              <a:path w="1564" h="969">
                <a:moveTo>
                  <a:pt x="22647" y="10269"/>
                </a:moveTo>
                <a:cubicBezTo>
                  <a:pt x="22647" y="10118"/>
                  <a:pt x="22595" y="10516"/>
                  <a:pt x="22572" y="10666"/>
                </a:cubicBezTo>
                <a:cubicBezTo>
                  <a:pt x="22537" y="10897"/>
                  <a:pt x="22532" y="11032"/>
                  <a:pt x="22696" y="11187"/>
                </a:cubicBezTo>
                <a:cubicBezTo>
                  <a:pt x="22724" y="11215"/>
                  <a:pt x="22738" y="11224"/>
                  <a:pt x="22771" y="11212"/>
                </a:cubicBezTo>
              </a:path>
              <a:path w="1564" h="969">
                <a:moveTo>
                  <a:pt x="23341" y="10294"/>
                </a:moveTo>
                <a:cubicBezTo>
                  <a:pt x="23474" y="10405"/>
                  <a:pt x="23497" y="10484"/>
                  <a:pt x="23515" y="10666"/>
                </a:cubicBezTo>
                <a:cubicBezTo>
                  <a:pt x="23534" y="10860"/>
                  <a:pt x="23453" y="10935"/>
                  <a:pt x="23366" y="11088"/>
                </a:cubicBezTo>
                <a:cubicBezTo>
                  <a:pt x="23366" y="11096"/>
                  <a:pt x="23366" y="11104"/>
                  <a:pt x="23366" y="11112"/>
                </a:cubicBezTo>
              </a:path>
              <a:path w="1564" h="969">
                <a:moveTo>
                  <a:pt x="23068" y="10443"/>
                </a:moveTo>
                <a:cubicBezTo>
                  <a:pt x="23048" y="10381"/>
                  <a:pt x="22931" y="10389"/>
                  <a:pt x="22870" y="10418"/>
                </a:cubicBezTo>
                <a:cubicBezTo>
                  <a:pt x="22780" y="10485"/>
                  <a:pt x="22753" y="10501"/>
                  <a:pt x="22721" y="10567"/>
                </a:cubicBezTo>
                <a:cubicBezTo>
                  <a:pt x="22803" y="10690"/>
                  <a:pt x="22971" y="10725"/>
                  <a:pt x="23044" y="10840"/>
                </a:cubicBezTo>
                <a:cubicBezTo>
                  <a:pt x="23127" y="10972"/>
                  <a:pt x="22926" y="10993"/>
                  <a:pt x="22870" y="10988"/>
                </a:cubicBezTo>
                <a:cubicBezTo>
                  <a:pt x="22870" y="10820"/>
                  <a:pt x="22912" y="10745"/>
                  <a:pt x="22969" y="10592"/>
                </a:cubicBezTo>
                <a:cubicBezTo>
                  <a:pt x="22987" y="10543"/>
                  <a:pt x="23008" y="10470"/>
                  <a:pt x="23019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76760" y="4483080"/>
            <a:ext cx="4260600" cy="919080"/>
          </a:xfrm>
          <a:custGeom>
            <a:avLst/>
            <a:gdLst/>
            <a:ahLst/>
            <a:rect l="l" t="t" r="r" b="b"/>
            <a:pathLst>
              <a:path w="11833" h="2556">
                <a:moveTo>
                  <a:pt x="22051" y="12526"/>
                </a:moveTo>
                <a:cubicBezTo>
                  <a:pt x="22142" y="12504"/>
                  <a:pt x="22236" y="12470"/>
                  <a:pt x="22324" y="12452"/>
                </a:cubicBezTo>
              </a:path>
              <a:path w="11833" h="2556">
                <a:moveTo>
                  <a:pt x="10666" y="14039"/>
                </a:moveTo>
                <a:cubicBezTo>
                  <a:pt x="10613" y="14363"/>
                  <a:pt x="10565" y="14687"/>
                  <a:pt x="10492" y="150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38360" y="5106960"/>
            <a:ext cx="473400" cy="268200"/>
          </a:xfrm>
          <a:custGeom>
            <a:avLst/>
            <a:gdLst/>
            <a:ahLst/>
            <a:rect l="l" t="t" r="r" b="b"/>
            <a:pathLst>
              <a:path w="1315" h="745">
                <a:moveTo>
                  <a:pt x="9823" y="14188"/>
                </a:moveTo>
                <a:cubicBezTo>
                  <a:pt x="9713" y="14391"/>
                  <a:pt x="9800" y="14278"/>
                  <a:pt x="9971" y="14213"/>
                </a:cubicBezTo>
                <a:cubicBezTo>
                  <a:pt x="10174" y="14495"/>
                  <a:pt x="10156" y="14836"/>
                  <a:pt x="9699" y="14932"/>
                </a:cubicBezTo>
                <a:cubicBezTo>
                  <a:pt x="9649" y="14916"/>
                  <a:pt x="9600" y="14899"/>
                  <a:pt x="9550" y="14883"/>
                </a:cubicBezTo>
                <a:cubicBezTo>
                  <a:pt x="9708" y="14651"/>
                  <a:pt x="9920" y="14515"/>
                  <a:pt x="10170" y="14784"/>
                </a:cubicBezTo>
                <a:cubicBezTo>
                  <a:pt x="10178" y="14809"/>
                  <a:pt x="10187" y="14833"/>
                  <a:pt x="10195" y="14858"/>
                </a:cubicBezTo>
              </a:path>
              <a:path w="1315" h="745">
                <a:moveTo>
                  <a:pt x="10368" y="14263"/>
                </a:moveTo>
                <a:cubicBezTo>
                  <a:pt x="10359" y="14445"/>
                  <a:pt x="10300" y="14606"/>
                  <a:pt x="10567" y="14585"/>
                </a:cubicBezTo>
                <a:cubicBezTo>
                  <a:pt x="10739" y="14542"/>
                  <a:pt x="10784" y="14542"/>
                  <a:pt x="10864" y="144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5640" y="4027320"/>
            <a:ext cx="1965240" cy="822600"/>
          </a:xfrm>
          <a:custGeom>
            <a:avLst/>
            <a:gdLst/>
            <a:ahLst/>
            <a:rect l="l" t="t" r="r" b="b"/>
            <a:pathLst>
              <a:path w="5458" h="2283">
                <a:moveTo>
                  <a:pt x="19769" y="13295"/>
                </a:moveTo>
                <a:cubicBezTo>
                  <a:pt x="19792" y="13318"/>
                  <a:pt x="19789" y="13326"/>
                  <a:pt x="19819" y="13345"/>
                </a:cubicBezTo>
                <a:cubicBezTo>
                  <a:pt x="19849" y="13364"/>
                  <a:pt x="19884" y="13359"/>
                  <a:pt x="19918" y="13370"/>
                </a:cubicBezTo>
                <a:cubicBezTo>
                  <a:pt x="19967" y="13386"/>
                  <a:pt x="20013" y="13405"/>
                  <a:pt x="20067" y="13419"/>
                </a:cubicBezTo>
                <a:cubicBezTo>
                  <a:pt x="20110" y="13430"/>
                  <a:pt x="20145" y="13441"/>
                  <a:pt x="20191" y="13444"/>
                </a:cubicBezTo>
                <a:cubicBezTo>
                  <a:pt x="20318" y="13451"/>
                  <a:pt x="20452" y="13434"/>
                  <a:pt x="20563" y="13419"/>
                </a:cubicBezTo>
                <a:cubicBezTo>
                  <a:pt x="20662" y="13406"/>
                  <a:pt x="20745" y="13429"/>
                  <a:pt x="20836" y="13444"/>
                </a:cubicBezTo>
                <a:cubicBezTo>
                  <a:pt x="20908" y="13456"/>
                  <a:pt x="20955" y="13428"/>
                  <a:pt x="21010" y="13419"/>
                </a:cubicBezTo>
                <a:cubicBezTo>
                  <a:pt x="21113" y="13403"/>
                  <a:pt x="21212" y="13432"/>
                  <a:pt x="21307" y="13444"/>
                </a:cubicBezTo>
                <a:cubicBezTo>
                  <a:pt x="21378" y="13453"/>
                  <a:pt x="21472" y="13462"/>
                  <a:pt x="21530" y="13469"/>
                </a:cubicBezTo>
                <a:cubicBezTo>
                  <a:pt x="21717" y="13493"/>
                  <a:pt x="21927" y="13429"/>
                  <a:pt x="22101" y="13444"/>
                </a:cubicBezTo>
                <a:cubicBezTo>
                  <a:pt x="22162" y="13449"/>
                  <a:pt x="22209" y="13469"/>
                  <a:pt x="22275" y="13469"/>
                </a:cubicBezTo>
                <a:cubicBezTo>
                  <a:pt x="22300" y="13469"/>
                  <a:pt x="22274" y="13469"/>
                  <a:pt x="22299" y="13469"/>
                </a:cubicBezTo>
              </a:path>
              <a:path w="5458" h="2283">
                <a:moveTo>
                  <a:pt x="19745" y="13320"/>
                </a:moveTo>
                <a:cubicBezTo>
                  <a:pt x="19810" y="13320"/>
                  <a:pt x="19618" y="13296"/>
                  <a:pt x="19596" y="13295"/>
                </a:cubicBezTo>
                <a:cubicBezTo>
                  <a:pt x="19530" y="13293"/>
                  <a:pt x="19463" y="13295"/>
                  <a:pt x="19397" y="13295"/>
                </a:cubicBezTo>
                <a:cubicBezTo>
                  <a:pt x="19499" y="13295"/>
                  <a:pt x="19592" y="13274"/>
                  <a:pt x="19695" y="13271"/>
                </a:cubicBezTo>
                <a:cubicBezTo>
                  <a:pt x="19761" y="13269"/>
                  <a:pt x="19860" y="13271"/>
                  <a:pt x="19794" y="13271"/>
                </a:cubicBezTo>
                <a:cubicBezTo>
                  <a:pt x="19661" y="13242"/>
                  <a:pt x="19535" y="13246"/>
                  <a:pt x="19397" y="13246"/>
                </a:cubicBezTo>
                <a:cubicBezTo>
                  <a:pt x="19331" y="13246"/>
                  <a:pt x="19480" y="13256"/>
                  <a:pt x="19546" y="13246"/>
                </a:cubicBezTo>
                <a:cubicBezTo>
                  <a:pt x="19627" y="13234"/>
                  <a:pt x="19651" y="13190"/>
                  <a:pt x="19670" y="13246"/>
                </a:cubicBezTo>
              </a:path>
              <a:path w="5458" h="2283">
                <a:moveTo>
                  <a:pt x="19397" y="12030"/>
                </a:moveTo>
                <a:cubicBezTo>
                  <a:pt x="19451" y="12012"/>
                  <a:pt x="19409" y="11993"/>
                  <a:pt x="19372" y="11981"/>
                </a:cubicBezTo>
                <a:cubicBezTo>
                  <a:pt x="19294" y="11956"/>
                  <a:pt x="19176" y="11942"/>
                  <a:pt x="19124" y="12030"/>
                </a:cubicBezTo>
                <a:cubicBezTo>
                  <a:pt x="19124" y="12075"/>
                  <a:pt x="19128" y="12088"/>
                  <a:pt x="19100" y="12105"/>
                </a:cubicBezTo>
                <a:cubicBezTo>
                  <a:pt x="19154" y="12201"/>
                  <a:pt x="19215" y="12201"/>
                  <a:pt x="19323" y="12229"/>
                </a:cubicBezTo>
                <a:cubicBezTo>
                  <a:pt x="19412" y="12251"/>
                  <a:pt x="19437" y="12252"/>
                  <a:pt x="19472" y="12303"/>
                </a:cubicBezTo>
                <a:cubicBezTo>
                  <a:pt x="19444" y="12484"/>
                  <a:pt x="19401" y="12504"/>
                  <a:pt x="19224" y="12526"/>
                </a:cubicBezTo>
                <a:cubicBezTo>
                  <a:pt x="19236" y="12350"/>
                  <a:pt x="19299" y="12198"/>
                  <a:pt x="19348" y="12030"/>
                </a:cubicBezTo>
                <a:cubicBezTo>
                  <a:pt x="19367" y="11973"/>
                  <a:pt x="19375" y="11966"/>
                  <a:pt x="19372" y="11931"/>
                </a:cubicBezTo>
              </a:path>
              <a:path w="5458" h="2283">
                <a:moveTo>
                  <a:pt x="22027" y="11361"/>
                </a:moveTo>
                <a:cubicBezTo>
                  <a:pt x="22230" y="11319"/>
                  <a:pt x="22461" y="11285"/>
                  <a:pt x="22671" y="11261"/>
                </a:cubicBezTo>
                <a:cubicBezTo>
                  <a:pt x="22858" y="11240"/>
                  <a:pt x="23056" y="11203"/>
                  <a:pt x="23242" y="11187"/>
                </a:cubicBezTo>
                <a:cubicBezTo>
                  <a:pt x="23250" y="11187"/>
                  <a:pt x="23259" y="11187"/>
                  <a:pt x="23267" y="11187"/>
                </a:cubicBezTo>
              </a:path>
              <a:path w="5458" h="2283">
                <a:moveTo>
                  <a:pt x="22498" y="11534"/>
                </a:moveTo>
                <a:cubicBezTo>
                  <a:pt x="22570" y="11489"/>
                  <a:pt x="22592" y="11470"/>
                  <a:pt x="22671" y="11460"/>
                </a:cubicBezTo>
                <a:cubicBezTo>
                  <a:pt x="22728" y="11610"/>
                  <a:pt x="22642" y="11728"/>
                  <a:pt x="22547" y="11857"/>
                </a:cubicBezTo>
                <a:cubicBezTo>
                  <a:pt x="22508" y="11896"/>
                  <a:pt x="22492" y="11897"/>
                  <a:pt x="22498" y="11931"/>
                </a:cubicBezTo>
                <a:cubicBezTo>
                  <a:pt x="22594" y="11903"/>
                  <a:pt x="22734" y="11900"/>
                  <a:pt x="22820" y="11857"/>
                </a:cubicBezTo>
                <a:cubicBezTo>
                  <a:pt x="22828" y="11849"/>
                  <a:pt x="22837" y="11840"/>
                  <a:pt x="22845" y="11832"/>
                </a:cubicBezTo>
              </a:path>
              <a:path w="5458" h="2283">
                <a:moveTo>
                  <a:pt x="21977" y="12303"/>
                </a:moveTo>
                <a:cubicBezTo>
                  <a:pt x="22034" y="12303"/>
                  <a:pt x="22231" y="12229"/>
                  <a:pt x="22250" y="12254"/>
                </a:cubicBezTo>
                <a:cubicBezTo>
                  <a:pt x="22242" y="12270"/>
                  <a:pt x="22233" y="12287"/>
                  <a:pt x="22225" y="12303"/>
                </a:cubicBezTo>
              </a:path>
              <a:path w="5458" h="2283">
                <a:moveTo>
                  <a:pt x="22771" y="12129"/>
                </a:moveTo>
                <a:cubicBezTo>
                  <a:pt x="22752" y="12187"/>
                  <a:pt x="22731" y="12244"/>
                  <a:pt x="22721" y="12303"/>
                </a:cubicBezTo>
                <a:cubicBezTo>
                  <a:pt x="22838" y="12303"/>
                  <a:pt x="22896" y="12299"/>
                  <a:pt x="22994" y="12229"/>
                </a:cubicBezTo>
              </a:path>
              <a:path w="5458" h="2283">
                <a:moveTo>
                  <a:pt x="22944" y="12030"/>
                </a:moveTo>
                <a:cubicBezTo>
                  <a:pt x="22924" y="12179"/>
                  <a:pt x="22777" y="12571"/>
                  <a:pt x="22895" y="12477"/>
                </a:cubicBezTo>
                <a:cubicBezTo>
                  <a:pt x="22911" y="12452"/>
                  <a:pt x="22928" y="12427"/>
                  <a:pt x="22944" y="12402"/>
                </a:cubicBezTo>
              </a:path>
              <a:path w="5458" h="2283">
                <a:moveTo>
                  <a:pt x="23292" y="11956"/>
                </a:moveTo>
                <a:cubicBezTo>
                  <a:pt x="23128" y="12023"/>
                  <a:pt x="23045" y="12070"/>
                  <a:pt x="23217" y="12204"/>
                </a:cubicBezTo>
                <a:cubicBezTo>
                  <a:pt x="23294" y="12256"/>
                  <a:pt x="23319" y="12275"/>
                  <a:pt x="23292" y="12353"/>
                </a:cubicBezTo>
                <a:cubicBezTo>
                  <a:pt x="23259" y="12369"/>
                  <a:pt x="23225" y="12386"/>
                  <a:pt x="23192" y="12402"/>
                </a:cubicBezTo>
                <a:cubicBezTo>
                  <a:pt x="23057" y="12284"/>
                  <a:pt x="23206" y="12181"/>
                  <a:pt x="23292" y="12030"/>
                </a:cubicBezTo>
                <a:cubicBezTo>
                  <a:pt x="23292" y="12022"/>
                  <a:pt x="23292" y="12013"/>
                  <a:pt x="23292" y="12005"/>
                </a:cubicBezTo>
              </a:path>
              <a:path w="5458" h="2283">
                <a:moveTo>
                  <a:pt x="22746" y="12601"/>
                </a:moveTo>
                <a:cubicBezTo>
                  <a:pt x="22912" y="12553"/>
                  <a:pt x="23101" y="12510"/>
                  <a:pt x="23267" y="12452"/>
                </a:cubicBezTo>
                <a:cubicBezTo>
                  <a:pt x="23300" y="12435"/>
                  <a:pt x="23333" y="12419"/>
                  <a:pt x="23366" y="12402"/>
                </a:cubicBezTo>
              </a:path>
              <a:path w="5458" h="2283">
                <a:moveTo>
                  <a:pt x="22895" y="12700"/>
                </a:moveTo>
                <a:cubicBezTo>
                  <a:pt x="22996" y="12686"/>
                  <a:pt x="23090" y="12658"/>
                  <a:pt x="23192" y="12650"/>
                </a:cubicBezTo>
                <a:cubicBezTo>
                  <a:pt x="23173" y="12768"/>
                  <a:pt x="23102" y="12815"/>
                  <a:pt x="23019" y="12898"/>
                </a:cubicBezTo>
                <a:cubicBezTo>
                  <a:pt x="22996" y="12921"/>
                  <a:pt x="22988" y="12925"/>
                  <a:pt x="22994" y="12948"/>
                </a:cubicBezTo>
                <a:cubicBezTo>
                  <a:pt x="23069" y="12941"/>
                  <a:pt x="23182" y="12933"/>
                  <a:pt x="23217" y="12898"/>
                </a:cubicBezTo>
              </a:path>
              <a:path w="5458" h="2283">
                <a:moveTo>
                  <a:pt x="23564" y="12353"/>
                </a:moveTo>
                <a:cubicBezTo>
                  <a:pt x="23637" y="12353"/>
                  <a:pt x="23692" y="12346"/>
                  <a:pt x="23763" y="12328"/>
                </a:cubicBezTo>
              </a:path>
              <a:path w="5458" h="2283">
                <a:moveTo>
                  <a:pt x="23589" y="12526"/>
                </a:moveTo>
                <a:cubicBezTo>
                  <a:pt x="23667" y="12519"/>
                  <a:pt x="23739" y="12484"/>
                  <a:pt x="23812" y="12477"/>
                </a:cubicBezTo>
                <a:cubicBezTo>
                  <a:pt x="23820" y="12477"/>
                  <a:pt x="23829" y="12477"/>
                  <a:pt x="23837" y="12477"/>
                </a:cubicBezTo>
              </a:path>
              <a:path w="5458" h="2283">
                <a:moveTo>
                  <a:pt x="24036" y="12204"/>
                </a:moveTo>
                <a:cubicBezTo>
                  <a:pt x="24085" y="12155"/>
                  <a:pt x="24090" y="12154"/>
                  <a:pt x="24160" y="12154"/>
                </a:cubicBezTo>
                <a:cubicBezTo>
                  <a:pt x="24139" y="12303"/>
                  <a:pt x="24047" y="12388"/>
                  <a:pt x="24011" y="12526"/>
                </a:cubicBezTo>
                <a:cubicBezTo>
                  <a:pt x="24011" y="12543"/>
                  <a:pt x="24011" y="12559"/>
                  <a:pt x="24011" y="12576"/>
                </a:cubicBezTo>
                <a:cubicBezTo>
                  <a:pt x="24067" y="12567"/>
                  <a:pt x="24199" y="12537"/>
                  <a:pt x="24234" y="12502"/>
                </a:cubicBezTo>
                <a:cubicBezTo>
                  <a:pt x="24234" y="12494"/>
                  <a:pt x="24234" y="12485"/>
                  <a:pt x="24234" y="12477"/>
                </a:cubicBezTo>
              </a:path>
              <a:path w="5458" h="2283">
                <a:moveTo>
                  <a:pt x="24284" y="12080"/>
                </a:moveTo>
                <a:cubicBezTo>
                  <a:pt x="24284" y="12143"/>
                  <a:pt x="24241" y="12271"/>
                  <a:pt x="24333" y="12278"/>
                </a:cubicBezTo>
                <a:cubicBezTo>
                  <a:pt x="24400" y="12283"/>
                  <a:pt x="24481" y="12239"/>
                  <a:pt x="24532" y="12204"/>
                </a:cubicBezTo>
              </a:path>
              <a:path w="5458" h="2283">
                <a:moveTo>
                  <a:pt x="24532" y="11881"/>
                </a:moveTo>
                <a:cubicBezTo>
                  <a:pt x="24490" y="12047"/>
                  <a:pt x="24497" y="12230"/>
                  <a:pt x="24532" y="12402"/>
                </a:cubicBezTo>
                <a:cubicBezTo>
                  <a:pt x="24540" y="12427"/>
                  <a:pt x="24549" y="12452"/>
                  <a:pt x="24557" y="12477"/>
                </a:cubicBezTo>
              </a:path>
              <a:path w="5458" h="2283">
                <a:moveTo>
                  <a:pt x="20092" y="12551"/>
                </a:moveTo>
                <a:cubicBezTo>
                  <a:pt x="20111" y="12476"/>
                  <a:pt x="20186" y="12413"/>
                  <a:pt x="20241" y="12353"/>
                </a:cubicBezTo>
                <a:cubicBezTo>
                  <a:pt x="20269" y="12526"/>
                  <a:pt x="20266" y="12648"/>
                  <a:pt x="20216" y="12824"/>
                </a:cubicBezTo>
                <a:cubicBezTo>
                  <a:pt x="20180" y="12914"/>
                  <a:pt x="20163" y="12919"/>
                  <a:pt x="20166" y="12973"/>
                </a:cubicBezTo>
                <a:cubicBezTo>
                  <a:pt x="20273" y="12913"/>
                  <a:pt x="20369" y="12853"/>
                  <a:pt x="20464" y="12774"/>
                </a:cubicBezTo>
              </a:path>
              <a:path w="5458" h="2283">
                <a:moveTo>
                  <a:pt x="20365" y="12303"/>
                </a:moveTo>
                <a:cubicBezTo>
                  <a:pt x="20416" y="12391"/>
                  <a:pt x="20374" y="12521"/>
                  <a:pt x="20464" y="12601"/>
                </a:cubicBezTo>
                <a:cubicBezTo>
                  <a:pt x="20552" y="12679"/>
                  <a:pt x="20631" y="12440"/>
                  <a:pt x="20638" y="12427"/>
                </a:cubicBezTo>
              </a:path>
              <a:path w="5458" h="2283">
                <a:moveTo>
                  <a:pt x="20513" y="12179"/>
                </a:moveTo>
                <a:cubicBezTo>
                  <a:pt x="20544" y="12365"/>
                  <a:pt x="20625" y="12544"/>
                  <a:pt x="20687" y="12725"/>
                </a:cubicBezTo>
                <a:cubicBezTo>
                  <a:pt x="20706" y="12782"/>
                  <a:pt x="20715" y="12825"/>
                  <a:pt x="20712" y="12774"/>
                </a:cubicBezTo>
              </a:path>
              <a:path w="5458" h="2283">
                <a:moveTo>
                  <a:pt x="20811" y="12452"/>
                </a:moveTo>
                <a:cubicBezTo>
                  <a:pt x="20834" y="12564"/>
                  <a:pt x="20835" y="12595"/>
                  <a:pt x="20886" y="12650"/>
                </a:cubicBezTo>
                <a:cubicBezTo>
                  <a:pt x="20886" y="12720"/>
                  <a:pt x="20839" y="12466"/>
                  <a:pt x="20836" y="12427"/>
                </a:cubicBezTo>
                <a:cubicBezTo>
                  <a:pt x="20825" y="12276"/>
                  <a:pt x="21021" y="12465"/>
                  <a:pt x="21059" y="12502"/>
                </a:cubicBezTo>
                <a:cubicBezTo>
                  <a:pt x="21067" y="12510"/>
                  <a:pt x="21076" y="12518"/>
                  <a:pt x="21084" y="12526"/>
                </a:cubicBezTo>
                <a:cubicBezTo>
                  <a:pt x="21020" y="12506"/>
                  <a:pt x="21002" y="12377"/>
                  <a:pt x="21010" y="12303"/>
                </a:cubicBezTo>
                <a:cubicBezTo>
                  <a:pt x="21018" y="12287"/>
                  <a:pt x="21026" y="12270"/>
                  <a:pt x="21034" y="12254"/>
                </a:cubicBezTo>
                <a:cubicBezTo>
                  <a:pt x="21135" y="12287"/>
                  <a:pt x="21214" y="12366"/>
                  <a:pt x="21258" y="12477"/>
                </a:cubicBezTo>
                <a:cubicBezTo>
                  <a:pt x="21258" y="12505"/>
                  <a:pt x="21256" y="12511"/>
                  <a:pt x="21233" y="12477"/>
                </a:cubicBezTo>
              </a:path>
              <a:path w="5458" h="2283">
                <a:moveTo>
                  <a:pt x="20910" y="11807"/>
                </a:moveTo>
                <a:cubicBezTo>
                  <a:pt x="20922" y="11788"/>
                  <a:pt x="21025" y="11659"/>
                  <a:pt x="21059" y="11733"/>
                </a:cubicBezTo>
                <a:cubicBezTo>
                  <a:pt x="21080" y="11817"/>
                  <a:pt x="21096" y="11836"/>
                  <a:pt x="21059" y="11881"/>
                </a:cubicBezTo>
                <a:cubicBezTo>
                  <a:pt x="21059" y="11982"/>
                  <a:pt x="21186" y="11847"/>
                  <a:pt x="21208" y="11832"/>
                </a:cubicBezTo>
              </a:path>
              <a:path w="5458" h="2283">
                <a:moveTo>
                  <a:pt x="20092" y="13171"/>
                </a:moveTo>
                <a:cubicBezTo>
                  <a:pt x="20220" y="13148"/>
                  <a:pt x="20361" y="13157"/>
                  <a:pt x="20489" y="13122"/>
                </a:cubicBezTo>
                <a:cubicBezTo>
                  <a:pt x="20762" y="13047"/>
                  <a:pt x="21036" y="12957"/>
                  <a:pt x="21307" y="12874"/>
                </a:cubicBezTo>
                <a:cubicBezTo>
                  <a:pt x="21496" y="12816"/>
                  <a:pt x="21692" y="12726"/>
                  <a:pt x="21803" y="12551"/>
                </a:cubicBezTo>
                <a:cubicBezTo>
                  <a:pt x="21876" y="12436"/>
                  <a:pt x="21937" y="12214"/>
                  <a:pt x="21952" y="12080"/>
                </a:cubicBezTo>
                <a:cubicBezTo>
                  <a:pt x="21962" y="11992"/>
                  <a:pt x="21958" y="11872"/>
                  <a:pt x="21903" y="11782"/>
                </a:cubicBezTo>
                <a:cubicBezTo>
                  <a:pt x="21793" y="11601"/>
                  <a:pt x="21537" y="11559"/>
                  <a:pt x="21357" y="11509"/>
                </a:cubicBezTo>
                <a:cubicBezTo>
                  <a:pt x="21153" y="11452"/>
                  <a:pt x="21014" y="11445"/>
                  <a:pt x="20811" y="11509"/>
                </a:cubicBezTo>
                <a:cubicBezTo>
                  <a:pt x="20627" y="11567"/>
                  <a:pt x="20456" y="11658"/>
                  <a:pt x="20290" y="11757"/>
                </a:cubicBezTo>
                <a:cubicBezTo>
                  <a:pt x="20188" y="11818"/>
                  <a:pt x="20051" y="11951"/>
                  <a:pt x="19993" y="12055"/>
                </a:cubicBezTo>
                <a:cubicBezTo>
                  <a:pt x="19928" y="12172"/>
                  <a:pt x="19918" y="12271"/>
                  <a:pt x="19918" y="12402"/>
                </a:cubicBezTo>
                <a:cubicBezTo>
                  <a:pt x="19918" y="12514"/>
                  <a:pt x="19877" y="12648"/>
                  <a:pt x="19918" y="12750"/>
                </a:cubicBezTo>
                <a:cubicBezTo>
                  <a:pt x="19965" y="12867"/>
                  <a:pt x="20096" y="13016"/>
                  <a:pt x="20191" y="13097"/>
                </a:cubicBezTo>
                <a:cubicBezTo>
                  <a:pt x="20241" y="13140"/>
                  <a:pt x="20304" y="13169"/>
                  <a:pt x="20365" y="13196"/>
                </a:cubicBezTo>
                <a:cubicBezTo>
                  <a:pt x="20394" y="13209"/>
                  <a:pt x="20434" y="13209"/>
                  <a:pt x="20464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97160" y="5500800"/>
            <a:ext cx="27000" cy="125280"/>
          </a:xfrm>
          <a:custGeom>
            <a:avLst/>
            <a:gdLst/>
            <a:ahLst/>
            <a:rect l="l" t="t" r="r" b="b"/>
            <a:pathLst>
              <a:path w="75" h="348">
                <a:moveTo>
                  <a:pt x="8930" y="15280"/>
                </a:moveTo>
                <a:cubicBezTo>
                  <a:pt x="8930" y="15369"/>
                  <a:pt x="8999" y="15527"/>
                  <a:pt x="8954" y="15602"/>
                </a:cubicBezTo>
                <a:cubicBezTo>
                  <a:pt x="8929" y="15610"/>
                  <a:pt x="8905" y="15619"/>
                  <a:pt x="8880" y="156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73280" y="5392800"/>
            <a:ext cx="376560" cy="304560"/>
          </a:xfrm>
          <a:custGeom>
            <a:avLst/>
            <a:gdLst/>
            <a:ahLst/>
            <a:rect l="l" t="t" r="r" b="b"/>
            <a:pathLst>
              <a:path w="1043" h="844">
                <a:moveTo>
                  <a:pt x="9649" y="15329"/>
                </a:moveTo>
                <a:cubicBezTo>
                  <a:pt x="9696" y="15211"/>
                  <a:pt x="9809" y="15218"/>
                  <a:pt x="9922" y="15205"/>
                </a:cubicBezTo>
                <a:cubicBezTo>
                  <a:pt x="9999" y="15424"/>
                  <a:pt x="9891" y="15446"/>
                  <a:pt x="9699" y="15553"/>
                </a:cubicBezTo>
                <a:cubicBezTo>
                  <a:pt x="9724" y="15447"/>
                  <a:pt x="9877" y="15463"/>
                  <a:pt x="9947" y="15528"/>
                </a:cubicBezTo>
                <a:cubicBezTo>
                  <a:pt x="10128" y="15695"/>
                  <a:pt x="9776" y="15801"/>
                  <a:pt x="9674" y="15825"/>
                </a:cubicBezTo>
                <a:cubicBezTo>
                  <a:pt x="9631" y="15825"/>
                  <a:pt x="9629" y="15808"/>
                  <a:pt x="9674" y="15751"/>
                </a:cubicBezTo>
              </a:path>
              <a:path w="1043" h="844">
                <a:moveTo>
                  <a:pt x="10269" y="14982"/>
                </a:moveTo>
                <a:cubicBezTo>
                  <a:pt x="10285" y="15195"/>
                  <a:pt x="10236" y="15418"/>
                  <a:pt x="10269" y="15627"/>
                </a:cubicBezTo>
                <a:cubicBezTo>
                  <a:pt x="10286" y="15668"/>
                  <a:pt x="10302" y="15710"/>
                  <a:pt x="10319" y="15751"/>
                </a:cubicBezTo>
                <a:cubicBezTo>
                  <a:pt x="10545" y="15721"/>
                  <a:pt x="10600" y="15657"/>
                  <a:pt x="10691" y="15453"/>
                </a:cubicBezTo>
                <a:cubicBezTo>
                  <a:pt x="10524" y="15442"/>
                  <a:pt x="10378" y="15497"/>
                  <a:pt x="10368" y="15701"/>
                </a:cubicBezTo>
                <a:cubicBezTo>
                  <a:pt x="10387" y="15776"/>
                  <a:pt x="10369" y="15809"/>
                  <a:pt x="10418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33800" y="5500800"/>
            <a:ext cx="5697360" cy="268200"/>
          </a:xfrm>
          <a:custGeom>
            <a:avLst/>
            <a:gdLst/>
            <a:ahLst/>
            <a:rect l="l" t="t" r="r" b="b"/>
            <a:pathLst>
              <a:path w="15827" h="745">
                <a:moveTo>
                  <a:pt x="23738" y="15528"/>
                </a:moveTo>
                <a:cubicBezTo>
                  <a:pt x="23814" y="15504"/>
                  <a:pt x="23888" y="15483"/>
                  <a:pt x="23961" y="15453"/>
                </a:cubicBezTo>
              </a:path>
              <a:path w="15827" h="745">
                <a:moveTo>
                  <a:pt x="24532" y="15280"/>
                </a:moveTo>
                <a:lnTo>
                  <a:pt x="24532" y="15280"/>
                </a:lnTo>
                <a:lnTo>
                  <a:pt x="24532" y="15280"/>
                </a:lnTo>
              </a:path>
              <a:path w="15827" h="745">
                <a:moveTo>
                  <a:pt x="23862" y="16024"/>
                </a:moveTo>
                <a:cubicBezTo>
                  <a:pt x="23907" y="16001"/>
                  <a:pt x="23905" y="15990"/>
                  <a:pt x="23961" y="15974"/>
                </a:cubicBezTo>
              </a:path>
              <a:path w="15827" h="745">
                <a:moveTo>
                  <a:pt x="8706" y="15528"/>
                </a:moveTo>
                <a:cubicBezTo>
                  <a:pt x="8868" y="15492"/>
                  <a:pt x="9012" y="15463"/>
                  <a:pt x="9178" y="154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12000" y="4964040"/>
            <a:ext cx="1928880" cy="1108080"/>
          </a:xfrm>
          <a:custGeom>
            <a:avLst/>
            <a:gdLst/>
            <a:ahLst/>
            <a:rect l="l" t="t" r="r" b="b"/>
            <a:pathLst>
              <a:path w="5359" h="3077">
                <a:moveTo>
                  <a:pt x="22845" y="13990"/>
                </a:moveTo>
                <a:cubicBezTo>
                  <a:pt x="22739" y="14170"/>
                  <a:pt x="22649" y="14762"/>
                  <a:pt x="22597" y="14560"/>
                </a:cubicBezTo>
                <a:cubicBezTo>
                  <a:pt x="22597" y="14544"/>
                  <a:pt x="22597" y="14527"/>
                  <a:pt x="22597" y="14511"/>
                </a:cubicBezTo>
                <a:cubicBezTo>
                  <a:pt x="22681" y="14297"/>
                  <a:pt x="22755" y="14077"/>
                  <a:pt x="22895" y="13891"/>
                </a:cubicBezTo>
                <a:cubicBezTo>
                  <a:pt x="22960" y="13805"/>
                  <a:pt x="22960" y="13797"/>
                  <a:pt x="23019" y="13841"/>
                </a:cubicBezTo>
                <a:cubicBezTo>
                  <a:pt x="23056" y="14078"/>
                  <a:pt x="23005" y="14290"/>
                  <a:pt x="22969" y="14536"/>
                </a:cubicBezTo>
                <a:cubicBezTo>
                  <a:pt x="22969" y="14544"/>
                  <a:pt x="22969" y="14552"/>
                  <a:pt x="22969" y="14560"/>
                </a:cubicBezTo>
              </a:path>
              <a:path w="5359" h="3077">
                <a:moveTo>
                  <a:pt x="22671" y="14337"/>
                </a:moveTo>
                <a:cubicBezTo>
                  <a:pt x="22731" y="14314"/>
                  <a:pt x="22907" y="14203"/>
                  <a:pt x="22969" y="14238"/>
                </a:cubicBezTo>
                <a:cubicBezTo>
                  <a:pt x="22969" y="14246"/>
                  <a:pt x="22969" y="14255"/>
                  <a:pt x="22969" y="14263"/>
                </a:cubicBezTo>
              </a:path>
              <a:path w="5359" h="3077">
                <a:moveTo>
                  <a:pt x="23192" y="14436"/>
                </a:moveTo>
                <a:cubicBezTo>
                  <a:pt x="23192" y="14363"/>
                  <a:pt x="23147" y="14716"/>
                  <a:pt x="23143" y="14734"/>
                </a:cubicBezTo>
                <a:cubicBezTo>
                  <a:pt x="23123" y="14794"/>
                  <a:pt x="23124" y="14809"/>
                  <a:pt x="23093" y="14833"/>
                </a:cubicBezTo>
                <a:cubicBezTo>
                  <a:pt x="23150" y="14861"/>
                  <a:pt x="23257" y="14797"/>
                  <a:pt x="23341" y="14784"/>
                </a:cubicBezTo>
                <a:cubicBezTo>
                  <a:pt x="23407" y="14774"/>
                  <a:pt x="23440" y="14816"/>
                  <a:pt x="23490" y="14833"/>
                </a:cubicBezTo>
                <a:cubicBezTo>
                  <a:pt x="23498" y="14833"/>
                  <a:pt x="23507" y="14833"/>
                  <a:pt x="23515" y="14833"/>
                </a:cubicBezTo>
                <a:cubicBezTo>
                  <a:pt x="23580" y="14735"/>
                  <a:pt x="23568" y="14646"/>
                  <a:pt x="23589" y="14536"/>
                </a:cubicBezTo>
                <a:cubicBezTo>
                  <a:pt x="23601" y="14476"/>
                  <a:pt x="23627" y="14460"/>
                  <a:pt x="23639" y="14412"/>
                </a:cubicBezTo>
                <a:cubicBezTo>
                  <a:pt x="23482" y="14412"/>
                  <a:pt x="23325" y="14412"/>
                  <a:pt x="23168" y="14412"/>
                </a:cubicBezTo>
              </a:path>
              <a:path w="5359" h="3077">
                <a:moveTo>
                  <a:pt x="23862" y="14114"/>
                </a:moveTo>
                <a:cubicBezTo>
                  <a:pt x="23908" y="14132"/>
                  <a:pt x="23926" y="14122"/>
                  <a:pt x="23986" y="14114"/>
                </a:cubicBezTo>
              </a:path>
              <a:path w="5359" h="3077">
                <a:moveTo>
                  <a:pt x="23812" y="14387"/>
                </a:moveTo>
                <a:cubicBezTo>
                  <a:pt x="23871" y="14347"/>
                  <a:pt x="23914" y="14337"/>
                  <a:pt x="23986" y="14337"/>
                </a:cubicBezTo>
              </a:path>
              <a:path w="5359" h="3077">
                <a:moveTo>
                  <a:pt x="24408" y="13816"/>
                </a:moveTo>
                <a:cubicBezTo>
                  <a:pt x="24408" y="13759"/>
                  <a:pt x="24311" y="14204"/>
                  <a:pt x="24309" y="14213"/>
                </a:cubicBezTo>
                <a:cubicBezTo>
                  <a:pt x="24281" y="14318"/>
                  <a:pt x="24234" y="14447"/>
                  <a:pt x="24234" y="14560"/>
                </a:cubicBezTo>
              </a:path>
              <a:path w="5359" h="3077">
                <a:moveTo>
                  <a:pt x="24557" y="14114"/>
                </a:moveTo>
                <a:cubicBezTo>
                  <a:pt x="24557" y="14147"/>
                  <a:pt x="24557" y="14180"/>
                  <a:pt x="24557" y="14213"/>
                </a:cubicBezTo>
              </a:path>
              <a:path w="5359" h="3077">
                <a:moveTo>
                  <a:pt x="20563" y="16842"/>
                </a:moveTo>
                <a:cubicBezTo>
                  <a:pt x="20563" y="16866"/>
                  <a:pt x="20595" y="16842"/>
                  <a:pt x="20662" y="16842"/>
                </a:cubicBezTo>
                <a:cubicBezTo>
                  <a:pt x="20720" y="16842"/>
                  <a:pt x="20729" y="16842"/>
                  <a:pt x="20762" y="16842"/>
                </a:cubicBezTo>
                <a:cubicBezTo>
                  <a:pt x="20696" y="16842"/>
                  <a:pt x="20679" y="16842"/>
                  <a:pt x="20613" y="16842"/>
                </a:cubicBezTo>
                <a:cubicBezTo>
                  <a:pt x="20529" y="16842"/>
                  <a:pt x="20777" y="16818"/>
                  <a:pt x="20861" y="16818"/>
                </a:cubicBezTo>
                <a:cubicBezTo>
                  <a:pt x="20886" y="16818"/>
                  <a:pt x="20894" y="16818"/>
                  <a:pt x="20861" y="16818"/>
                </a:cubicBezTo>
                <a:cubicBezTo>
                  <a:pt x="20801" y="16818"/>
                  <a:pt x="20553" y="16818"/>
                  <a:pt x="20588" y="16818"/>
                </a:cubicBezTo>
                <a:cubicBezTo>
                  <a:pt x="20627" y="16818"/>
                  <a:pt x="20857" y="16802"/>
                  <a:pt x="20737" y="16842"/>
                </a:cubicBezTo>
                <a:cubicBezTo>
                  <a:pt x="20708" y="16840"/>
                  <a:pt x="20518" y="16843"/>
                  <a:pt x="20638" y="16818"/>
                </a:cubicBezTo>
                <a:cubicBezTo>
                  <a:pt x="20682" y="16809"/>
                  <a:pt x="20950" y="16760"/>
                  <a:pt x="20762" y="16793"/>
                </a:cubicBezTo>
                <a:cubicBezTo>
                  <a:pt x="20656" y="16812"/>
                  <a:pt x="20755" y="16793"/>
                  <a:pt x="20786" y="16793"/>
                </a:cubicBezTo>
                <a:cubicBezTo>
                  <a:pt x="20794" y="16793"/>
                  <a:pt x="20803" y="16793"/>
                  <a:pt x="20811" y="16793"/>
                </a:cubicBezTo>
              </a:path>
              <a:path w="5359" h="3077">
                <a:moveTo>
                  <a:pt x="20538" y="16768"/>
                </a:moveTo>
                <a:cubicBezTo>
                  <a:pt x="20589" y="16742"/>
                  <a:pt x="20700" y="16717"/>
                  <a:pt x="20762" y="16743"/>
                </a:cubicBezTo>
                <a:cubicBezTo>
                  <a:pt x="20770" y="16751"/>
                  <a:pt x="20778" y="16760"/>
                  <a:pt x="20786" y="16768"/>
                </a:cubicBezTo>
                <a:cubicBezTo>
                  <a:pt x="20702" y="16768"/>
                  <a:pt x="20619" y="16777"/>
                  <a:pt x="20538" y="16793"/>
                </a:cubicBezTo>
                <a:cubicBezTo>
                  <a:pt x="20546" y="16793"/>
                  <a:pt x="20555" y="16793"/>
                  <a:pt x="20563" y="16793"/>
                </a:cubicBezTo>
                <a:cubicBezTo>
                  <a:pt x="20622" y="16788"/>
                  <a:pt x="20627" y="16709"/>
                  <a:pt x="20638" y="16768"/>
                </a:cubicBezTo>
                <a:cubicBezTo>
                  <a:pt x="20646" y="16776"/>
                  <a:pt x="20654" y="16785"/>
                  <a:pt x="20662" y="16793"/>
                </a:cubicBezTo>
              </a:path>
              <a:path w="5359" h="3077">
                <a:moveTo>
                  <a:pt x="19273" y="14461"/>
                </a:moveTo>
                <a:cubicBezTo>
                  <a:pt x="19247" y="14382"/>
                  <a:pt x="19236" y="14552"/>
                  <a:pt x="19224" y="14635"/>
                </a:cubicBezTo>
                <a:cubicBezTo>
                  <a:pt x="19205" y="14771"/>
                  <a:pt x="19199" y="14895"/>
                  <a:pt x="19199" y="15032"/>
                </a:cubicBezTo>
                <a:cubicBezTo>
                  <a:pt x="19344" y="15019"/>
                  <a:pt x="19499" y="15006"/>
                  <a:pt x="19571" y="14858"/>
                </a:cubicBezTo>
                <a:cubicBezTo>
                  <a:pt x="19622" y="14754"/>
                  <a:pt x="19498" y="14638"/>
                  <a:pt x="19397" y="14684"/>
                </a:cubicBezTo>
                <a:cubicBezTo>
                  <a:pt x="19273" y="14740"/>
                  <a:pt x="19294" y="14910"/>
                  <a:pt x="19323" y="15007"/>
                </a:cubicBezTo>
              </a:path>
              <a:path w="5359" h="3077">
                <a:moveTo>
                  <a:pt x="23738" y="15304"/>
                </a:moveTo>
                <a:cubicBezTo>
                  <a:pt x="23844" y="15304"/>
                  <a:pt x="23933" y="15269"/>
                  <a:pt x="24036" y="15255"/>
                </a:cubicBezTo>
              </a:path>
              <a:path w="5359" h="3077">
                <a:moveTo>
                  <a:pt x="24209" y="15032"/>
                </a:moveTo>
                <a:cubicBezTo>
                  <a:pt x="24163" y="15184"/>
                  <a:pt x="24061" y="15395"/>
                  <a:pt x="24061" y="15553"/>
                </a:cubicBezTo>
                <a:cubicBezTo>
                  <a:pt x="24069" y="15569"/>
                  <a:pt x="24077" y="15586"/>
                  <a:pt x="24085" y="15602"/>
                </a:cubicBezTo>
                <a:cubicBezTo>
                  <a:pt x="24209" y="15594"/>
                  <a:pt x="24374" y="15603"/>
                  <a:pt x="24408" y="15453"/>
                </a:cubicBezTo>
                <a:cubicBezTo>
                  <a:pt x="24408" y="15375"/>
                  <a:pt x="24423" y="15357"/>
                  <a:pt x="24383" y="15329"/>
                </a:cubicBezTo>
                <a:cubicBezTo>
                  <a:pt x="24280" y="15376"/>
                  <a:pt x="24186" y="15440"/>
                  <a:pt x="24209" y="15577"/>
                </a:cubicBezTo>
                <a:cubicBezTo>
                  <a:pt x="24217" y="15585"/>
                  <a:pt x="24226" y="15594"/>
                  <a:pt x="24234" y="15602"/>
                </a:cubicBezTo>
              </a:path>
              <a:path w="5359" h="3077">
                <a:moveTo>
                  <a:pt x="23837" y="16073"/>
                </a:moveTo>
                <a:cubicBezTo>
                  <a:pt x="23897" y="16073"/>
                  <a:pt x="23925" y="16065"/>
                  <a:pt x="23986" y="16049"/>
                </a:cubicBezTo>
              </a:path>
              <a:path w="5359" h="3077">
                <a:moveTo>
                  <a:pt x="20017" y="15131"/>
                </a:moveTo>
                <a:cubicBezTo>
                  <a:pt x="20035" y="15060"/>
                  <a:pt x="20105" y="15023"/>
                  <a:pt x="20166" y="14982"/>
                </a:cubicBezTo>
                <a:cubicBezTo>
                  <a:pt x="20247" y="15144"/>
                  <a:pt x="20233" y="15162"/>
                  <a:pt x="20117" y="15304"/>
                </a:cubicBezTo>
                <a:cubicBezTo>
                  <a:pt x="20169" y="15291"/>
                  <a:pt x="20259" y="15208"/>
                  <a:pt x="20315" y="15280"/>
                </a:cubicBezTo>
                <a:cubicBezTo>
                  <a:pt x="20421" y="15417"/>
                  <a:pt x="20203" y="15592"/>
                  <a:pt x="20092" y="15627"/>
                </a:cubicBezTo>
                <a:cubicBezTo>
                  <a:pt x="20092" y="15577"/>
                  <a:pt x="20092" y="15544"/>
                  <a:pt x="20092" y="15503"/>
                </a:cubicBezTo>
              </a:path>
              <a:path w="5359" h="3077">
                <a:moveTo>
                  <a:pt x="20340" y="14932"/>
                </a:moveTo>
                <a:cubicBezTo>
                  <a:pt x="20488" y="15081"/>
                  <a:pt x="20390" y="15177"/>
                  <a:pt x="20414" y="15379"/>
                </a:cubicBezTo>
                <a:cubicBezTo>
                  <a:pt x="20422" y="15396"/>
                  <a:pt x="20431" y="15412"/>
                  <a:pt x="20439" y="15429"/>
                </a:cubicBezTo>
                <a:cubicBezTo>
                  <a:pt x="20585" y="15451"/>
                  <a:pt x="20725" y="15417"/>
                  <a:pt x="20737" y="15230"/>
                </a:cubicBezTo>
                <a:cubicBezTo>
                  <a:pt x="20749" y="15042"/>
                  <a:pt x="20559" y="15178"/>
                  <a:pt x="20538" y="15280"/>
                </a:cubicBezTo>
                <a:cubicBezTo>
                  <a:pt x="20495" y="15488"/>
                  <a:pt x="20596" y="15429"/>
                  <a:pt x="20687" y="15354"/>
                </a:cubicBezTo>
              </a:path>
              <a:path w="5359" h="3077">
                <a:moveTo>
                  <a:pt x="20811" y="14982"/>
                </a:moveTo>
                <a:cubicBezTo>
                  <a:pt x="20839" y="15060"/>
                  <a:pt x="20867" y="15135"/>
                  <a:pt x="20910" y="15205"/>
                </a:cubicBezTo>
                <a:cubicBezTo>
                  <a:pt x="20904" y="15180"/>
                  <a:pt x="20861" y="14957"/>
                  <a:pt x="20910" y="14957"/>
                </a:cubicBezTo>
                <a:cubicBezTo>
                  <a:pt x="21012" y="14957"/>
                  <a:pt x="21023" y="15059"/>
                  <a:pt x="21059" y="15131"/>
                </a:cubicBezTo>
                <a:cubicBezTo>
                  <a:pt x="21028" y="15023"/>
                  <a:pt x="20985" y="14951"/>
                  <a:pt x="21059" y="14858"/>
                </a:cubicBezTo>
                <a:cubicBezTo>
                  <a:pt x="21165" y="14886"/>
                  <a:pt x="21171" y="15171"/>
                  <a:pt x="21233" y="15081"/>
                </a:cubicBezTo>
                <a:cubicBezTo>
                  <a:pt x="21233" y="15056"/>
                  <a:pt x="21233" y="15032"/>
                  <a:pt x="21233" y="15007"/>
                </a:cubicBezTo>
              </a:path>
              <a:path w="5359" h="3077">
                <a:moveTo>
                  <a:pt x="21059" y="14461"/>
                </a:moveTo>
                <a:cubicBezTo>
                  <a:pt x="21127" y="14453"/>
                  <a:pt x="21189" y="14442"/>
                  <a:pt x="21258" y="14436"/>
                </a:cubicBezTo>
                <a:cubicBezTo>
                  <a:pt x="21250" y="14507"/>
                  <a:pt x="21222" y="14567"/>
                  <a:pt x="21208" y="14635"/>
                </a:cubicBezTo>
                <a:cubicBezTo>
                  <a:pt x="21227" y="14630"/>
                  <a:pt x="21440" y="14547"/>
                  <a:pt x="21456" y="14560"/>
                </a:cubicBezTo>
                <a:cubicBezTo>
                  <a:pt x="21456" y="14568"/>
                  <a:pt x="21456" y="14577"/>
                  <a:pt x="21456" y="14585"/>
                </a:cubicBezTo>
              </a:path>
              <a:path w="5359" h="3077">
                <a:moveTo>
                  <a:pt x="19695" y="15850"/>
                </a:moveTo>
                <a:cubicBezTo>
                  <a:pt x="19860" y="15802"/>
                  <a:pt x="20019" y="15781"/>
                  <a:pt x="20191" y="15751"/>
                </a:cubicBezTo>
                <a:cubicBezTo>
                  <a:pt x="20557" y="15686"/>
                  <a:pt x="20926" y="15588"/>
                  <a:pt x="21258" y="15429"/>
                </a:cubicBezTo>
                <a:cubicBezTo>
                  <a:pt x="21333" y="15393"/>
                  <a:pt x="21389" y="15344"/>
                  <a:pt x="21456" y="15304"/>
                </a:cubicBezTo>
                <a:cubicBezTo>
                  <a:pt x="21550" y="15248"/>
                  <a:pt x="21597" y="15114"/>
                  <a:pt x="21605" y="15106"/>
                </a:cubicBezTo>
                <a:cubicBezTo>
                  <a:pt x="21676" y="15035"/>
                  <a:pt x="21732" y="15030"/>
                  <a:pt x="21779" y="14932"/>
                </a:cubicBezTo>
                <a:cubicBezTo>
                  <a:pt x="21826" y="14834"/>
                  <a:pt x="21828" y="14741"/>
                  <a:pt x="21828" y="14635"/>
                </a:cubicBezTo>
                <a:cubicBezTo>
                  <a:pt x="21828" y="14553"/>
                  <a:pt x="21849" y="14436"/>
                  <a:pt x="21803" y="14362"/>
                </a:cubicBezTo>
                <a:cubicBezTo>
                  <a:pt x="21779" y="14323"/>
                  <a:pt x="21687" y="14210"/>
                  <a:pt x="21654" y="14188"/>
                </a:cubicBezTo>
                <a:cubicBezTo>
                  <a:pt x="21581" y="14140"/>
                  <a:pt x="21465" y="14123"/>
                  <a:pt x="21382" y="14114"/>
                </a:cubicBezTo>
                <a:cubicBezTo>
                  <a:pt x="21207" y="14094"/>
                  <a:pt x="21005" y="14103"/>
                  <a:pt x="20836" y="14139"/>
                </a:cubicBezTo>
                <a:cubicBezTo>
                  <a:pt x="20673" y="14174"/>
                  <a:pt x="20494" y="14136"/>
                  <a:pt x="20340" y="14213"/>
                </a:cubicBezTo>
                <a:cubicBezTo>
                  <a:pt x="20224" y="14271"/>
                  <a:pt x="20153" y="14319"/>
                  <a:pt x="20067" y="14412"/>
                </a:cubicBezTo>
                <a:cubicBezTo>
                  <a:pt x="19991" y="14495"/>
                  <a:pt x="19930" y="14556"/>
                  <a:pt x="19869" y="14635"/>
                </a:cubicBezTo>
                <a:cubicBezTo>
                  <a:pt x="19801" y="14723"/>
                  <a:pt x="19750" y="14785"/>
                  <a:pt x="19695" y="14883"/>
                </a:cubicBezTo>
                <a:cubicBezTo>
                  <a:pt x="19641" y="14979"/>
                  <a:pt x="19608" y="15045"/>
                  <a:pt x="19596" y="15156"/>
                </a:cubicBezTo>
                <a:cubicBezTo>
                  <a:pt x="19587" y="15234"/>
                  <a:pt x="19611" y="15360"/>
                  <a:pt x="19645" y="15429"/>
                </a:cubicBezTo>
                <a:cubicBezTo>
                  <a:pt x="19677" y="15494"/>
                  <a:pt x="19755" y="15591"/>
                  <a:pt x="19819" y="15627"/>
                </a:cubicBezTo>
                <a:cubicBezTo>
                  <a:pt x="19891" y="15668"/>
                  <a:pt x="19989" y="15696"/>
                  <a:pt x="20067" y="15701"/>
                </a:cubicBezTo>
                <a:cubicBezTo>
                  <a:pt x="20166" y="15707"/>
                  <a:pt x="20252" y="15696"/>
                  <a:pt x="20340" y="156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01960" y="5616720"/>
            <a:ext cx="1901880" cy="741240"/>
          </a:xfrm>
          <a:custGeom>
            <a:avLst/>
            <a:gdLst/>
            <a:ahLst/>
            <a:rect l="l" t="t" r="r" b="b"/>
            <a:pathLst>
              <a:path w="5284" h="2060">
                <a:moveTo>
                  <a:pt x="8186" y="16073"/>
                </a:moveTo>
                <a:cubicBezTo>
                  <a:pt x="8986" y="16017"/>
                  <a:pt x="9791" y="15960"/>
                  <a:pt x="10592" y="15949"/>
                </a:cubicBezTo>
                <a:cubicBezTo>
                  <a:pt x="10732" y="15947"/>
                  <a:pt x="10873" y="15949"/>
                  <a:pt x="11013" y="15949"/>
                </a:cubicBezTo>
              </a:path>
              <a:path w="5284" h="2060">
                <a:moveTo>
                  <a:pt x="9699" y="16123"/>
                </a:moveTo>
                <a:cubicBezTo>
                  <a:pt x="9622" y="16301"/>
                  <a:pt x="9489" y="16475"/>
                  <a:pt x="9426" y="16669"/>
                </a:cubicBezTo>
                <a:cubicBezTo>
                  <a:pt x="9404" y="16803"/>
                  <a:pt x="9384" y="16841"/>
                  <a:pt x="9475" y="16892"/>
                </a:cubicBezTo>
                <a:cubicBezTo>
                  <a:pt x="9684" y="16892"/>
                  <a:pt x="9875" y="16843"/>
                  <a:pt x="9922" y="16594"/>
                </a:cubicBezTo>
                <a:cubicBezTo>
                  <a:pt x="9894" y="16539"/>
                  <a:pt x="9879" y="16523"/>
                  <a:pt x="9823" y="16545"/>
                </a:cubicBezTo>
                <a:cubicBezTo>
                  <a:pt x="9784" y="16571"/>
                  <a:pt x="9433" y="16846"/>
                  <a:pt x="9599" y="16917"/>
                </a:cubicBezTo>
                <a:cubicBezTo>
                  <a:pt x="9632" y="16909"/>
                  <a:pt x="9666" y="16900"/>
                  <a:pt x="9699" y="16892"/>
                </a:cubicBezTo>
              </a:path>
              <a:path w="5284" h="2060">
                <a:moveTo>
                  <a:pt x="10269" y="16173"/>
                </a:moveTo>
                <a:cubicBezTo>
                  <a:pt x="10103" y="16398"/>
                  <a:pt x="9989" y="16570"/>
                  <a:pt x="9947" y="16842"/>
                </a:cubicBezTo>
                <a:cubicBezTo>
                  <a:pt x="10166" y="16854"/>
                  <a:pt x="10461" y="16809"/>
                  <a:pt x="10492" y="16520"/>
                </a:cubicBezTo>
                <a:cubicBezTo>
                  <a:pt x="10518" y="16277"/>
                  <a:pt x="10262" y="16293"/>
                  <a:pt x="10120" y="16272"/>
                </a:cubicBezTo>
              </a:path>
              <a:path w="5284" h="2060">
                <a:moveTo>
                  <a:pt x="10765" y="16446"/>
                </a:moveTo>
                <a:cubicBezTo>
                  <a:pt x="10791" y="16572"/>
                  <a:pt x="10802" y="16709"/>
                  <a:pt x="10815" y="16842"/>
                </a:cubicBezTo>
                <a:cubicBezTo>
                  <a:pt x="10815" y="16850"/>
                  <a:pt x="10815" y="16859"/>
                  <a:pt x="10815" y="16867"/>
                </a:cubicBezTo>
                <a:cubicBezTo>
                  <a:pt x="10815" y="16740"/>
                  <a:pt x="10795" y="16612"/>
                  <a:pt x="10864" y="16495"/>
                </a:cubicBezTo>
                <a:cubicBezTo>
                  <a:pt x="11025" y="16223"/>
                  <a:pt x="11198" y="16562"/>
                  <a:pt x="11286" y="16694"/>
                </a:cubicBezTo>
                <a:cubicBezTo>
                  <a:pt x="11286" y="16710"/>
                  <a:pt x="11286" y="16727"/>
                  <a:pt x="11286" y="16743"/>
                </a:cubicBezTo>
                <a:cubicBezTo>
                  <a:pt x="11280" y="16696"/>
                  <a:pt x="11245" y="16393"/>
                  <a:pt x="11361" y="16396"/>
                </a:cubicBezTo>
                <a:cubicBezTo>
                  <a:pt x="11558" y="16402"/>
                  <a:pt x="11603" y="16731"/>
                  <a:pt x="11559" y="16867"/>
                </a:cubicBezTo>
                <a:cubicBezTo>
                  <a:pt x="11551" y="16875"/>
                  <a:pt x="11542" y="16884"/>
                  <a:pt x="11534" y="16892"/>
                </a:cubicBezTo>
              </a:path>
              <a:path w="5284" h="2060">
                <a:moveTo>
                  <a:pt x="11733" y="16024"/>
                </a:moveTo>
                <a:cubicBezTo>
                  <a:pt x="11798" y="15974"/>
                  <a:pt x="11944" y="15913"/>
                  <a:pt x="12030" y="15925"/>
                </a:cubicBezTo>
                <a:cubicBezTo>
                  <a:pt x="12055" y="15941"/>
                  <a:pt x="12080" y="15958"/>
                  <a:pt x="12105" y="15974"/>
                </a:cubicBezTo>
                <a:cubicBezTo>
                  <a:pt x="12075" y="16166"/>
                  <a:pt x="11986" y="16233"/>
                  <a:pt x="11832" y="16346"/>
                </a:cubicBezTo>
                <a:cubicBezTo>
                  <a:pt x="11919" y="16381"/>
                  <a:pt x="12092" y="16306"/>
                  <a:pt x="12204" y="16297"/>
                </a:cubicBezTo>
                <a:cubicBezTo>
                  <a:pt x="12303" y="16297"/>
                  <a:pt x="12320" y="16297"/>
                  <a:pt x="12378" y="16297"/>
                </a:cubicBezTo>
              </a:path>
              <a:path w="5284" h="2060">
                <a:moveTo>
                  <a:pt x="9401" y="17413"/>
                </a:moveTo>
                <a:cubicBezTo>
                  <a:pt x="9690" y="17472"/>
                  <a:pt x="9917" y="17467"/>
                  <a:pt x="10220" y="17462"/>
                </a:cubicBezTo>
                <a:cubicBezTo>
                  <a:pt x="10675" y="17455"/>
                  <a:pt x="11130" y="17479"/>
                  <a:pt x="11584" y="17438"/>
                </a:cubicBezTo>
                <a:cubicBezTo>
                  <a:pt x="12046" y="17396"/>
                  <a:pt x="12895" y="17401"/>
                  <a:pt x="13196" y="16966"/>
                </a:cubicBezTo>
                <a:cubicBezTo>
                  <a:pt x="13368" y="16718"/>
                  <a:pt x="13349" y="16472"/>
                  <a:pt x="13295" y="16197"/>
                </a:cubicBezTo>
                <a:cubicBezTo>
                  <a:pt x="13266" y="16048"/>
                  <a:pt x="13223" y="15961"/>
                  <a:pt x="13097" y="15875"/>
                </a:cubicBezTo>
                <a:cubicBezTo>
                  <a:pt x="12956" y="15780"/>
                  <a:pt x="12832" y="15775"/>
                  <a:pt x="12675" y="15726"/>
                </a:cubicBezTo>
                <a:cubicBezTo>
                  <a:pt x="12483" y="15667"/>
                  <a:pt x="12306" y="15672"/>
                  <a:pt x="12105" y="15652"/>
                </a:cubicBezTo>
                <a:cubicBezTo>
                  <a:pt x="11848" y="15627"/>
                  <a:pt x="11595" y="15627"/>
                  <a:pt x="11336" y="15627"/>
                </a:cubicBezTo>
                <a:cubicBezTo>
                  <a:pt x="11039" y="15627"/>
                  <a:pt x="10741" y="15579"/>
                  <a:pt x="10443" y="15602"/>
                </a:cubicBezTo>
                <a:cubicBezTo>
                  <a:pt x="10242" y="15617"/>
                  <a:pt x="10045" y="15639"/>
                  <a:pt x="9847" y="15677"/>
                </a:cubicBezTo>
                <a:cubicBezTo>
                  <a:pt x="9649" y="15715"/>
                  <a:pt x="9446" y="15767"/>
                  <a:pt x="9252" y="15825"/>
                </a:cubicBezTo>
                <a:cubicBezTo>
                  <a:pt x="9035" y="15890"/>
                  <a:pt x="8880" y="15941"/>
                  <a:pt x="8682" y="16049"/>
                </a:cubicBezTo>
                <a:cubicBezTo>
                  <a:pt x="8488" y="16155"/>
                  <a:pt x="8347" y="16250"/>
                  <a:pt x="8235" y="16446"/>
                </a:cubicBezTo>
                <a:cubicBezTo>
                  <a:pt x="8117" y="16652"/>
                  <a:pt x="8044" y="16850"/>
                  <a:pt x="8062" y="17090"/>
                </a:cubicBezTo>
                <a:cubicBezTo>
                  <a:pt x="8075" y="17270"/>
                  <a:pt x="8205" y="17463"/>
                  <a:pt x="8384" y="17512"/>
                </a:cubicBezTo>
                <a:cubicBezTo>
                  <a:pt x="8713" y="17602"/>
                  <a:pt x="9068" y="17530"/>
                  <a:pt x="9401" y="17587"/>
                </a:cubicBezTo>
                <a:cubicBezTo>
                  <a:pt x="9518" y="17625"/>
                  <a:pt x="9537" y="17626"/>
                  <a:pt x="9599" y="176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93080" y="5037120"/>
            <a:ext cx="152640" cy="534960"/>
          </a:xfrm>
          <a:custGeom>
            <a:avLst/>
            <a:gdLst/>
            <a:ahLst/>
            <a:rect l="l" t="t" r="r" b="b"/>
            <a:pathLst>
              <a:path w="423" h="1489">
                <a:moveTo>
                  <a:pt x="24705" y="14139"/>
                </a:moveTo>
                <a:cubicBezTo>
                  <a:pt x="24733" y="14056"/>
                  <a:pt x="24733" y="14192"/>
                  <a:pt x="24730" y="14213"/>
                </a:cubicBezTo>
                <a:cubicBezTo>
                  <a:pt x="24708" y="14320"/>
                  <a:pt x="24700" y="14344"/>
                  <a:pt x="24705" y="14412"/>
                </a:cubicBezTo>
                <a:cubicBezTo>
                  <a:pt x="24814" y="14357"/>
                  <a:pt x="24843" y="14245"/>
                  <a:pt x="24904" y="14139"/>
                </a:cubicBezTo>
                <a:cubicBezTo>
                  <a:pt x="24904" y="14071"/>
                  <a:pt x="24862" y="14327"/>
                  <a:pt x="24879" y="14337"/>
                </a:cubicBezTo>
                <a:cubicBezTo>
                  <a:pt x="24977" y="14392"/>
                  <a:pt x="25081" y="14079"/>
                  <a:pt x="25078" y="14039"/>
                </a:cubicBezTo>
                <a:cubicBezTo>
                  <a:pt x="25074" y="13994"/>
                  <a:pt x="25032" y="13995"/>
                  <a:pt x="25003" y="13990"/>
                </a:cubicBezTo>
              </a:path>
              <a:path w="423" h="1489">
                <a:moveTo>
                  <a:pt x="24829" y="14957"/>
                </a:moveTo>
                <a:cubicBezTo>
                  <a:pt x="24889" y="14997"/>
                  <a:pt x="24853" y="15151"/>
                  <a:pt x="24829" y="15230"/>
                </a:cubicBezTo>
                <a:cubicBezTo>
                  <a:pt x="24795" y="15339"/>
                  <a:pt x="24780" y="15371"/>
                  <a:pt x="24780" y="15478"/>
                </a:cubicBezTo>
                <a:cubicBezTo>
                  <a:pt x="24923" y="15478"/>
                  <a:pt x="25064" y="15461"/>
                  <a:pt x="25127" y="15304"/>
                </a:cubicBezTo>
                <a:cubicBezTo>
                  <a:pt x="25127" y="15271"/>
                  <a:pt x="25127" y="15238"/>
                  <a:pt x="25127" y="15205"/>
                </a:cubicBezTo>
                <a:cubicBezTo>
                  <a:pt x="25016" y="15138"/>
                  <a:pt x="24955" y="15257"/>
                  <a:pt x="24904" y="15354"/>
                </a:cubicBezTo>
                <a:cubicBezTo>
                  <a:pt x="24882" y="15421"/>
                  <a:pt x="24877" y="15439"/>
                  <a:pt x="24854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8240" y="5732640"/>
            <a:ext cx="285840" cy="214200"/>
          </a:xfrm>
          <a:custGeom>
            <a:avLst/>
            <a:gdLst/>
            <a:ahLst/>
            <a:rect l="l" t="t" r="r" b="b"/>
            <a:pathLst>
              <a:path w="795" h="596">
                <a:moveTo>
                  <a:pt x="24209" y="15999"/>
                </a:moveTo>
                <a:cubicBezTo>
                  <a:pt x="24276" y="15982"/>
                  <a:pt x="24329" y="15956"/>
                  <a:pt x="24408" y="15949"/>
                </a:cubicBezTo>
                <a:cubicBezTo>
                  <a:pt x="24436" y="16129"/>
                  <a:pt x="24374" y="16160"/>
                  <a:pt x="24234" y="16272"/>
                </a:cubicBezTo>
                <a:cubicBezTo>
                  <a:pt x="24310" y="16231"/>
                  <a:pt x="24558" y="16155"/>
                  <a:pt x="24433" y="16346"/>
                </a:cubicBezTo>
                <a:cubicBezTo>
                  <a:pt x="24376" y="16433"/>
                  <a:pt x="24211" y="16572"/>
                  <a:pt x="24135" y="16495"/>
                </a:cubicBezTo>
              </a:path>
              <a:path w="795" h="596">
                <a:moveTo>
                  <a:pt x="24606" y="15925"/>
                </a:moveTo>
                <a:cubicBezTo>
                  <a:pt x="24579" y="16039"/>
                  <a:pt x="24523" y="16230"/>
                  <a:pt x="24557" y="16346"/>
                </a:cubicBezTo>
                <a:cubicBezTo>
                  <a:pt x="24573" y="16363"/>
                  <a:pt x="24590" y="16379"/>
                  <a:pt x="24606" y="16396"/>
                </a:cubicBezTo>
                <a:cubicBezTo>
                  <a:pt x="24753" y="16407"/>
                  <a:pt x="24917" y="16364"/>
                  <a:pt x="24929" y="16173"/>
                </a:cubicBezTo>
                <a:cubicBezTo>
                  <a:pt x="24921" y="16148"/>
                  <a:pt x="24912" y="16123"/>
                  <a:pt x="24904" y="16098"/>
                </a:cubicBezTo>
                <a:cubicBezTo>
                  <a:pt x="24766" y="16130"/>
                  <a:pt x="24701" y="16167"/>
                  <a:pt x="24681" y="16321"/>
                </a:cubicBezTo>
                <a:cubicBezTo>
                  <a:pt x="24681" y="16329"/>
                  <a:pt x="24681" y="16338"/>
                  <a:pt x="24681" y="163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18240" y="4884840"/>
            <a:ext cx="12564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20935" y="13618"/>
                </a:moveTo>
                <a:cubicBezTo>
                  <a:pt x="20935" y="13540"/>
                  <a:pt x="20919" y="13664"/>
                  <a:pt x="20910" y="13742"/>
                </a:cubicBezTo>
                <a:cubicBezTo>
                  <a:pt x="20894" y="13874"/>
                  <a:pt x="20879" y="13963"/>
                  <a:pt x="20910" y="14089"/>
                </a:cubicBezTo>
                <a:cubicBezTo>
                  <a:pt x="21098" y="14070"/>
                  <a:pt x="21208" y="14069"/>
                  <a:pt x="21233" y="13866"/>
                </a:cubicBezTo>
                <a:cubicBezTo>
                  <a:pt x="21233" y="13821"/>
                  <a:pt x="21236" y="13808"/>
                  <a:pt x="21208" y="13791"/>
                </a:cubicBezTo>
                <a:cubicBezTo>
                  <a:pt x="21087" y="13852"/>
                  <a:pt x="21003" y="13934"/>
                  <a:pt x="21010" y="14089"/>
                </a:cubicBezTo>
                <a:cubicBezTo>
                  <a:pt x="21018" y="14097"/>
                  <a:pt x="21026" y="14106"/>
                  <a:pt x="21034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40800" y="5205240"/>
            <a:ext cx="125280" cy="20664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21828" y="14536"/>
                </a:moveTo>
                <a:cubicBezTo>
                  <a:pt x="21828" y="14494"/>
                  <a:pt x="21828" y="14486"/>
                  <a:pt x="21828" y="14461"/>
                </a:cubicBezTo>
                <a:cubicBezTo>
                  <a:pt x="21786" y="14475"/>
                  <a:pt x="21781" y="14647"/>
                  <a:pt x="21779" y="14684"/>
                </a:cubicBezTo>
                <a:cubicBezTo>
                  <a:pt x="21772" y="14812"/>
                  <a:pt x="21775" y="14900"/>
                  <a:pt x="21828" y="15007"/>
                </a:cubicBezTo>
                <a:cubicBezTo>
                  <a:pt x="21961" y="15017"/>
                  <a:pt x="22078" y="14984"/>
                  <a:pt x="22126" y="14833"/>
                </a:cubicBezTo>
                <a:cubicBezTo>
                  <a:pt x="22126" y="14792"/>
                  <a:pt x="22126" y="14784"/>
                  <a:pt x="22126" y="14759"/>
                </a:cubicBezTo>
                <a:cubicBezTo>
                  <a:pt x="21992" y="14803"/>
                  <a:pt x="21989" y="14878"/>
                  <a:pt x="21977" y="15007"/>
                </a:cubicBezTo>
                <a:cubicBezTo>
                  <a:pt x="21977" y="15015"/>
                  <a:pt x="21977" y="15024"/>
                  <a:pt x="21977" y="150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42120" y="3160800"/>
            <a:ext cx="357120" cy="571320"/>
          </a:xfrm>
          <a:custGeom>
            <a:avLst/>
            <a:gdLst/>
            <a:ahLst/>
            <a:rect l="l" t="t" r="r" b="b"/>
            <a:pathLst>
              <a:path w="993" h="1588">
                <a:moveTo>
                  <a:pt x="20340" y="9054"/>
                </a:moveTo>
                <a:cubicBezTo>
                  <a:pt x="20476" y="8892"/>
                  <a:pt x="20349" y="9168"/>
                  <a:pt x="20315" y="9277"/>
                </a:cubicBezTo>
                <a:cubicBezTo>
                  <a:pt x="20259" y="9455"/>
                  <a:pt x="20180" y="9643"/>
                  <a:pt x="20141" y="9823"/>
                </a:cubicBezTo>
                <a:cubicBezTo>
                  <a:pt x="20231" y="9508"/>
                  <a:pt x="20294" y="9176"/>
                  <a:pt x="20439" y="8880"/>
                </a:cubicBezTo>
                <a:cubicBezTo>
                  <a:pt x="20504" y="8793"/>
                  <a:pt x="20515" y="8755"/>
                  <a:pt x="20588" y="8806"/>
                </a:cubicBezTo>
                <a:cubicBezTo>
                  <a:pt x="20680" y="9138"/>
                  <a:pt x="20672" y="9382"/>
                  <a:pt x="20638" y="9723"/>
                </a:cubicBezTo>
                <a:cubicBezTo>
                  <a:pt x="20638" y="9740"/>
                  <a:pt x="20638" y="9756"/>
                  <a:pt x="20638" y="9773"/>
                </a:cubicBezTo>
              </a:path>
              <a:path w="993" h="1588">
                <a:moveTo>
                  <a:pt x="20117" y="9599"/>
                </a:moveTo>
                <a:cubicBezTo>
                  <a:pt x="20294" y="9548"/>
                  <a:pt x="20519" y="9434"/>
                  <a:pt x="20687" y="9475"/>
                </a:cubicBezTo>
              </a:path>
              <a:path w="993" h="1588">
                <a:moveTo>
                  <a:pt x="20935" y="9649"/>
                </a:moveTo>
                <a:cubicBezTo>
                  <a:pt x="20847" y="9862"/>
                  <a:pt x="20725" y="10058"/>
                  <a:pt x="20638" y="10269"/>
                </a:cubicBezTo>
                <a:cubicBezTo>
                  <a:pt x="20638" y="10277"/>
                  <a:pt x="20638" y="10286"/>
                  <a:pt x="20638" y="10294"/>
                </a:cubicBezTo>
                <a:cubicBezTo>
                  <a:pt x="20793" y="10082"/>
                  <a:pt x="20880" y="9890"/>
                  <a:pt x="20985" y="9649"/>
                </a:cubicBezTo>
                <a:cubicBezTo>
                  <a:pt x="21001" y="9616"/>
                  <a:pt x="21018" y="9583"/>
                  <a:pt x="21034" y="9550"/>
                </a:cubicBezTo>
                <a:cubicBezTo>
                  <a:pt x="21047" y="9766"/>
                  <a:pt x="21091" y="9979"/>
                  <a:pt x="21109" y="10195"/>
                </a:cubicBezTo>
                <a:cubicBezTo>
                  <a:pt x="21109" y="10269"/>
                  <a:pt x="21109" y="10278"/>
                  <a:pt x="21109" y="10319"/>
                </a:cubicBezTo>
                <a:cubicBezTo>
                  <a:pt x="20949" y="10319"/>
                  <a:pt x="20798" y="10322"/>
                  <a:pt x="20638" y="10344"/>
                </a:cubicBezTo>
                <a:cubicBezTo>
                  <a:pt x="20596" y="10352"/>
                  <a:pt x="20555" y="10360"/>
                  <a:pt x="20513" y="103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78800" y="3313080"/>
            <a:ext cx="546120" cy="625680"/>
          </a:xfrm>
          <a:custGeom>
            <a:avLst/>
            <a:gdLst/>
            <a:ahLst/>
            <a:rect l="l" t="t" r="r" b="b"/>
            <a:pathLst>
              <a:path w="1514" h="1737">
                <a:moveTo>
                  <a:pt x="21332" y="9277"/>
                </a:moveTo>
                <a:cubicBezTo>
                  <a:pt x="21424" y="9231"/>
                  <a:pt x="21537" y="9205"/>
                  <a:pt x="21630" y="9227"/>
                </a:cubicBezTo>
              </a:path>
              <a:path w="1514" h="1737">
                <a:moveTo>
                  <a:pt x="22002" y="9699"/>
                </a:moveTo>
                <a:cubicBezTo>
                  <a:pt x="22272" y="9625"/>
                  <a:pt x="22543" y="9548"/>
                  <a:pt x="22820" y="9500"/>
                </a:cubicBezTo>
                <a:cubicBezTo>
                  <a:pt x="22828" y="9500"/>
                  <a:pt x="22837" y="9500"/>
                  <a:pt x="22845" y="9500"/>
                </a:cubicBezTo>
              </a:path>
              <a:path w="1514" h="1737">
                <a:moveTo>
                  <a:pt x="21382" y="10939"/>
                </a:moveTo>
                <a:cubicBezTo>
                  <a:pt x="21525" y="10915"/>
                  <a:pt x="21569" y="10909"/>
                  <a:pt x="21654" y="10864"/>
                </a:cubicBezTo>
              </a:path>
              <a:path w="1514" h="1737">
                <a:moveTo>
                  <a:pt x="21654" y="10864"/>
                </a:moveTo>
                <a:lnTo>
                  <a:pt x="21654" y="1086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93960" y="4902120"/>
            <a:ext cx="3990960" cy="54000"/>
          </a:xfrm>
          <a:custGeom>
            <a:avLst/>
            <a:gdLst/>
            <a:ahLst/>
            <a:rect l="l" t="t" r="r" b="b"/>
            <a:pathLst>
              <a:path w="11088" h="150">
                <a:moveTo>
                  <a:pt x="5259" y="13742"/>
                </a:moveTo>
                <a:cubicBezTo>
                  <a:pt x="5430" y="13758"/>
                  <a:pt x="5587" y="13747"/>
                  <a:pt x="5755" y="13742"/>
                </a:cubicBezTo>
                <a:cubicBezTo>
                  <a:pt x="5897" y="13738"/>
                  <a:pt x="6035" y="13729"/>
                  <a:pt x="6176" y="13717"/>
                </a:cubicBezTo>
                <a:cubicBezTo>
                  <a:pt x="6586" y="13683"/>
                  <a:pt x="7006" y="13671"/>
                  <a:pt x="7417" y="13667"/>
                </a:cubicBezTo>
                <a:cubicBezTo>
                  <a:pt x="7775" y="13663"/>
                  <a:pt x="8127" y="13689"/>
                  <a:pt x="8483" y="13692"/>
                </a:cubicBezTo>
                <a:cubicBezTo>
                  <a:pt x="8670" y="13694"/>
                  <a:pt x="8872" y="13721"/>
                  <a:pt x="9054" y="13717"/>
                </a:cubicBezTo>
                <a:cubicBezTo>
                  <a:pt x="9287" y="13712"/>
                  <a:pt x="9514" y="13692"/>
                  <a:pt x="9748" y="13692"/>
                </a:cubicBezTo>
                <a:cubicBezTo>
                  <a:pt x="10114" y="13692"/>
                  <a:pt x="10476" y="13712"/>
                  <a:pt x="10840" y="13717"/>
                </a:cubicBezTo>
                <a:cubicBezTo>
                  <a:pt x="11154" y="13721"/>
                  <a:pt x="11467" y="13692"/>
                  <a:pt x="11782" y="13692"/>
                </a:cubicBezTo>
                <a:cubicBezTo>
                  <a:pt x="12213" y="13692"/>
                  <a:pt x="12642" y="13673"/>
                  <a:pt x="13072" y="13667"/>
                </a:cubicBezTo>
                <a:cubicBezTo>
                  <a:pt x="13395" y="13663"/>
                  <a:pt x="13715" y="13643"/>
                  <a:pt x="14039" y="13643"/>
                </a:cubicBezTo>
                <a:cubicBezTo>
                  <a:pt x="14789" y="13643"/>
                  <a:pt x="15554" y="13676"/>
                  <a:pt x="16297" y="13618"/>
                </a:cubicBezTo>
                <a:cubicBezTo>
                  <a:pt x="16355" y="13614"/>
                  <a:pt x="16284" y="13623"/>
                  <a:pt x="16346" y="136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 Find the area of the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 Find the area of the squa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 Add the areas toge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657600"/>
            <a:ext cx="1295640" cy="1981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2895480"/>
            <a:ext cx="6858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720" y="5638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22080" y="4572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83480" y="3352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18240" y="2660760"/>
            <a:ext cx="1455840" cy="625320"/>
          </a:xfrm>
          <a:custGeom>
            <a:avLst/>
            <a:gdLst/>
            <a:ahLst/>
            <a:rect l="l" t="t" r="r" b="b"/>
            <a:pathLst>
              <a:path w="4044" h="1737">
                <a:moveTo>
                  <a:pt x="24755" y="7466"/>
                </a:moveTo>
                <a:cubicBezTo>
                  <a:pt x="24845" y="7422"/>
                  <a:pt x="24868" y="7409"/>
                  <a:pt x="24929" y="7392"/>
                </a:cubicBezTo>
              </a:path>
              <a:path w="4044" h="1737">
                <a:moveTo>
                  <a:pt x="24929" y="7392"/>
                </a:moveTo>
                <a:lnTo>
                  <a:pt x="24929" y="7392"/>
                </a:lnTo>
              </a:path>
              <a:path w="4044" h="1737">
                <a:moveTo>
                  <a:pt x="20886" y="9128"/>
                </a:moveTo>
                <a:cubicBezTo>
                  <a:pt x="21006" y="9008"/>
                  <a:pt x="21043" y="8970"/>
                  <a:pt x="21134" y="8905"/>
                </a:cubicBezTo>
              </a:path>
              <a:path w="4044" h="1737">
                <a:moveTo>
                  <a:pt x="21282" y="8731"/>
                </a:moveTo>
                <a:cubicBezTo>
                  <a:pt x="21299" y="8731"/>
                  <a:pt x="21315" y="8731"/>
                  <a:pt x="21332" y="8731"/>
                </a:cubicBezTo>
              </a:path>
              <a:path w="4044" h="1737">
                <a:moveTo>
                  <a:pt x="21208" y="9029"/>
                </a:moveTo>
                <a:cubicBezTo>
                  <a:pt x="21299" y="8983"/>
                  <a:pt x="21345" y="8940"/>
                  <a:pt x="21382" y="8855"/>
                </a:cubicBezTo>
              </a:path>
              <a:path w="4044" h="1737">
                <a:moveTo>
                  <a:pt x="21382" y="8855"/>
                </a:moveTo>
                <a:lnTo>
                  <a:pt x="21382" y="885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2040" y="3429000"/>
            <a:ext cx="706320" cy="54000"/>
          </a:xfrm>
          <a:custGeom>
            <a:avLst/>
            <a:gdLst/>
            <a:ahLst/>
            <a:rect l="l" t="t" r="r" b="b"/>
            <a:pathLst>
              <a:path w="1961" h="150">
                <a:moveTo>
                  <a:pt x="14089" y="9550"/>
                </a:moveTo>
                <a:cubicBezTo>
                  <a:pt x="14637" y="9540"/>
                  <a:pt x="15178" y="9602"/>
                  <a:pt x="15726" y="9649"/>
                </a:cubicBezTo>
                <a:cubicBezTo>
                  <a:pt x="15916" y="9668"/>
                  <a:pt x="15941" y="9677"/>
                  <a:pt x="16049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3760" y="2652840"/>
            <a:ext cx="1670040" cy="857160"/>
          </a:xfrm>
          <a:custGeom>
            <a:avLst/>
            <a:gdLst/>
            <a:ahLst/>
            <a:rect l="l" t="t" r="r" b="b"/>
            <a:pathLst>
              <a:path w="4640" h="2382">
                <a:moveTo>
                  <a:pt x="24259" y="7764"/>
                </a:moveTo>
                <a:cubicBezTo>
                  <a:pt x="24314" y="7746"/>
                  <a:pt x="24299" y="7673"/>
                  <a:pt x="24408" y="7665"/>
                </a:cubicBezTo>
                <a:cubicBezTo>
                  <a:pt x="24706" y="7643"/>
                  <a:pt x="24481" y="8061"/>
                  <a:pt x="24408" y="8136"/>
                </a:cubicBezTo>
                <a:cubicBezTo>
                  <a:pt x="24327" y="8196"/>
                  <a:pt x="24315" y="8231"/>
                  <a:pt x="24259" y="8186"/>
                </a:cubicBezTo>
                <a:cubicBezTo>
                  <a:pt x="24332" y="8083"/>
                  <a:pt x="24404" y="7985"/>
                  <a:pt x="24557" y="8037"/>
                </a:cubicBezTo>
                <a:cubicBezTo>
                  <a:pt x="24579" y="8060"/>
                  <a:pt x="24587" y="8071"/>
                  <a:pt x="24581" y="8037"/>
                </a:cubicBezTo>
              </a:path>
              <a:path w="4640" h="2382">
                <a:moveTo>
                  <a:pt x="24681" y="7640"/>
                </a:moveTo>
                <a:cubicBezTo>
                  <a:pt x="24662" y="7766"/>
                  <a:pt x="24832" y="7712"/>
                  <a:pt x="24929" y="7813"/>
                </a:cubicBezTo>
                <a:cubicBezTo>
                  <a:pt x="25055" y="7944"/>
                  <a:pt x="24858" y="7952"/>
                  <a:pt x="24805" y="7962"/>
                </a:cubicBezTo>
              </a:path>
              <a:path w="4640" h="2382">
                <a:moveTo>
                  <a:pt x="20886" y="8880"/>
                </a:moveTo>
                <a:cubicBezTo>
                  <a:pt x="20782" y="8880"/>
                  <a:pt x="20798" y="8857"/>
                  <a:pt x="20811" y="9029"/>
                </a:cubicBezTo>
                <a:cubicBezTo>
                  <a:pt x="20831" y="9169"/>
                  <a:pt x="20840" y="9193"/>
                  <a:pt x="20836" y="9277"/>
                </a:cubicBezTo>
                <a:cubicBezTo>
                  <a:pt x="20830" y="9091"/>
                  <a:pt x="20821" y="8914"/>
                  <a:pt x="20836" y="8731"/>
                </a:cubicBezTo>
                <a:cubicBezTo>
                  <a:pt x="20916" y="8782"/>
                  <a:pt x="21143" y="9002"/>
                  <a:pt x="21109" y="9153"/>
                </a:cubicBezTo>
                <a:cubicBezTo>
                  <a:pt x="21092" y="9153"/>
                  <a:pt x="21076" y="9153"/>
                  <a:pt x="21059" y="9153"/>
                </a:cubicBezTo>
              </a:path>
              <a:path w="4640" h="2382">
                <a:moveTo>
                  <a:pt x="22423" y="8260"/>
                </a:moveTo>
                <a:cubicBezTo>
                  <a:pt x="22493" y="8237"/>
                  <a:pt x="22402" y="8205"/>
                  <a:pt x="22399" y="8210"/>
                </a:cubicBezTo>
                <a:cubicBezTo>
                  <a:pt x="22332" y="8316"/>
                  <a:pt x="22381" y="8447"/>
                  <a:pt x="22399" y="8558"/>
                </a:cubicBezTo>
                <a:cubicBezTo>
                  <a:pt x="22551" y="8487"/>
                  <a:pt x="22439" y="8104"/>
                  <a:pt x="22597" y="8161"/>
                </a:cubicBezTo>
                <a:cubicBezTo>
                  <a:pt x="22646" y="8257"/>
                  <a:pt x="22662" y="8287"/>
                  <a:pt x="22671" y="8359"/>
                </a:cubicBezTo>
                <a:cubicBezTo>
                  <a:pt x="22662" y="8296"/>
                  <a:pt x="22611" y="8116"/>
                  <a:pt x="22771" y="8235"/>
                </a:cubicBezTo>
                <a:cubicBezTo>
                  <a:pt x="22810" y="8295"/>
                  <a:pt x="22813" y="8307"/>
                  <a:pt x="22845" y="8334"/>
                </a:cubicBezTo>
                <a:cubicBezTo>
                  <a:pt x="22800" y="8216"/>
                  <a:pt x="22753" y="8025"/>
                  <a:pt x="22920" y="8235"/>
                </a:cubicBezTo>
                <a:cubicBezTo>
                  <a:pt x="22936" y="8260"/>
                  <a:pt x="22953" y="8285"/>
                  <a:pt x="22969" y="8310"/>
                </a:cubicBezTo>
              </a:path>
              <a:path w="4640" h="2382">
                <a:moveTo>
                  <a:pt x="22820" y="7789"/>
                </a:moveTo>
                <a:cubicBezTo>
                  <a:pt x="22903" y="7747"/>
                  <a:pt x="22920" y="7739"/>
                  <a:pt x="22969" y="7714"/>
                </a:cubicBezTo>
                <a:cubicBezTo>
                  <a:pt x="22963" y="7803"/>
                  <a:pt x="22950" y="7877"/>
                  <a:pt x="22920" y="7962"/>
                </a:cubicBezTo>
                <a:cubicBezTo>
                  <a:pt x="23066" y="7946"/>
                  <a:pt x="23080" y="7875"/>
                  <a:pt x="23168" y="7962"/>
                </a:cubicBezTo>
              </a:path>
              <a:path w="4640" h="2382">
                <a:moveTo>
                  <a:pt x="20513" y="9748"/>
                </a:moveTo>
                <a:cubicBezTo>
                  <a:pt x="20601" y="9642"/>
                  <a:pt x="20707" y="9565"/>
                  <a:pt x="20836" y="9500"/>
                </a:cubicBezTo>
                <a:cubicBezTo>
                  <a:pt x="21218" y="9309"/>
                  <a:pt x="21624" y="9164"/>
                  <a:pt x="22027" y="9029"/>
                </a:cubicBezTo>
                <a:cubicBezTo>
                  <a:pt x="22389" y="8908"/>
                  <a:pt x="22746" y="8764"/>
                  <a:pt x="23093" y="8607"/>
                </a:cubicBezTo>
                <a:cubicBezTo>
                  <a:pt x="23289" y="8518"/>
                  <a:pt x="23522" y="8399"/>
                  <a:pt x="23688" y="8260"/>
                </a:cubicBezTo>
                <a:cubicBezTo>
                  <a:pt x="23807" y="8161"/>
                  <a:pt x="23872" y="8070"/>
                  <a:pt x="23887" y="7913"/>
                </a:cubicBezTo>
                <a:cubicBezTo>
                  <a:pt x="23911" y="7672"/>
                  <a:pt x="23796" y="7704"/>
                  <a:pt x="23614" y="7615"/>
                </a:cubicBezTo>
                <a:cubicBezTo>
                  <a:pt x="23134" y="7381"/>
                  <a:pt x="22630" y="7272"/>
                  <a:pt x="22101" y="7441"/>
                </a:cubicBezTo>
                <a:cubicBezTo>
                  <a:pt x="21659" y="7582"/>
                  <a:pt x="21176" y="7843"/>
                  <a:pt x="20836" y="8161"/>
                </a:cubicBezTo>
                <a:cubicBezTo>
                  <a:pt x="20613" y="8370"/>
                  <a:pt x="20203" y="8796"/>
                  <a:pt x="20315" y="9153"/>
                </a:cubicBezTo>
                <a:cubicBezTo>
                  <a:pt x="20408" y="9450"/>
                  <a:pt x="20825" y="9527"/>
                  <a:pt x="21084" y="9451"/>
                </a:cubicBezTo>
                <a:cubicBezTo>
                  <a:pt x="21142" y="9418"/>
                  <a:pt x="21200" y="9384"/>
                  <a:pt x="21258" y="93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82000" y="2330280"/>
            <a:ext cx="374760" cy="26856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22448" y="6747"/>
                </a:moveTo>
                <a:cubicBezTo>
                  <a:pt x="22448" y="6929"/>
                  <a:pt x="22448" y="6995"/>
                  <a:pt x="22448" y="7119"/>
                </a:cubicBezTo>
                <a:cubicBezTo>
                  <a:pt x="22448" y="7410"/>
                  <a:pt x="22468" y="6678"/>
                  <a:pt x="22473" y="6648"/>
                </a:cubicBezTo>
                <a:cubicBezTo>
                  <a:pt x="22490" y="6590"/>
                  <a:pt x="22506" y="6532"/>
                  <a:pt x="22523" y="6474"/>
                </a:cubicBezTo>
                <a:cubicBezTo>
                  <a:pt x="22728" y="6585"/>
                  <a:pt x="22788" y="6845"/>
                  <a:pt x="22820" y="7094"/>
                </a:cubicBezTo>
                <a:cubicBezTo>
                  <a:pt x="22820" y="7168"/>
                  <a:pt x="22820" y="7226"/>
                  <a:pt x="22820" y="7169"/>
                </a:cubicBezTo>
              </a:path>
              <a:path w="1043" h="745">
                <a:moveTo>
                  <a:pt x="23019" y="6796"/>
                </a:moveTo>
                <a:cubicBezTo>
                  <a:pt x="23031" y="6889"/>
                  <a:pt x="23032" y="7061"/>
                  <a:pt x="23068" y="7144"/>
                </a:cubicBezTo>
                <a:cubicBezTo>
                  <a:pt x="23093" y="7144"/>
                  <a:pt x="23101" y="7144"/>
                  <a:pt x="23093" y="7169"/>
                </a:cubicBezTo>
                <a:cubicBezTo>
                  <a:pt x="23198" y="7129"/>
                  <a:pt x="23410" y="7090"/>
                  <a:pt x="23490" y="7020"/>
                </a:cubicBezTo>
                <a:cubicBezTo>
                  <a:pt x="23575" y="6946"/>
                  <a:pt x="23435" y="6808"/>
                  <a:pt x="23416" y="6697"/>
                </a:cubicBezTo>
                <a:cubicBezTo>
                  <a:pt x="23424" y="6681"/>
                  <a:pt x="23432" y="6664"/>
                  <a:pt x="23440" y="6648"/>
                </a:cubicBezTo>
                <a:cubicBezTo>
                  <a:pt x="23290" y="6712"/>
                  <a:pt x="23129" y="6783"/>
                  <a:pt x="22969" y="6846"/>
                </a:cubicBezTo>
                <a:cubicBezTo>
                  <a:pt x="22953" y="6854"/>
                  <a:pt x="22936" y="6863"/>
                  <a:pt x="22920" y="68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58080" y="2286000"/>
            <a:ext cx="1089000" cy="723960"/>
          </a:xfrm>
          <a:custGeom>
            <a:avLst/>
            <a:gdLst/>
            <a:ahLst/>
            <a:rect l="l" t="t" r="r" b="b"/>
            <a:pathLst>
              <a:path w="3027" h="2010">
                <a:moveTo>
                  <a:pt x="22473" y="7045"/>
                </a:moveTo>
                <a:cubicBezTo>
                  <a:pt x="22579" y="7000"/>
                  <a:pt x="22685" y="6948"/>
                  <a:pt x="22796" y="6921"/>
                </a:cubicBezTo>
              </a:path>
              <a:path w="3027" h="2010">
                <a:moveTo>
                  <a:pt x="24160" y="6350"/>
                </a:moveTo>
                <a:cubicBezTo>
                  <a:pt x="24160" y="6367"/>
                  <a:pt x="24160" y="6383"/>
                  <a:pt x="24160" y="6400"/>
                </a:cubicBezTo>
              </a:path>
              <a:path w="3027" h="2010">
                <a:moveTo>
                  <a:pt x="24160" y="6400"/>
                </a:moveTo>
                <a:lnTo>
                  <a:pt x="24160" y="6400"/>
                </a:lnTo>
              </a:path>
              <a:path w="3027" h="2010">
                <a:moveTo>
                  <a:pt x="23664" y="7441"/>
                </a:moveTo>
                <a:cubicBezTo>
                  <a:pt x="23773" y="7387"/>
                  <a:pt x="23816" y="7365"/>
                  <a:pt x="23887" y="7317"/>
                </a:cubicBezTo>
              </a:path>
              <a:path w="3027" h="2010">
                <a:moveTo>
                  <a:pt x="24061" y="7119"/>
                </a:moveTo>
                <a:cubicBezTo>
                  <a:pt x="24146" y="7048"/>
                  <a:pt x="24153" y="7032"/>
                  <a:pt x="24259" y="7020"/>
                </a:cubicBezTo>
              </a:path>
              <a:path w="3027" h="2010">
                <a:moveTo>
                  <a:pt x="24259" y="7020"/>
                </a:moveTo>
                <a:lnTo>
                  <a:pt x="24259" y="7020"/>
                </a:lnTo>
              </a:path>
              <a:path w="3027" h="2010">
                <a:moveTo>
                  <a:pt x="24358" y="7119"/>
                </a:moveTo>
                <a:cubicBezTo>
                  <a:pt x="24366" y="7119"/>
                  <a:pt x="24375" y="7119"/>
                  <a:pt x="24383" y="7119"/>
                </a:cubicBezTo>
              </a:path>
              <a:path w="3027" h="2010">
                <a:moveTo>
                  <a:pt x="24557" y="6747"/>
                </a:moveTo>
                <a:cubicBezTo>
                  <a:pt x="24663" y="6673"/>
                  <a:pt x="24732" y="6636"/>
                  <a:pt x="24854" y="6598"/>
                </a:cubicBezTo>
              </a:path>
              <a:path w="3027" h="2010">
                <a:moveTo>
                  <a:pt x="23937" y="7987"/>
                </a:moveTo>
                <a:cubicBezTo>
                  <a:pt x="24019" y="7946"/>
                  <a:pt x="24036" y="7938"/>
                  <a:pt x="24085" y="7913"/>
                </a:cubicBezTo>
              </a:path>
              <a:path w="3027" h="2010">
                <a:moveTo>
                  <a:pt x="23961" y="8161"/>
                </a:moveTo>
                <a:cubicBezTo>
                  <a:pt x="24071" y="8116"/>
                  <a:pt x="24100" y="8108"/>
                  <a:pt x="24160" y="8062"/>
                </a:cubicBezTo>
              </a:path>
              <a:path w="3027" h="2010">
                <a:moveTo>
                  <a:pt x="24160" y="8062"/>
                </a:moveTo>
                <a:lnTo>
                  <a:pt x="24160" y="8062"/>
                </a:lnTo>
              </a:path>
              <a:path w="3027" h="2010">
                <a:moveTo>
                  <a:pt x="21828" y="8359"/>
                </a:moveTo>
                <a:cubicBezTo>
                  <a:pt x="21913" y="8282"/>
                  <a:pt x="21974" y="8240"/>
                  <a:pt x="22076" y="8186"/>
                </a:cubicBezTo>
              </a:path>
              <a:path w="3027" h="2010">
                <a:moveTo>
                  <a:pt x="22076" y="8186"/>
                </a:moveTo>
                <a:lnTo>
                  <a:pt x="22076" y="818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69080" y="3017880"/>
            <a:ext cx="1312920" cy="965160"/>
          </a:xfrm>
          <a:custGeom>
            <a:avLst/>
            <a:gdLst/>
            <a:ahLst/>
            <a:rect l="l" t="t" r="r" b="b"/>
            <a:pathLst>
              <a:path w="3647" h="2680">
                <a:moveTo>
                  <a:pt x="19000" y="10220"/>
                </a:moveTo>
                <a:cubicBezTo>
                  <a:pt x="18961" y="10205"/>
                  <a:pt x="18947" y="10202"/>
                  <a:pt x="18901" y="10195"/>
                </a:cubicBezTo>
                <a:cubicBezTo>
                  <a:pt x="18971" y="10195"/>
                  <a:pt x="18981" y="10157"/>
                  <a:pt x="19050" y="10145"/>
                </a:cubicBezTo>
                <a:cubicBezTo>
                  <a:pt x="19395" y="10084"/>
                  <a:pt x="19792" y="10154"/>
                  <a:pt x="20141" y="10120"/>
                </a:cubicBezTo>
                <a:cubicBezTo>
                  <a:pt x="20208" y="10113"/>
                  <a:pt x="20311" y="10150"/>
                  <a:pt x="20340" y="10145"/>
                </a:cubicBezTo>
                <a:cubicBezTo>
                  <a:pt x="20365" y="10145"/>
                  <a:pt x="20373" y="10145"/>
                  <a:pt x="20365" y="10120"/>
                </a:cubicBezTo>
                <a:cubicBezTo>
                  <a:pt x="20268" y="10184"/>
                  <a:pt x="20208" y="10122"/>
                  <a:pt x="20092" y="10120"/>
                </a:cubicBezTo>
                <a:cubicBezTo>
                  <a:pt x="19942" y="10117"/>
                  <a:pt x="19817" y="10115"/>
                  <a:pt x="19670" y="10120"/>
                </a:cubicBezTo>
                <a:cubicBezTo>
                  <a:pt x="19559" y="10124"/>
                  <a:pt x="19457" y="10141"/>
                  <a:pt x="19348" y="10145"/>
                </a:cubicBezTo>
                <a:cubicBezTo>
                  <a:pt x="19190" y="10151"/>
                  <a:pt x="18969" y="10155"/>
                  <a:pt x="18852" y="10120"/>
                </a:cubicBezTo>
                <a:cubicBezTo>
                  <a:pt x="18844" y="10120"/>
                  <a:pt x="18835" y="10120"/>
                  <a:pt x="18827" y="10120"/>
                </a:cubicBezTo>
              </a:path>
              <a:path w="3647" h="2680">
                <a:moveTo>
                  <a:pt x="18802" y="10616"/>
                </a:moveTo>
                <a:cubicBezTo>
                  <a:pt x="18865" y="10632"/>
                  <a:pt x="18842" y="10620"/>
                  <a:pt x="18901" y="10616"/>
                </a:cubicBezTo>
                <a:cubicBezTo>
                  <a:pt x="19092" y="10602"/>
                  <a:pt x="19290" y="10623"/>
                  <a:pt x="19472" y="10641"/>
                </a:cubicBezTo>
                <a:cubicBezTo>
                  <a:pt x="19737" y="10668"/>
                  <a:pt x="20031" y="10644"/>
                  <a:pt x="20290" y="10616"/>
                </a:cubicBezTo>
                <a:cubicBezTo>
                  <a:pt x="20382" y="10606"/>
                  <a:pt x="20473" y="10595"/>
                  <a:pt x="20563" y="10592"/>
                </a:cubicBezTo>
                <a:cubicBezTo>
                  <a:pt x="20722" y="10587"/>
                  <a:pt x="20877" y="10580"/>
                  <a:pt x="21034" y="10567"/>
                </a:cubicBezTo>
                <a:cubicBezTo>
                  <a:pt x="21116" y="10560"/>
                  <a:pt x="21203" y="10548"/>
                  <a:pt x="21282" y="10542"/>
                </a:cubicBezTo>
                <a:cubicBezTo>
                  <a:pt x="21383" y="10534"/>
                  <a:pt x="21482" y="10528"/>
                  <a:pt x="21580" y="10517"/>
                </a:cubicBezTo>
                <a:cubicBezTo>
                  <a:pt x="21862" y="10486"/>
                  <a:pt x="22163" y="10517"/>
                  <a:pt x="22448" y="10517"/>
                </a:cubicBezTo>
              </a:path>
              <a:path w="3647" h="2680">
                <a:moveTo>
                  <a:pt x="21456" y="9500"/>
                </a:moveTo>
                <a:cubicBezTo>
                  <a:pt x="21447" y="9483"/>
                  <a:pt x="21345" y="9500"/>
                  <a:pt x="21282" y="9500"/>
                </a:cubicBezTo>
                <a:cubicBezTo>
                  <a:pt x="21212" y="9500"/>
                  <a:pt x="21233" y="9626"/>
                  <a:pt x="21233" y="9674"/>
                </a:cubicBezTo>
                <a:cubicBezTo>
                  <a:pt x="21233" y="9682"/>
                  <a:pt x="21233" y="9691"/>
                  <a:pt x="21233" y="9699"/>
                </a:cubicBezTo>
                <a:cubicBezTo>
                  <a:pt x="21302" y="9699"/>
                  <a:pt x="21455" y="9669"/>
                  <a:pt x="21506" y="9723"/>
                </a:cubicBezTo>
                <a:cubicBezTo>
                  <a:pt x="21586" y="9808"/>
                  <a:pt x="21503" y="9887"/>
                  <a:pt x="21431" y="9922"/>
                </a:cubicBezTo>
                <a:cubicBezTo>
                  <a:pt x="21352" y="9960"/>
                  <a:pt x="21332" y="9922"/>
                  <a:pt x="21258" y="9922"/>
                </a:cubicBezTo>
                <a:cubicBezTo>
                  <a:pt x="21233" y="9922"/>
                  <a:pt x="21225" y="9922"/>
                  <a:pt x="21233" y="9897"/>
                </a:cubicBezTo>
              </a:path>
              <a:path w="3647" h="2680">
                <a:moveTo>
                  <a:pt x="21828" y="9748"/>
                </a:moveTo>
                <a:cubicBezTo>
                  <a:pt x="21828" y="9694"/>
                  <a:pt x="21816" y="9712"/>
                  <a:pt x="21803" y="9674"/>
                </a:cubicBezTo>
                <a:cubicBezTo>
                  <a:pt x="21759" y="9764"/>
                  <a:pt x="21729" y="9822"/>
                  <a:pt x="21729" y="9922"/>
                </a:cubicBezTo>
                <a:cubicBezTo>
                  <a:pt x="21845" y="9902"/>
                  <a:pt x="21851" y="9891"/>
                  <a:pt x="21927" y="9798"/>
                </a:cubicBezTo>
                <a:cubicBezTo>
                  <a:pt x="21927" y="9747"/>
                  <a:pt x="21942" y="9847"/>
                  <a:pt x="21952" y="9897"/>
                </a:cubicBezTo>
                <a:cubicBezTo>
                  <a:pt x="21952" y="9905"/>
                  <a:pt x="21952" y="9914"/>
                  <a:pt x="21952" y="9922"/>
                </a:cubicBezTo>
                <a:cubicBezTo>
                  <a:pt x="21960" y="9882"/>
                  <a:pt x="21990" y="9739"/>
                  <a:pt x="22051" y="9773"/>
                </a:cubicBezTo>
                <a:cubicBezTo>
                  <a:pt x="22093" y="9815"/>
                  <a:pt x="22100" y="9823"/>
                  <a:pt x="22126" y="9847"/>
                </a:cubicBezTo>
                <a:cubicBezTo>
                  <a:pt x="22126" y="9902"/>
                  <a:pt x="22133" y="9769"/>
                  <a:pt x="22151" y="9748"/>
                </a:cubicBezTo>
                <a:cubicBezTo>
                  <a:pt x="22248" y="9635"/>
                  <a:pt x="22303" y="9786"/>
                  <a:pt x="22324" y="9872"/>
                </a:cubicBezTo>
                <a:cubicBezTo>
                  <a:pt x="22324" y="9914"/>
                  <a:pt x="22324" y="9922"/>
                  <a:pt x="22324" y="9947"/>
                </a:cubicBezTo>
              </a:path>
              <a:path w="3647" h="2680">
                <a:moveTo>
                  <a:pt x="20563" y="10740"/>
                </a:moveTo>
                <a:cubicBezTo>
                  <a:pt x="20580" y="10740"/>
                  <a:pt x="20596" y="10740"/>
                  <a:pt x="20613" y="10740"/>
                </a:cubicBezTo>
                <a:cubicBezTo>
                  <a:pt x="20590" y="10651"/>
                  <a:pt x="20513" y="10672"/>
                  <a:pt x="20439" y="10691"/>
                </a:cubicBezTo>
                <a:cubicBezTo>
                  <a:pt x="20370" y="10709"/>
                  <a:pt x="20359" y="10721"/>
                  <a:pt x="20315" y="10765"/>
                </a:cubicBezTo>
                <a:cubicBezTo>
                  <a:pt x="20351" y="10862"/>
                  <a:pt x="20458" y="10898"/>
                  <a:pt x="20563" y="10939"/>
                </a:cubicBezTo>
                <a:cubicBezTo>
                  <a:pt x="20606" y="10939"/>
                  <a:pt x="20620" y="10956"/>
                  <a:pt x="20613" y="11013"/>
                </a:cubicBezTo>
                <a:cubicBezTo>
                  <a:pt x="20573" y="11053"/>
                  <a:pt x="20528" y="11088"/>
                  <a:pt x="20464" y="11063"/>
                </a:cubicBezTo>
                <a:cubicBezTo>
                  <a:pt x="20380" y="11030"/>
                  <a:pt x="20463" y="10957"/>
                  <a:pt x="20489" y="10939"/>
                </a:cubicBezTo>
                <a:cubicBezTo>
                  <a:pt x="20556" y="10894"/>
                  <a:pt x="20576" y="10862"/>
                  <a:pt x="20638" y="10815"/>
                </a:cubicBezTo>
                <a:cubicBezTo>
                  <a:pt x="20681" y="10783"/>
                  <a:pt x="20678" y="10764"/>
                  <a:pt x="20662" y="10740"/>
                </a:cubicBezTo>
              </a:path>
              <a:path w="3647" h="2680">
                <a:moveTo>
                  <a:pt x="21506" y="8607"/>
                </a:moveTo>
                <a:cubicBezTo>
                  <a:pt x="21506" y="8555"/>
                  <a:pt x="21525" y="8528"/>
                  <a:pt x="21580" y="8508"/>
                </a:cubicBezTo>
                <a:cubicBezTo>
                  <a:pt x="21797" y="8611"/>
                  <a:pt x="21899" y="8767"/>
                  <a:pt x="21679" y="8979"/>
                </a:cubicBezTo>
                <a:cubicBezTo>
                  <a:pt x="21654" y="8987"/>
                  <a:pt x="21630" y="8996"/>
                  <a:pt x="21605" y="9004"/>
                </a:cubicBezTo>
                <a:cubicBezTo>
                  <a:pt x="21536" y="8781"/>
                  <a:pt x="21682" y="8812"/>
                  <a:pt x="21878" y="8830"/>
                </a:cubicBezTo>
              </a:path>
              <a:path w="3647" h="2680">
                <a:moveTo>
                  <a:pt x="21853" y="8384"/>
                </a:moveTo>
                <a:cubicBezTo>
                  <a:pt x="21869" y="8571"/>
                  <a:pt x="21879" y="8520"/>
                  <a:pt x="22051" y="8508"/>
                </a:cubicBezTo>
                <a:cubicBezTo>
                  <a:pt x="22300" y="8490"/>
                  <a:pt x="22122" y="8613"/>
                  <a:pt x="22027" y="86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528040" y="2125800"/>
            <a:ext cx="393840" cy="544320"/>
          </a:xfrm>
          <a:custGeom>
            <a:avLst/>
            <a:gdLst/>
            <a:ahLst/>
            <a:rect l="l" t="t" r="r" b="b"/>
            <a:pathLst>
              <a:path w="1093" h="1514">
                <a:moveTo>
                  <a:pt x="24036" y="6102"/>
                </a:moveTo>
                <a:cubicBezTo>
                  <a:pt x="23978" y="6121"/>
                  <a:pt x="24056" y="6511"/>
                  <a:pt x="24061" y="6548"/>
                </a:cubicBezTo>
                <a:cubicBezTo>
                  <a:pt x="24080" y="6649"/>
                  <a:pt x="24078" y="6711"/>
                  <a:pt x="24110" y="6623"/>
                </a:cubicBezTo>
              </a:path>
              <a:path w="1093" h="1514">
                <a:moveTo>
                  <a:pt x="24259" y="6052"/>
                </a:moveTo>
                <a:cubicBezTo>
                  <a:pt x="24298" y="6132"/>
                  <a:pt x="24324" y="6215"/>
                  <a:pt x="24358" y="6300"/>
                </a:cubicBezTo>
                <a:cubicBezTo>
                  <a:pt x="24366" y="6308"/>
                  <a:pt x="24375" y="6317"/>
                  <a:pt x="24383" y="6325"/>
                </a:cubicBezTo>
                <a:cubicBezTo>
                  <a:pt x="24487" y="6238"/>
                  <a:pt x="24537" y="6192"/>
                  <a:pt x="24557" y="6052"/>
                </a:cubicBezTo>
                <a:cubicBezTo>
                  <a:pt x="24562" y="6086"/>
                  <a:pt x="24579" y="6225"/>
                  <a:pt x="24656" y="6176"/>
                </a:cubicBezTo>
                <a:cubicBezTo>
                  <a:pt x="24834" y="6063"/>
                  <a:pt x="24789" y="5929"/>
                  <a:pt x="24631" y="5928"/>
                </a:cubicBezTo>
              </a:path>
              <a:path w="1093" h="1514">
                <a:moveTo>
                  <a:pt x="23688" y="7218"/>
                </a:moveTo>
                <a:cubicBezTo>
                  <a:pt x="23759" y="7189"/>
                  <a:pt x="23833" y="7140"/>
                  <a:pt x="23862" y="7169"/>
                </a:cubicBezTo>
              </a:path>
              <a:path w="1093" h="1514">
                <a:moveTo>
                  <a:pt x="24085" y="7119"/>
                </a:moveTo>
                <a:cubicBezTo>
                  <a:pt x="24085" y="7247"/>
                  <a:pt x="24105" y="7179"/>
                  <a:pt x="24209" y="7243"/>
                </a:cubicBezTo>
                <a:cubicBezTo>
                  <a:pt x="24308" y="7304"/>
                  <a:pt x="24225" y="7456"/>
                  <a:pt x="24110" y="7417"/>
                </a:cubicBezTo>
                <a:cubicBezTo>
                  <a:pt x="24077" y="7384"/>
                  <a:pt x="24044" y="7350"/>
                  <a:pt x="24011" y="7317"/>
                </a:cubicBezTo>
              </a:path>
              <a:path w="1093" h="1514">
                <a:moveTo>
                  <a:pt x="24532" y="6821"/>
                </a:moveTo>
                <a:cubicBezTo>
                  <a:pt x="24531" y="6979"/>
                  <a:pt x="24691" y="6812"/>
                  <a:pt x="24780" y="6945"/>
                </a:cubicBezTo>
                <a:cubicBezTo>
                  <a:pt x="24862" y="7067"/>
                  <a:pt x="24678" y="7084"/>
                  <a:pt x="24631" y="70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54920" y="4037040"/>
            <a:ext cx="1803240" cy="990720"/>
          </a:xfrm>
          <a:custGeom>
            <a:avLst/>
            <a:gdLst/>
            <a:ahLst/>
            <a:rect l="l" t="t" r="r" b="b"/>
            <a:pathLst>
              <a:path w="5011" h="2754">
                <a:moveTo>
                  <a:pt x="22944" y="11708"/>
                </a:moveTo>
                <a:cubicBezTo>
                  <a:pt x="23107" y="11626"/>
                  <a:pt x="23170" y="11596"/>
                  <a:pt x="23292" y="11559"/>
                </a:cubicBezTo>
              </a:path>
              <a:path w="5011" h="2754">
                <a:moveTo>
                  <a:pt x="24581" y="11212"/>
                </a:moveTo>
                <a:cubicBezTo>
                  <a:pt x="24603" y="11234"/>
                  <a:pt x="24612" y="11239"/>
                  <a:pt x="24606" y="11261"/>
                </a:cubicBezTo>
              </a:path>
              <a:path w="5011" h="2754">
                <a:moveTo>
                  <a:pt x="19596" y="13965"/>
                </a:moveTo>
                <a:cubicBezTo>
                  <a:pt x="19733" y="13812"/>
                  <a:pt x="19879" y="13694"/>
                  <a:pt x="20042" y="13568"/>
                </a:cubicBezTo>
              </a:path>
              <a:path w="5011" h="2754">
                <a:moveTo>
                  <a:pt x="20092" y="13469"/>
                </a:moveTo>
                <a:cubicBezTo>
                  <a:pt x="20183" y="13385"/>
                  <a:pt x="20286" y="13249"/>
                  <a:pt x="20340" y="13320"/>
                </a:cubicBezTo>
              </a:path>
              <a:path w="5011" h="2754">
                <a:moveTo>
                  <a:pt x="20141" y="13692"/>
                </a:moveTo>
                <a:cubicBezTo>
                  <a:pt x="20315" y="13585"/>
                  <a:pt x="20312" y="13565"/>
                  <a:pt x="20389" y="133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96080" y="3633840"/>
            <a:ext cx="1990800" cy="1706400"/>
          </a:xfrm>
          <a:custGeom>
            <a:avLst/>
            <a:gdLst/>
            <a:ahLst/>
            <a:rect l="l" t="t" r="r" b="b"/>
            <a:pathLst>
              <a:path w="5533" h="4738">
                <a:moveTo>
                  <a:pt x="20638" y="10096"/>
                </a:moveTo>
                <a:cubicBezTo>
                  <a:pt x="20696" y="10096"/>
                  <a:pt x="20704" y="10096"/>
                  <a:pt x="20762" y="10096"/>
                </a:cubicBezTo>
                <a:cubicBezTo>
                  <a:pt x="20849" y="10096"/>
                  <a:pt x="20924" y="10116"/>
                  <a:pt x="21010" y="10120"/>
                </a:cubicBezTo>
                <a:cubicBezTo>
                  <a:pt x="21146" y="10126"/>
                  <a:pt x="21278" y="10111"/>
                  <a:pt x="21406" y="10096"/>
                </a:cubicBezTo>
                <a:cubicBezTo>
                  <a:pt x="21662" y="10065"/>
                  <a:pt x="22010" y="10073"/>
                  <a:pt x="22250" y="10120"/>
                </a:cubicBezTo>
                <a:cubicBezTo>
                  <a:pt x="22304" y="10131"/>
                  <a:pt x="22358" y="10103"/>
                  <a:pt x="22399" y="10096"/>
                </a:cubicBezTo>
                <a:cubicBezTo>
                  <a:pt x="22425" y="10091"/>
                  <a:pt x="22574" y="10090"/>
                  <a:pt x="22547" y="10120"/>
                </a:cubicBezTo>
                <a:cubicBezTo>
                  <a:pt x="22522" y="10128"/>
                  <a:pt x="22498" y="10137"/>
                  <a:pt x="22473" y="10145"/>
                </a:cubicBezTo>
              </a:path>
              <a:path w="5533" h="4738">
                <a:moveTo>
                  <a:pt x="22895" y="11237"/>
                </a:moveTo>
                <a:cubicBezTo>
                  <a:pt x="22998" y="11029"/>
                  <a:pt x="22905" y="11641"/>
                  <a:pt x="22895" y="11782"/>
                </a:cubicBezTo>
                <a:cubicBezTo>
                  <a:pt x="22895" y="11790"/>
                  <a:pt x="22895" y="11799"/>
                  <a:pt x="22895" y="11807"/>
                </a:cubicBezTo>
                <a:cubicBezTo>
                  <a:pt x="22895" y="11558"/>
                  <a:pt x="22839" y="11214"/>
                  <a:pt x="23019" y="11013"/>
                </a:cubicBezTo>
                <a:cubicBezTo>
                  <a:pt x="23044" y="11013"/>
                  <a:pt x="23068" y="11013"/>
                  <a:pt x="23093" y="11013"/>
                </a:cubicBezTo>
                <a:cubicBezTo>
                  <a:pt x="23171" y="11170"/>
                  <a:pt x="23480" y="11625"/>
                  <a:pt x="23341" y="11807"/>
                </a:cubicBezTo>
                <a:cubicBezTo>
                  <a:pt x="23333" y="11790"/>
                  <a:pt x="23324" y="11774"/>
                  <a:pt x="23316" y="11757"/>
                </a:cubicBezTo>
              </a:path>
              <a:path w="5533" h="4738">
                <a:moveTo>
                  <a:pt x="23540" y="11609"/>
                </a:moveTo>
                <a:cubicBezTo>
                  <a:pt x="23540" y="11758"/>
                  <a:pt x="23540" y="11906"/>
                  <a:pt x="23540" y="12055"/>
                </a:cubicBezTo>
                <a:cubicBezTo>
                  <a:pt x="23696" y="11926"/>
                  <a:pt x="23767" y="11915"/>
                  <a:pt x="23961" y="11931"/>
                </a:cubicBezTo>
                <a:cubicBezTo>
                  <a:pt x="23986" y="11933"/>
                  <a:pt x="24011" y="11931"/>
                  <a:pt x="24036" y="11931"/>
                </a:cubicBezTo>
                <a:cubicBezTo>
                  <a:pt x="24029" y="11845"/>
                  <a:pt x="24044" y="11686"/>
                  <a:pt x="24011" y="11609"/>
                </a:cubicBezTo>
                <a:cubicBezTo>
                  <a:pt x="24003" y="11601"/>
                  <a:pt x="23994" y="11592"/>
                  <a:pt x="23986" y="11584"/>
                </a:cubicBezTo>
                <a:cubicBezTo>
                  <a:pt x="23790" y="11584"/>
                  <a:pt x="23668" y="11615"/>
                  <a:pt x="23490" y="11683"/>
                </a:cubicBezTo>
                <a:cubicBezTo>
                  <a:pt x="23465" y="11683"/>
                  <a:pt x="23457" y="11683"/>
                  <a:pt x="23465" y="11708"/>
                </a:cubicBezTo>
              </a:path>
              <a:path w="5533" h="4738">
                <a:moveTo>
                  <a:pt x="23912" y="11212"/>
                </a:moveTo>
                <a:cubicBezTo>
                  <a:pt x="23955" y="11207"/>
                  <a:pt x="24150" y="11107"/>
                  <a:pt x="24160" y="11112"/>
                </a:cubicBezTo>
                <a:cubicBezTo>
                  <a:pt x="24160" y="11129"/>
                  <a:pt x="24160" y="11145"/>
                  <a:pt x="24160" y="11162"/>
                </a:cubicBezTo>
              </a:path>
              <a:path w="5533" h="4738">
                <a:moveTo>
                  <a:pt x="24011" y="11435"/>
                </a:moveTo>
                <a:cubicBezTo>
                  <a:pt x="24101" y="11390"/>
                  <a:pt x="24158" y="11351"/>
                  <a:pt x="24234" y="11286"/>
                </a:cubicBezTo>
              </a:path>
              <a:path w="5533" h="4738">
                <a:moveTo>
                  <a:pt x="24309" y="10840"/>
                </a:moveTo>
                <a:cubicBezTo>
                  <a:pt x="24339" y="11064"/>
                  <a:pt x="24363" y="11288"/>
                  <a:pt x="24408" y="11509"/>
                </a:cubicBezTo>
              </a:path>
              <a:path w="5533" h="4738">
                <a:moveTo>
                  <a:pt x="19472" y="13419"/>
                </a:moveTo>
                <a:cubicBezTo>
                  <a:pt x="19531" y="13707"/>
                  <a:pt x="19546" y="13970"/>
                  <a:pt x="19546" y="14263"/>
                </a:cubicBezTo>
                <a:cubicBezTo>
                  <a:pt x="19510" y="13901"/>
                  <a:pt x="19491" y="13559"/>
                  <a:pt x="19521" y="13196"/>
                </a:cubicBezTo>
                <a:cubicBezTo>
                  <a:pt x="19799" y="13381"/>
                  <a:pt x="19848" y="13645"/>
                  <a:pt x="19918" y="13965"/>
                </a:cubicBezTo>
                <a:cubicBezTo>
                  <a:pt x="19926" y="14015"/>
                  <a:pt x="19935" y="14064"/>
                  <a:pt x="19943" y="14114"/>
                </a:cubicBezTo>
              </a:path>
              <a:path w="5533" h="4738">
                <a:moveTo>
                  <a:pt x="20687" y="12576"/>
                </a:moveTo>
                <a:cubicBezTo>
                  <a:pt x="20650" y="12466"/>
                  <a:pt x="20477" y="12704"/>
                  <a:pt x="20464" y="12725"/>
                </a:cubicBezTo>
                <a:cubicBezTo>
                  <a:pt x="20447" y="12766"/>
                  <a:pt x="20431" y="12808"/>
                  <a:pt x="20414" y="12849"/>
                </a:cubicBezTo>
                <a:cubicBezTo>
                  <a:pt x="20572" y="12984"/>
                  <a:pt x="20880" y="12977"/>
                  <a:pt x="20886" y="13221"/>
                </a:cubicBezTo>
                <a:cubicBezTo>
                  <a:pt x="20869" y="13254"/>
                  <a:pt x="20853" y="13287"/>
                  <a:pt x="20836" y="13320"/>
                </a:cubicBezTo>
                <a:cubicBezTo>
                  <a:pt x="20607" y="13172"/>
                  <a:pt x="20687" y="12985"/>
                  <a:pt x="20712" y="12725"/>
                </a:cubicBezTo>
                <a:cubicBezTo>
                  <a:pt x="20712" y="12692"/>
                  <a:pt x="20712" y="12659"/>
                  <a:pt x="20712" y="12626"/>
                </a:cubicBezTo>
              </a:path>
              <a:path w="5533" h="4738">
                <a:moveTo>
                  <a:pt x="21010" y="12229"/>
                </a:moveTo>
                <a:cubicBezTo>
                  <a:pt x="20899" y="12494"/>
                  <a:pt x="20869" y="12555"/>
                  <a:pt x="21134" y="12700"/>
                </a:cubicBezTo>
                <a:cubicBezTo>
                  <a:pt x="21340" y="12813"/>
                  <a:pt x="21335" y="12808"/>
                  <a:pt x="21258" y="12998"/>
                </a:cubicBezTo>
                <a:cubicBezTo>
                  <a:pt x="20997" y="12941"/>
                  <a:pt x="21142" y="12657"/>
                  <a:pt x="21134" y="12402"/>
                </a:cubicBezTo>
                <a:cubicBezTo>
                  <a:pt x="21116" y="12295"/>
                  <a:pt x="21108" y="12287"/>
                  <a:pt x="21109" y="12229"/>
                </a:cubicBezTo>
              </a:path>
              <a:path w="5533" h="4738">
                <a:moveTo>
                  <a:pt x="21431" y="12254"/>
                </a:moveTo>
                <a:cubicBezTo>
                  <a:pt x="21448" y="12262"/>
                  <a:pt x="21464" y="12270"/>
                  <a:pt x="21481" y="12278"/>
                </a:cubicBezTo>
                <a:cubicBezTo>
                  <a:pt x="21474" y="12250"/>
                  <a:pt x="21431" y="12187"/>
                  <a:pt x="21406" y="12254"/>
                </a:cubicBezTo>
                <a:cubicBezTo>
                  <a:pt x="21363" y="12370"/>
                  <a:pt x="21375" y="12845"/>
                  <a:pt x="21630" y="12650"/>
                </a:cubicBezTo>
                <a:cubicBezTo>
                  <a:pt x="21738" y="12489"/>
                  <a:pt x="21771" y="12425"/>
                  <a:pt x="21729" y="12278"/>
                </a:cubicBezTo>
              </a:path>
              <a:path w="5533" h="4738">
                <a:moveTo>
                  <a:pt x="21704" y="12129"/>
                </a:moveTo>
                <a:cubicBezTo>
                  <a:pt x="21750" y="12212"/>
                  <a:pt x="21788" y="12311"/>
                  <a:pt x="21828" y="12402"/>
                </a:cubicBezTo>
                <a:cubicBezTo>
                  <a:pt x="21828" y="12487"/>
                  <a:pt x="21789" y="12288"/>
                  <a:pt x="21779" y="12204"/>
                </a:cubicBezTo>
                <a:cubicBezTo>
                  <a:pt x="21757" y="12015"/>
                  <a:pt x="21980" y="12327"/>
                  <a:pt x="22027" y="12378"/>
                </a:cubicBezTo>
                <a:cubicBezTo>
                  <a:pt x="21998" y="12231"/>
                  <a:pt x="21907" y="12118"/>
                  <a:pt x="21903" y="11956"/>
                </a:cubicBezTo>
                <a:cubicBezTo>
                  <a:pt x="21911" y="11923"/>
                  <a:pt x="21919" y="11890"/>
                  <a:pt x="21927" y="11857"/>
                </a:cubicBezTo>
                <a:cubicBezTo>
                  <a:pt x="22056" y="11930"/>
                  <a:pt x="22133" y="12311"/>
                  <a:pt x="22200" y="12179"/>
                </a:cubicBezTo>
                <a:cubicBezTo>
                  <a:pt x="22200" y="12154"/>
                  <a:pt x="22200" y="12130"/>
                  <a:pt x="22200" y="12105"/>
                </a:cubicBezTo>
              </a:path>
              <a:path w="5533" h="4738">
                <a:moveTo>
                  <a:pt x="21779" y="11410"/>
                </a:moveTo>
                <a:cubicBezTo>
                  <a:pt x="21842" y="11325"/>
                  <a:pt x="21855" y="11305"/>
                  <a:pt x="21903" y="11261"/>
                </a:cubicBezTo>
                <a:cubicBezTo>
                  <a:pt x="21995" y="11393"/>
                  <a:pt x="21973" y="11458"/>
                  <a:pt x="21952" y="11609"/>
                </a:cubicBezTo>
                <a:cubicBezTo>
                  <a:pt x="21941" y="11689"/>
                  <a:pt x="22062" y="11559"/>
                  <a:pt x="22126" y="11509"/>
                </a:cubicBezTo>
              </a:path>
              <a:path w="5533" h="4738">
                <a:moveTo>
                  <a:pt x="19422" y="14660"/>
                </a:moveTo>
                <a:cubicBezTo>
                  <a:pt x="19550" y="14588"/>
                  <a:pt x="19689" y="14513"/>
                  <a:pt x="19819" y="14436"/>
                </a:cubicBezTo>
                <a:cubicBezTo>
                  <a:pt x="20116" y="14260"/>
                  <a:pt x="20403" y="14062"/>
                  <a:pt x="20687" y="13866"/>
                </a:cubicBezTo>
                <a:cubicBezTo>
                  <a:pt x="20875" y="13736"/>
                  <a:pt x="21047" y="13601"/>
                  <a:pt x="21233" y="13469"/>
                </a:cubicBezTo>
                <a:cubicBezTo>
                  <a:pt x="21361" y="13378"/>
                  <a:pt x="21501" y="13308"/>
                  <a:pt x="21630" y="13221"/>
                </a:cubicBezTo>
                <a:cubicBezTo>
                  <a:pt x="21773" y="13124"/>
                  <a:pt x="21883" y="12991"/>
                  <a:pt x="22027" y="12898"/>
                </a:cubicBezTo>
                <a:cubicBezTo>
                  <a:pt x="22154" y="12816"/>
                  <a:pt x="22278" y="12741"/>
                  <a:pt x="22399" y="12650"/>
                </a:cubicBezTo>
                <a:cubicBezTo>
                  <a:pt x="22477" y="12591"/>
                  <a:pt x="22514" y="12546"/>
                  <a:pt x="22547" y="12452"/>
                </a:cubicBezTo>
                <a:cubicBezTo>
                  <a:pt x="22571" y="12384"/>
                  <a:pt x="22577" y="12278"/>
                  <a:pt x="22572" y="12204"/>
                </a:cubicBezTo>
                <a:cubicBezTo>
                  <a:pt x="22565" y="12113"/>
                  <a:pt x="22544" y="12017"/>
                  <a:pt x="22523" y="11931"/>
                </a:cubicBezTo>
                <a:cubicBezTo>
                  <a:pt x="22491" y="11801"/>
                  <a:pt x="22431" y="11678"/>
                  <a:pt x="22374" y="11559"/>
                </a:cubicBezTo>
                <a:cubicBezTo>
                  <a:pt x="22322" y="11452"/>
                  <a:pt x="22293" y="11347"/>
                  <a:pt x="22250" y="11237"/>
                </a:cubicBezTo>
                <a:cubicBezTo>
                  <a:pt x="22226" y="11176"/>
                  <a:pt x="22180" y="11072"/>
                  <a:pt x="22151" y="11038"/>
                </a:cubicBezTo>
                <a:cubicBezTo>
                  <a:pt x="22091" y="10967"/>
                  <a:pt x="22054" y="10933"/>
                  <a:pt x="21952" y="10914"/>
                </a:cubicBezTo>
                <a:cubicBezTo>
                  <a:pt x="21801" y="10886"/>
                  <a:pt x="21623" y="10944"/>
                  <a:pt x="21481" y="10988"/>
                </a:cubicBezTo>
                <a:cubicBezTo>
                  <a:pt x="21185" y="11080"/>
                  <a:pt x="21075" y="11311"/>
                  <a:pt x="20836" y="11485"/>
                </a:cubicBezTo>
                <a:cubicBezTo>
                  <a:pt x="20672" y="11605"/>
                  <a:pt x="20519" y="11707"/>
                  <a:pt x="20340" y="11807"/>
                </a:cubicBezTo>
                <a:cubicBezTo>
                  <a:pt x="20163" y="11906"/>
                  <a:pt x="19974" y="12022"/>
                  <a:pt x="19819" y="12154"/>
                </a:cubicBezTo>
                <a:cubicBezTo>
                  <a:pt x="19635" y="12311"/>
                  <a:pt x="19501" y="12513"/>
                  <a:pt x="19323" y="12675"/>
                </a:cubicBezTo>
                <a:cubicBezTo>
                  <a:pt x="19158" y="12825"/>
                  <a:pt x="19062" y="12965"/>
                  <a:pt x="18976" y="13171"/>
                </a:cubicBezTo>
                <a:cubicBezTo>
                  <a:pt x="18914" y="13321"/>
                  <a:pt x="18873" y="13480"/>
                  <a:pt x="18876" y="13643"/>
                </a:cubicBezTo>
                <a:cubicBezTo>
                  <a:pt x="18882" y="13980"/>
                  <a:pt x="19065" y="14248"/>
                  <a:pt x="19248" y="14511"/>
                </a:cubicBezTo>
                <a:cubicBezTo>
                  <a:pt x="19286" y="14566"/>
                  <a:pt x="19379" y="14782"/>
                  <a:pt x="19422" y="14808"/>
                </a:cubicBezTo>
                <a:cubicBezTo>
                  <a:pt x="19583" y="14905"/>
                  <a:pt x="19851" y="14751"/>
                  <a:pt x="19993" y="14684"/>
                </a:cubicBezTo>
                <a:cubicBezTo>
                  <a:pt x="20044" y="14660"/>
                  <a:pt x="20116" y="14611"/>
                  <a:pt x="20166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28040" y="3795840"/>
            <a:ext cx="571680" cy="982440"/>
          </a:xfrm>
          <a:custGeom>
            <a:avLst/>
            <a:gdLst/>
            <a:ahLst/>
            <a:rect l="l" t="t" r="r" b="b"/>
            <a:pathLst>
              <a:path w="1589" h="2730">
                <a:moveTo>
                  <a:pt x="24705" y="10790"/>
                </a:moveTo>
                <a:cubicBezTo>
                  <a:pt x="24784" y="10816"/>
                  <a:pt x="24744" y="11019"/>
                  <a:pt x="24755" y="11088"/>
                </a:cubicBezTo>
                <a:cubicBezTo>
                  <a:pt x="24778" y="11155"/>
                  <a:pt x="24779" y="11183"/>
                  <a:pt x="24829" y="11137"/>
                </a:cubicBezTo>
                <a:cubicBezTo>
                  <a:pt x="24945" y="10996"/>
                  <a:pt x="25007" y="10902"/>
                  <a:pt x="25028" y="10716"/>
                </a:cubicBezTo>
                <a:cubicBezTo>
                  <a:pt x="25011" y="10801"/>
                  <a:pt x="24943" y="10946"/>
                  <a:pt x="25078" y="10988"/>
                </a:cubicBezTo>
                <a:cubicBezTo>
                  <a:pt x="25278" y="11051"/>
                  <a:pt x="25338" y="10632"/>
                  <a:pt x="25202" y="10542"/>
                </a:cubicBezTo>
                <a:cubicBezTo>
                  <a:pt x="25055" y="10542"/>
                  <a:pt x="25006" y="10541"/>
                  <a:pt x="24929" y="10616"/>
                </a:cubicBezTo>
              </a:path>
              <a:path w="1589" h="2730">
                <a:moveTo>
                  <a:pt x="24234" y="12105"/>
                </a:moveTo>
                <a:cubicBezTo>
                  <a:pt x="24090" y="12134"/>
                  <a:pt x="24029" y="12174"/>
                  <a:pt x="23986" y="12303"/>
                </a:cubicBezTo>
                <a:cubicBezTo>
                  <a:pt x="24096" y="12342"/>
                  <a:pt x="24338" y="12383"/>
                  <a:pt x="24284" y="12551"/>
                </a:cubicBezTo>
                <a:cubicBezTo>
                  <a:pt x="24219" y="12637"/>
                  <a:pt x="24211" y="12670"/>
                  <a:pt x="24135" y="12650"/>
                </a:cubicBezTo>
                <a:cubicBezTo>
                  <a:pt x="24117" y="12487"/>
                  <a:pt x="24137" y="12333"/>
                  <a:pt x="24209" y="12179"/>
                </a:cubicBezTo>
                <a:cubicBezTo>
                  <a:pt x="24252" y="12087"/>
                  <a:pt x="24286" y="12105"/>
                  <a:pt x="24209" y="12105"/>
                </a:cubicBezTo>
              </a:path>
              <a:path w="1589" h="2730">
                <a:moveTo>
                  <a:pt x="24507" y="12254"/>
                </a:moveTo>
                <a:cubicBezTo>
                  <a:pt x="24528" y="12280"/>
                  <a:pt x="24590" y="12394"/>
                  <a:pt x="24532" y="12278"/>
                </a:cubicBezTo>
              </a:path>
              <a:path w="1589" h="2730">
                <a:moveTo>
                  <a:pt x="24854" y="11956"/>
                </a:moveTo>
                <a:cubicBezTo>
                  <a:pt x="24826" y="11919"/>
                  <a:pt x="24839" y="11893"/>
                  <a:pt x="24805" y="11881"/>
                </a:cubicBezTo>
                <a:cubicBezTo>
                  <a:pt x="24805" y="12031"/>
                  <a:pt x="24844" y="12177"/>
                  <a:pt x="24829" y="12328"/>
                </a:cubicBezTo>
                <a:cubicBezTo>
                  <a:pt x="24821" y="12345"/>
                  <a:pt x="24813" y="12361"/>
                  <a:pt x="24805" y="12378"/>
                </a:cubicBezTo>
              </a:path>
              <a:path w="1589" h="2730">
                <a:moveTo>
                  <a:pt x="25003" y="11708"/>
                </a:moveTo>
                <a:cubicBezTo>
                  <a:pt x="25116" y="11835"/>
                  <a:pt x="25100" y="11962"/>
                  <a:pt x="25127" y="12129"/>
                </a:cubicBezTo>
                <a:cubicBezTo>
                  <a:pt x="25138" y="12199"/>
                  <a:pt x="25152" y="12219"/>
                  <a:pt x="25152" y="12278"/>
                </a:cubicBezTo>
              </a:path>
              <a:path w="1589" h="2730">
                <a:moveTo>
                  <a:pt x="23688" y="13221"/>
                </a:moveTo>
                <a:cubicBezTo>
                  <a:pt x="23787" y="13159"/>
                  <a:pt x="23896" y="13118"/>
                  <a:pt x="24011" y="13097"/>
                </a:cubicBezTo>
              </a:path>
              <a:path w="1589" h="2730">
                <a:moveTo>
                  <a:pt x="24333" y="12824"/>
                </a:moveTo>
                <a:cubicBezTo>
                  <a:pt x="24234" y="12896"/>
                  <a:pt x="24216" y="12910"/>
                  <a:pt x="24160" y="13022"/>
                </a:cubicBezTo>
                <a:cubicBezTo>
                  <a:pt x="24239" y="13084"/>
                  <a:pt x="24397" y="13105"/>
                  <a:pt x="24408" y="13221"/>
                </a:cubicBezTo>
                <a:cubicBezTo>
                  <a:pt x="24400" y="13238"/>
                  <a:pt x="24391" y="13254"/>
                  <a:pt x="24383" y="13271"/>
                </a:cubicBezTo>
                <a:cubicBezTo>
                  <a:pt x="24268" y="13242"/>
                  <a:pt x="24226" y="13145"/>
                  <a:pt x="24284" y="13022"/>
                </a:cubicBezTo>
                <a:cubicBezTo>
                  <a:pt x="24347" y="12937"/>
                  <a:pt x="24359" y="12917"/>
                  <a:pt x="24408" y="12874"/>
                </a:cubicBezTo>
              </a:path>
              <a:path w="1589" h="2730">
                <a:moveTo>
                  <a:pt x="24705" y="12650"/>
                </a:moveTo>
                <a:cubicBezTo>
                  <a:pt x="24642" y="12724"/>
                  <a:pt x="24604" y="12790"/>
                  <a:pt x="24557" y="12874"/>
                </a:cubicBezTo>
                <a:cubicBezTo>
                  <a:pt x="24602" y="12963"/>
                  <a:pt x="24770" y="12958"/>
                  <a:pt x="24829" y="13047"/>
                </a:cubicBezTo>
                <a:cubicBezTo>
                  <a:pt x="24851" y="13155"/>
                  <a:pt x="24864" y="13182"/>
                  <a:pt x="24829" y="13246"/>
                </a:cubicBezTo>
                <a:cubicBezTo>
                  <a:pt x="24682" y="13153"/>
                  <a:pt x="24741" y="12971"/>
                  <a:pt x="24780" y="12799"/>
                </a:cubicBezTo>
                <a:cubicBezTo>
                  <a:pt x="24806" y="12721"/>
                  <a:pt x="24811" y="12694"/>
                  <a:pt x="24730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72680" y="4776840"/>
            <a:ext cx="80640" cy="46080"/>
          </a:xfrm>
          <a:custGeom>
            <a:avLst/>
            <a:gdLst/>
            <a:ahLst/>
            <a:rect l="l" t="t" r="r" b="b"/>
            <a:pathLst>
              <a:path w="225" h="125">
                <a:moveTo>
                  <a:pt x="23812" y="13395"/>
                </a:moveTo>
                <a:cubicBezTo>
                  <a:pt x="23927" y="13326"/>
                  <a:pt x="23958" y="13306"/>
                  <a:pt x="24036" y="1327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45680" y="4394160"/>
            <a:ext cx="117360" cy="13356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3738" y="12278"/>
                </a:moveTo>
                <a:cubicBezTo>
                  <a:pt x="23855" y="12227"/>
                  <a:pt x="23937" y="12211"/>
                  <a:pt x="24061" y="12229"/>
                </a:cubicBezTo>
              </a:path>
              <a:path w="324" h="373">
                <a:moveTo>
                  <a:pt x="23862" y="12576"/>
                </a:moveTo>
                <a:cubicBezTo>
                  <a:pt x="23972" y="12531"/>
                  <a:pt x="24001" y="12523"/>
                  <a:pt x="24061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09960" y="2313000"/>
            <a:ext cx="5589360" cy="3187800"/>
          </a:xfrm>
          <a:custGeom>
            <a:avLst/>
            <a:gdLst/>
            <a:ahLst/>
            <a:rect l="l" t="t" r="r" b="b"/>
            <a:pathLst>
              <a:path w="15529" h="8857">
                <a:moveTo>
                  <a:pt x="23589" y="6449"/>
                </a:moveTo>
                <a:cubicBezTo>
                  <a:pt x="23679" y="6426"/>
                  <a:pt x="23703" y="6418"/>
                  <a:pt x="23763" y="6424"/>
                </a:cubicBezTo>
              </a:path>
              <a:path w="15529" h="8857">
                <a:moveTo>
                  <a:pt x="23589" y="6722"/>
                </a:moveTo>
                <a:cubicBezTo>
                  <a:pt x="23714" y="6669"/>
                  <a:pt x="23785" y="6614"/>
                  <a:pt x="23887" y="6524"/>
                </a:cubicBezTo>
              </a:path>
              <a:path w="15529" h="8857">
                <a:moveTo>
                  <a:pt x="23887" y="6524"/>
                </a:moveTo>
                <a:lnTo>
                  <a:pt x="23887" y="6524"/>
                </a:lnTo>
              </a:path>
              <a:path w="15529" h="8857">
                <a:moveTo>
                  <a:pt x="8657" y="14585"/>
                </a:moveTo>
                <a:cubicBezTo>
                  <a:pt x="8620" y="14831"/>
                  <a:pt x="8598" y="15055"/>
                  <a:pt x="8508" y="15280"/>
                </a:cubicBezTo>
              </a:path>
              <a:path w="15529" h="8857">
                <a:moveTo>
                  <a:pt x="8359" y="14908"/>
                </a:moveTo>
                <a:cubicBezTo>
                  <a:pt x="8641" y="14872"/>
                  <a:pt x="8920" y="14836"/>
                  <a:pt x="9203" y="14808"/>
                </a:cubicBezTo>
              </a:path>
              <a:path w="15529" h="8857">
                <a:moveTo>
                  <a:pt x="9203" y="14808"/>
                </a:moveTo>
                <a:lnTo>
                  <a:pt x="9203" y="1480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17880" y="5786280"/>
            <a:ext cx="81000" cy="322560"/>
          </a:xfrm>
          <a:custGeom>
            <a:avLst/>
            <a:gdLst/>
            <a:ahLst/>
            <a:rect l="l" t="t" r="r" b="b"/>
            <a:pathLst>
              <a:path w="224" h="894">
                <a:moveTo>
                  <a:pt x="8607" y="16073"/>
                </a:moveTo>
                <a:cubicBezTo>
                  <a:pt x="8549" y="16293"/>
                  <a:pt x="8333" y="16736"/>
                  <a:pt x="8384" y="16966"/>
                </a:cubicBezTo>
                <a:cubicBezTo>
                  <a:pt x="8401" y="16966"/>
                  <a:pt x="8417" y="16966"/>
                  <a:pt x="8434" y="169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5813280"/>
            <a:ext cx="61920" cy="312840"/>
          </a:xfrm>
          <a:custGeom>
            <a:avLst/>
            <a:gdLst/>
            <a:ahLst/>
            <a:rect l="l" t="t" r="r" b="b"/>
            <a:pathLst>
              <a:path w="175" h="869">
                <a:moveTo>
                  <a:pt x="9327" y="16148"/>
                </a:moveTo>
                <a:cubicBezTo>
                  <a:pt x="9280" y="16440"/>
                  <a:pt x="8898" y="17166"/>
                  <a:pt x="9153" y="17016"/>
                </a:cubicBezTo>
                <a:cubicBezTo>
                  <a:pt x="9170" y="16983"/>
                  <a:pt x="9186" y="16950"/>
                  <a:pt x="9203" y="169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44920" y="5732640"/>
            <a:ext cx="1197000" cy="376200"/>
          </a:xfrm>
          <a:custGeom>
            <a:avLst/>
            <a:gdLst/>
            <a:ahLst/>
            <a:rect l="l" t="t" r="r" b="b"/>
            <a:pathLst>
              <a:path w="3325" h="1042">
                <a:moveTo>
                  <a:pt x="9996" y="16272"/>
                </a:moveTo>
                <a:cubicBezTo>
                  <a:pt x="10111" y="16201"/>
                  <a:pt x="10473" y="16036"/>
                  <a:pt x="10542" y="16272"/>
                </a:cubicBezTo>
                <a:cubicBezTo>
                  <a:pt x="10596" y="16455"/>
                  <a:pt x="10184" y="16545"/>
                  <a:pt x="10096" y="16545"/>
                </a:cubicBezTo>
                <a:cubicBezTo>
                  <a:pt x="10363" y="16523"/>
                  <a:pt x="10381" y="16533"/>
                  <a:pt x="10567" y="16694"/>
                </a:cubicBezTo>
                <a:cubicBezTo>
                  <a:pt x="10323" y="16905"/>
                  <a:pt x="10154" y="16977"/>
                  <a:pt x="9847" y="16892"/>
                </a:cubicBezTo>
              </a:path>
              <a:path w="3325" h="1042">
                <a:moveTo>
                  <a:pt x="11237" y="16396"/>
                </a:moveTo>
                <a:cubicBezTo>
                  <a:pt x="11267" y="16450"/>
                  <a:pt x="11289" y="16492"/>
                  <a:pt x="11336" y="16520"/>
                </a:cubicBezTo>
                <a:cubicBezTo>
                  <a:pt x="11299" y="16410"/>
                  <a:pt x="11228" y="16273"/>
                  <a:pt x="11112" y="16421"/>
                </a:cubicBezTo>
                <a:cubicBezTo>
                  <a:pt x="10987" y="16581"/>
                  <a:pt x="10828" y="17128"/>
                  <a:pt x="11261" y="16892"/>
                </a:cubicBezTo>
                <a:cubicBezTo>
                  <a:pt x="11336" y="16826"/>
                  <a:pt x="11410" y="16760"/>
                  <a:pt x="11485" y="16694"/>
                </a:cubicBezTo>
              </a:path>
              <a:path w="3325" h="1042">
                <a:moveTo>
                  <a:pt x="11609" y="16594"/>
                </a:moveTo>
                <a:cubicBezTo>
                  <a:pt x="11622" y="16689"/>
                  <a:pt x="11633" y="16751"/>
                  <a:pt x="11633" y="16842"/>
                </a:cubicBezTo>
                <a:cubicBezTo>
                  <a:pt x="11633" y="16718"/>
                  <a:pt x="11600" y="16396"/>
                  <a:pt x="11832" y="16520"/>
                </a:cubicBezTo>
                <a:cubicBezTo>
                  <a:pt x="11952" y="16640"/>
                  <a:pt x="11991" y="16675"/>
                  <a:pt x="12005" y="16793"/>
                </a:cubicBezTo>
                <a:cubicBezTo>
                  <a:pt x="11842" y="16957"/>
                  <a:pt x="11993" y="16509"/>
                  <a:pt x="12030" y="16470"/>
                </a:cubicBezTo>
                <a:cubicBezTo>
                  <a:pt x="12080" y="16445"/>
                  <a:pt x="12129" y="16421"/>
                  <a:pt x="12179" y="16396"/>
                </a:cubicBezTo>
                <a:cubicBezTo>
                  <a:pt x="12316" y="16539"/>
                  <a:pt x="12435" y="16646"/>
                  <a:pt x="12303" y="16842"/>
                </a:cubicBezTo>
              </a:path>
              <a:path w="3325" h="1042">
                <a:moveTo>
                  <a:pt x="12675" y="15925"/>
                </a:moveTo>
                <a:cubicBezTo>
                  <a:pt x="12816" y="15984"/>
                  <a:pt x="13036" y="16045"/>
                  <a:pt x="12849" y="16222"/>
                </a:cubicBezTo>
                <a:cubicBezTo>
                  <a:pt x="12746" y="16284"/>
                  <a:pt x="12723" y="16292"/>
                  <a:pt x="12675" y="16346"/>
                </a:cubicBezTo>
                <a:cubicBezTo>
                  <a:pt x="12862" y="16370"/>
                  <a:pt x="13121" y="16327"/>
                  <a:pt x="13122" y="164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95760" y="4795920"/>
            <a:ext cx="1231560" cy="865080"/>
          </a:xfrm>
          <a:custGeom>
            <a:avLst/>
            <a:gdLst/>
            <a:ahLst/>
            <a:rect l="l" t="t" r="r" b="b"/>
            <a:pathLst>
              <a:path w="3424" h="2407">
                <a:moveTo>
                  <a:pt x="9575" y="13395"/>
                </a:moveTo>
                <a:cubicBezTo>
                  <a:pt x="9826" y="13365"/>
                  <a:pt x="10185" y="13501"/>
                  <a:pt x="9971" y="13841"/>
                </a:cubicBezTo>
                <a:cubicBezTo>
                  <a:pt x="9804" y="14106"/>
                  <a:pt x="9600" y="14107"/>
                  <a:pt x="9376" y="14064"/>
                </a:cubicBezTo>
                <a:cubicBezTo>
                  <a:pt x="9536" y="13788"/>
                  <a:pt x="9821" y="13782"/>
                  <a:pt x="10096" y="14039"/>
                </a:cubicBezTo>
                <a:cubicBezTo>
                  <a:pt x="10096" y="14056"/>
                  <a:pt x="10096" y="14072"/>
                  <a:pt x="10096" y="14089"/>
                </a:cubicBezTo>
              </a:path>
              <a:path w="3424" h="2407">
                <a:moveTo>
                  <a:pt x="10740" y="13320"/>
                </a:moveTo>
                <a:cubicBezTo>
                  <a:pt x="10612" y="13320"/>
                  <a:pt x="10457" y="13266"/>
                  <a:pt x="10393" y="13395"/>
                </a:cubicBezTo>
                <a:cubicBezTo>
                  <a:pt x="10349" y="13505"/>
                  <a:pt x="10341" y="13535"/>
                  <a:pt x="10294" y="13593"/>
                </a:cubicBezTo>
                <a:cubicBezTo>
                  <a:pt x="10464" y="13580"/>
                  <a:pt x="10818" y="13534"/>
                  <a:pt x="10864" y="13791"/>
                </a:cubicBezTo>
                <a:cubicBezTo>
                  <a:pt x="10933" y="14178"/>
                  <a:pt x="10316" y="14033"/>
                  <a:pt x="10195" y="13965"/>
                </a:cubicBezTo>
              </a:path>
              <a:path w="3424" h="2407">
                <a:moveTo>
                  <a:pt x="9699" y="14486"/>
                </a:moveTo>
                <a:cubicBezTo>
                  <a:pt x="9539" y="14554"/>
                  <a:pt x="9009" y="14707"/>
                  <a:pt x="9327" y="14908"/>
                </a:cubicBezTo>
                <a:cubicBezTo>
                  <a:pt x="9513" y="14991"/>
                  <a:pt x="9564" y="14992"/>
                  <a:pt x="9624" y="15106"/>
                </a:cubicBezTo>
                <a:cubicBezTo>
                  <a:pt x="9521" y="15234"/>
                  <a:pt x="9483" y="15277"/>
                  <a:pt x="9351" y="15255"/>
                </a:cubicBezTo>
                <a:cubicBezTo>
                  <a:pt x="9376" y="14934"/>
                  <a:pt x="9643" y="14893"/>
                  <a:pt x="9748" y="14610"/>
                </a:cubicBezTo>
                <a:cubicBezTo>
                  <a:pt x="9708" y="14630"/>
                  <a:pt x="9682" y="14639"/>
                  <a:pt x="9723" y="14635"/>
                </a:cubicBezTo>
              </a:path>
              <a:path w="3424" h="2407">
                <a:moveTo>
                  <a:pt x="10368" y="14511"/>
                </a:moveTo>
                <a:cubicBezTo>
                  <a:pt x="10113" y="14638"/>
                  <a:pt x="9992" y="14643"/>
                  <a:pt x="9872" y="14883"/>
                </a:cubicBezTo>
                <a:cubicBezTo>
                  <a:pt x="10141" y="14940"/>
                  <a:pt x="10300" y="14966"/>
                  <a:pt x="10492" y="15131"/>
                </a:cubicBezTo>
                <a:cubicBezTo>
                  <a:pt x="10147" y="15311"/>
                  <a:pt x="9998" y="15128"/>
                  <a:pt x="10319" y="14784"/>
                </a:cubicBezTo>
                <a:cubicBezTo>
                  <a:pt x="10429" y="14667"/>
                  <a:pt x="10700" y="14520"/>
                  <a:pt x="10567" y="14610"/>
                </a:cubicBezTo>
              </a:path>
              <a:path w="3424" h="2407">
                <a:moveTo>
                  <a:pt x="7764" y="15726"/>
                </a:moveTo>
                <a:cubicBezTo>
                  <a:pt x="8591" y="15711"/>
                  <a:pt x="9416" y="15665"/>
                  <a:pt x="10244" y="15677"/>
                </a:cubicBezTo>
                <a:cubicBezTo>
                  <a:pt x="10569" y="15682"/>
                  <a:pt x="10868" y="15706"/>
                  <a:pt x="11187" y="157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7000" y="5402160"/>
            <a:ext cx="3081240" cy="955800"/>
          </a:xfrm>
          <a:custGeom>
            <a:avLst/>
            <a:gdLst/>
            <a:ahLst/>
            <a:rect l="l" t="t" r="r" b="b"/>
            <a:pathLst>
              <a:path w="8559" h="2655">
                <a:moveTo>
                  <a:pt x="7987" y="17636"/>
                </a:moveTo>
                <a:cubicBezTo>
                  <a:pt x="8521" y="17594"/>
                  <a:pt x="9036" y="17593"/>
                  <a:pt x="9575" y="17611"/>
                </a:cubicBezTo>
                <a:cubicBezTo>
                  <a:pt x="10670" y="17647"/>
                  <a:pt x="11779" y="17714"/>
                  <a:pt x="12874" y="17661"/>
                </a:cubicBezTo>
                <a:cubicBezTo>
                  <a:pt x="13626" y="17625"/>
                  <a:pt x="14877" y="17637"/>
                  <a:pt x="15131" y="16718"/>
                </a:cubicBezTo>
                <a:cubicBezTo>
                  <a:pt x="15349" y="15931"/>
                  <a:pt x="14270" y="15528"/>
                  <a:pt x="13742" y="15354"/>
                </a:cubicBezTo>
                <a:cubicBezTo>
                  <a:pt x="12296" y="14878"/>
                  <a:pt x="10597" y="14882"/>
                  <a:pt x="9128" y="15230"/>
                </a:cubicBezTo>
                <a:cubicBezTo>
                  <a:pt x="8279" y="15431"/>
                  <a:pt x="7333" y="15781"/>
                  <a:pt x="6672" y="16371"/>
                </a:cubicBezTo>
                <a:cubicBezTo>
                  <a:pt x="6639" y="16421"/>
                  <a:pt x="6606" y="16470"/>
                  <a:pt x="6573" y="16520"/>
                </a:cubicBezTo>
                <a:cubicBezTo>
                  <a:pt x="7159" y="16803"/>
                  <a:pt x="7843" y="16868"/>
                  <a:pt x="8483" y="169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composite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29718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48604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19112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114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3800" y="2590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416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59040" y="4952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920" y="37339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76720" y="43038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42200" y="1919160"/>
            <a:ext cx="115920" cy="10008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22895" y="5432"/>
                </a:moveTo>
                <a:cubicBezTo>
                  <a:pt x="22928" y="5366"/>
                  <a:pt x="23017" y="5348"/>
                  <a:pt x="23093" y="5333"/>
                </a:cubicBezTo>
                <a:cubicBezTo>
                  <a:pt x="23059" y="5409"/>
                  <a:pt x="22969" y="5588"/>
                  <a:pt x="22969" y="5606"/>
                </a:cubicBezTo>
                <a:cubicBezTo>
                  <a:pt x="23054" y="5590"/>
                  <a:pt x="23134" y="5561"/>
                  <a:pt x="23217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7240" y="2081160"/>
            <a:ext cx="4429080" cy="1724040"/>
          </a:xfrm>
          <a:custGeom>
            <a:avLst/>
            <a:gdLst/>
            <a:ahLst/>
            <a:rect l="l" t="t" r="r" b="b"/>
            <a:pathLst>
              <a:path w="12304" h="4789">
                <a:moveTo>
                  <a:pt x="19993" y="7317"/>
                </a:moveTo>
                <a:cubicBezTo>
                  <a:pt x="20021" y="7317"/>
                  <a:pt x="20031" y="7315"/>
                  <a:pt x="20042" y="7293"/>
                </a:cubicBezTo>
              </a:path>
              <a:path w="12304" h="4789">
                <a:moveTo>
                  <a:pt x="20042" y="7293"/>
                </a:moveTo>
                <a:lnTo>
                  <a:pt x="20042" y="7293"/>
                </a:lnTo>
              </a:path>
              <a:path w="12304" h="4789">
                <a:moveTo>
                  <a:pt x="19199" y="8235"/>
                </a:moveTo>
                <a:cubicBezTo>
                  <a:pt x="19280" y="8208"/>
                  <a:pt x="19311" y="8199"/>
                  <a:pt x="19372" y="8210"/>
                </a:cubicBezTo>
              </a:path>
              <a:path w="12304" h="4789">
                <a:moveTo>
                  <a:pt x="19372" y="8210"/>
                </a:moveTo>
                <a:lnTo>
                  <a:pt x="19372" y="8210"/>
                </a:lnTo>
              </a:path>
              <a:path w="12304" h="4789">
                <a:moveTo>
                  <a:pt x="19695" y="8037"/>
                </a:moveTo>
                <a:cubicBezTo>
                  <a:pt x="19689" y="8144"/>
                  <a:pt x="19679" y="8233"/>
                  <a:pt x="19645" y="8334"/>
                </a:cubicBezTo>
              </a:path>
              <a:path w="12304" h="4789">
                <a:moveTo>
                  <a:pt x="20340" y="8210"/>
                </a:moveTo>
                <a:lnTo>
                  <a:pt x="20340" y="8210"/>
                </a:lnTo>
                <a:lnTo>
                  <a:pt x="20340" y="8210"/>
                </a:lnTo>
              </a:path>
              <a:path w="12304" h="4789">
                <a:moveTo>
                  <a:pt x="11658" y="10517"/>
                </a:moveTo>
                <a:cubicBezTo>
                  <a:pt x="11658" y="10534"/>
                  <a:pt x="11658" y="10550"/>
                  <a:pt x="11658" y="10567"/>
                </a:cubicBezTo>
              </a:path>
              <a:path w="12304" h="4789">
                <a:moveTo>
                  <a:pt x="11658" y="10319"/>
                </a:moveTo>
                <a:cubicBezTo>
                  <a:pt x="11658" y="10335"/>
                  <a:pt x="11658" y="10352"/>
                  <a:pt x="11658" y="10368"/>
                </a:cubicBezTo>
              </a:path>
              <a:path w="12304" h="4789">
                <a:moveTo>
                  <a:pt x="23143" y="6003"/>
                </a:moveTo>
                <a:cubicBezTo>
                  <a:pt x="23143" y="6185"/>
                  <a:pt x="23143" y="6366"/>
                  <a:pt x="23143" y="6548"/>
                </a:cubicBezTo>
              </a:path>
              <a:path w="12304" h="4789">
                <a:moveTo>
                  <a:pt x="23366" y="6003"/>
                </a:moveTo>
                <a:cubicBezTo>
                  <a:pt x="23366" y="6069"/>
                  <a:pt x="23366" y="6135"/>
                  <a:pt x="23366" y="6201"/>
                </a:cubicBezTo>
                <a:cubicBezTo>
                  <a:pt x="23500" y="6201"/>
                  <a:pt x="23569" y="6162"/>
                  <a:pt x="23688" y="6102"/>
                </a:cubicBezTo>
              </a:path>
              <a:path w="12304" h="4789">
                <a:moveTo>
                  <a:pt x="23614" y="5779"/>
                </a:moveTo>
                <a:cubicBezTo>
                  <a:pt x="23614" y="6011"/>
                  <a:pt x="23614" y="6242"/>
                  <a:pt x="23614" y="6474"/>
                </a:cubicBezTo>
              </a:path>
              <a:path w="12304" h="4789">
                <a:moveTo>
                  <a:pt x="22920" y="6970"/>
                </a:moveTo>
                <a:cubicBezTo>
                  <a:pt x="22928" y="6970"/>
                  <a:pt x="22936" y="6970"/>
                  <a:pt x="22944" y="6970"/>
                </a:cubicBezTo>
              </a:path>
              <a:path w="12304" h="4789">
                <a:moveTo>
                  <a:pt x="23540" y="6772"/>
                </a:moveTo>
                <a:cubicBezTo>
                  <a:pt x="23525" y="6891"/>
                  <a:pt x="23484" y="7003"/>
                  <a:pt x="23465" y="7119"/>
                </a:cubicBezTo>
                <a:cubicBezTo>
                  <a:pt x="23632" y="7143"/>
                  <a:pt x="23697" y="7136"/>
                  <a:pt x="23738" y="6970"/>
                </a:cubicBezTo>
                <a:cubicBezTo>
                  <a:pt x="23704" y="6964"/>
                  <a:pt x="23514" y="7027"/>
                  <a:pt x="23540" y="7119"/>
                </a:cubicBezTo>
                <a:cubicBezTo>
                  <a:pt x="23556" y="7127"/>
                  <a:pt x="23573" y="7136"/>
                  <a:pt x="23589" y="7144"/>
                </a:cubicBezTo>
              </a:path>
              <a:path w="12304" h="4789">
                <a:moveTo>
                  <a:pt x="22920" y="7491"/>
                </a:moveTo>
                <a:cubicBezTo>
                  <a:pt x="23249" y="7396"/>
                  <a:pt x="23575" y="7303"/>
                  <a:pt x="23912" y="7243"/>
                </a:cubicBezTo>
                <a:cubicBezTo>
                  <a:pt x="23920" y="7243"/>
                  <a:pt x="23929" y="7243"/>
                  <a:pt x="23937" y="7243"/>
                </a:cubicBezTo>
              </a:path>
              <a:path w="12304" h="4789">
                <a:moveTo>
                  <a:pt x="23639" y="7689"/>
                </a:moveTo>
                <a:cubicBezTo>
                  <a:pt x="23664" y="7689"/>
                  <a:pt x="23672" y="7689"/>
                  <a:pt x="23664" y="7665"/>
                </a:cubicBezTo>
                <a:cubicBezTo>
                  <a:pt x="23664" y="7725"/>
                  <a:pt x="23646" y="7779"/>
                  <a:pt x="23639" y="7838"/>
                </a:cubicBezTo>
                <a:cubicBezTo>
                  <a:pt x="23723" y="7838"/>
                  <a:pt x="23923" y="7871"/>
                  <a:pt x="23961" y="7813"/>
                </a:cubicBezTo>
              </a:path>
              <a:path w="12304" h="4789">
                <a:moveTo>
                  <a:pt x="23887" y="7615"/>
                </a:moveTo>
                <a:cubicBezTo>
                  <a:pt x="23855" y="7741"/>
                  <a:pt x="23835" y="8005"/>
                  <a:pt x="23788" y="8086"/>
                </a:cubicBezTo>
              </a:path>
              <a:path w="12304" h="4789">
                <a:moveTo>
                  <a:pt x="23341" y="7665"/>
                </a:moveTo>
                <a:cubicBezTo>
                  <a:pt x="23221" y="7710"/>
                  <a:pt x="23164" y="7750"/>
                  <a:pt x="23068" y="7838"/>
                </a:cubicBezTo>
                <a:cubicBezTo>
                  <a:pt x="23154" y="7918"/>
                  <a:pt x="23361" y="8030"/>
                  <a:pt x="23217" y="8161"/>
                </a:cubicBezTo>
                <a:cubicBezTo>
                  <a:pt x="23192" y="8169"/>
                  <a:pt x="23168" y="8178"/>
                  <a:pt x="23143" y="8186"/>
                </a:cubicBezTo>
                <a:cubicBezTo>
                  <a:pt x="23118" y="8038"/>
                  <a:pt x="23155" y="7923"/>
                  <a:pt x="23242" y="7789"/>
                </a:cubicBezTo>
                <a:cubicBezTo>
                  <a:pt x="23250" y="7781"/>
                  <a:pt x="23259" y="7772"/>
                  <a:pt x="23267" y="7764"/>
                </a:cubicBezTo>
              </a:path>
              <a:path w="12304" h="4789">
                <a:moveTo>
                  <a:pt x="15180" y="9723"/>
                </a:moveTo>
                <a:cubicBezTo>
                  <a:pt x="15374" y="9653"/>
                  <a:pt x="15475" y="9656"/>
                  <a:pt x="15553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70240" y="3911760"/>
            <a:ext cx="36720" cy="133200"/>
          </a:xfrm>
          <a:custGeom>
            <a:avLst/>
            <a:gdLst/>
            <a:ahLst/>
            <a:rect l="l" t="t" r="r" b="b"/>
            <a:pathLst>
              <a:path w="100" h="374">
                <a:moveTo>
                  <a:pt x="11683" y="11187"/>
                </a:moveTo>
                <a:cubicBezTo>
                  <a:pt x="11683" y="11212"/>
                  <a:pt x="11683" y="11220"/>
                  <a:pt x="11683" y="11237"/>
                </a:cubicBezTo>
              </a:path>
              <a:path w="100" h="374">
                <a:moveTo>
                  <a:pt x="11584" y="10864"/>
                </a:moveTo>
                <a:cubicBezTo>
                  <a:pt x="11584" y="10889"/>
                  <a:pt x="11584" y="10897"/>
                  <a:pt x="11584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0240" y="3313080"/>
            <a:ext cx="241560" cy="812880"/>
          </a:xfrm>
          <a:custGeom>
            <a:avLst/>
            <a:gdLst/>
            <a:ahLst/>
            <a:rect l="l" t="t" r="r" b="b"/>
            <a:pathLst>
              <a:path w="671" h="2258">
                <a:moveTo>
                  <a:pt x="11609" y="9996"/>
                </a:moveTo>
                <a:cubicBezTo>
                  <a:pt x="11609" y="10029"/>
                  <a:pt x="11609" y="10046"/>
                  <a:pt x="11609" y="10071"/>
                </a:cubicBezTo>
              </a:path>
              <a:path w="671" h="2258">
                <a:moveTo>
                  <a:pt x="11584" y="9277"/>
                </a:moveTo>
                <a:cubicBezTo>
                  <a:pt x="11584" y="9318"/>
                  <a:pt x="11584" y="9326"/>
                  <a:pt x="11584" y="9351"/>
                </a:cubicBezTo>
              </a:path>
              <a:path w="671" h="2258">
                <a:moveTo>
                  <a:pt x="11881" y="9203"/>
                </a:moveTo>
                <a:cubicBezTo>
                  <a:pt x="11881" y="9297"/>
                  <a:pt x="11899" y="9382"/>
                  <a:pt x="11906" y="9475"/>
                </a:cubicBezTo>
                <a:cubicBezTo>
                  <a:pt x="11906" y="9575"/>
                  <a:pt x="11906" y="9608"/>
                  <a:pt x="11906" y="9674"/>
                </a:cubicBezTo>
                <a:cubicBezTo>
                  <a:pt x="11999" y="9705"/>
                  <a:pt x="12126" y="9709"/>
                  <a:pt x="12204" y="9624"/>
                </a:cubicBezTo>
                <a:cubicBezTo>
                  <a:pt x="12289" y="9533"/>
                  <a:pt x="12264" y="9485"/>
                  <a:pt x="12204" y="9426"/>
                </a:cubicBezTo>
                <a:cubicBezTo>
                  <a:pt x="12125" y="9515"/>
                  <a:pt x="12129" y="9596"/>
                  <a:pt x="12129" y="9723"/>
                </a:cubicBezTo>
                <a:cubicBezTo>
                  <a:pt x="12129" y="9715"/>
                  <a:pt x="12129" y="9707"/>
                  <a:pt x="12129" y="9699"/>
                </a:cubicBezTo>
              </a:path>
              <a:path w="671" h="2258">
                <a:moveTo>
                  <a:pt x="12055" y="11112"/>
                </a:moveTo>
                <a:cubicBezTo>
                  <a:pt x="12055" y="11226"/>
                  <a:pt x="12058" y="11350"/>
                  <a:pt x="12080" y="11460"/>
                </a:cubicBezTo>
                <a:cubicBezTo>
                  <a:pt x="12080" y="11443"/>
                  <a:pt x="12080" y="11427"/>
                  <a:pt x="12080" y="11410"/>
                </a:cubicBezTo>
              </a:path>
              <a:path w="671" h="2258">
                <a:moveTo>
                  <a:pt x="12005" y="11261"/>
                </a:moveTo>
                <a:cubicBezTo>
                  <a:pt x="12086" y="11234"/>
                  <a:pt x="12170" y="11201"/>
                  <a:pt x="12254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5120" y="3116160"/>
            <a:ext cx="1125720" cy="696960"/>
          </a:xfrm>
          <a:custGeom>
            <a:avLst/>
            <a:gdLst/>
            <a:ahLst/>
            <a:rect l="l" t="t" r="r" b="b"/>
            <a:pathLst>
              <a:path w="3127" h="1936">
                <a:moveTo>
                  <a:pt x="14560" y="9475"/>
                </a:moveTo>
                <a:cubicBezTo>
                  <a:pt x="14354" y="9459"/>
                  <a:pt x="14241" y="9569"/>
                  <a:pt x="14114" y="9723"/>
                </a:cubicBezTo>
                <a:cubicBezTo>
                  <a:pt x="14274" y="9839"/>
                  <a:pt x="14520" y="9921"/>
                  <a:pt x="14412" y="10145"/>
                </a:cubicBezTo>
                <a:cubicBezTo>
                  <a:pt x="14395" y="10153"/>
                  <a:pt x="14379" y="10162"/>
                  <a:pt x="14362" y="10170"/>
                </a:cubicBezTo>
                <a:cubicBezTo>
                  <a:pt x="14319" y="9967"/>
                  <a:pt x="14382" y="9797"/>
                  <a:pt x="14486" y="9599"/>
                </a:cubicBezTo>
                <a:cubicBezTo>
                  <a:pt x="14494" y="9591"/>
                  <a:pt x="14503" y="9583"/>
                  <a:pt x="14511" y="9575"/>
                </a:cubicBezTo>
              </a:path>
              <a:path w="3127" h="1936">
                <a:moveTo>
                  <a:pt x="14610" y="9401"/>
                </a:moveTo>
                <a:cubicBezTo>
                  <a:pt x="14605" y="9510"/>
                  <a:pt x="14594" y="9615"/>
                  <a:pt x="14585" y="9723"/>
                </a:cubicBezTo>
                <a:cubicBezTo>
                  <a:pt x="14702" y="9715"/>
                  <a:pt x="14775" y="9693"/>
                  <a:pt x="14883" y="9649"/>
                </a:cubicBezTo>
              </a:path>
              <a:path w="3127" h="1936">
                <a:moveTo>
                  <a:pt x="14759" y="9302"/>
                </a:moveTo>
                <a:cubicBezTo>
                  <a:pt x="14788" y="9582"/>
                  <a:pt x="14798" y="9841"/>
                  <a:pt x="14784" y="10120"/>
                </a:cubicBezTo>
              </a:path>
              <a:path w="3127" h="1936">
                <a:moveTo>
                  <a:pt x="15280" y="9401"/>
                </a:moveTo>
                <a:cubicBezTo>
                  <a:pt x="15280" y="9327"/>
                  <a:pt x="15240" y="9314"/>
                  <a:pt x="15180" y="9277"/>
                </a:cubicBezTo>
                <a:cubicBezTo>
                  <a:pt x="15114" y="9459"/>
                  <a:pt x="15194" y="9665"/>
                  <a:pt x="15255" y="9847"/>
                </a:cubicBezTo>
                <a:cubicBezTo>
                  <a:pt x="15291" y="9957"/>
                  <a:pt x="15304" y="9942"/>
                  <a:pt x="15304" y="10021"/>
                </a:cubicBezTo>
              </a:path>
              <a:path w="3127" h="1936">
                <a:moveTo>
                  <a:pt x="15478" y="9252"/>
                </a:moveTo>
                <a:cubicBezTo>
                  <a:pt x="15550" y="9457"/>
                  <a:pt x="15588" y="9658"/>
                  <a:pt x="15627" y="9872"/>
                </a:cubicBezTo>
                <a:cubicBezTo>
                  <a:pt x="15747" y="9872"/>
                  <a:pt x="15788" y="9827"/>
                  <a:pt x="15875" y="9748"/>
                </a:cubicBezTo>
              </a:path>
              <a:path w="3127" h="1936">
                <a:moveTo>
                  <a:pt x="15478" y="9550"/>
                </a:moveTo>
                <a:cubicBezTo>
                  <a:pt x="15573" y="9517"/>
                  <a:pt x="15680" y="9475"/>
                  <a:pt x="15776" y="9451"/>
                </a:cubicBezTo>
              </a:path>
              <a:path w="3127" h="1936">
                <a:moveTo>
                  <a:pt x="15677" y="9029"/>
                </a:moveTo>
                <a:cubicBezTo>
                  <a:pt x="15783" y="9002"/>
                  <a:pt x="15823" y="8994"/>
                  <a:pt x="15900" y="9004"/>
                </a:cubicBezTo>
                <a:cubicBezTo>
                  <a:pt x="15875" y="9070"/>
                  <a:pt x="15783" y="9219"/>
                  <a:pt x="15801" y="9227"/>
                </a:cubicBezTo>
                <a:cubicBezTo>
                  <a:pt x="15909" y="9209"/>
                  <a:pt x="16014" y="9169"/>
                  <a:pt x="16123" y="9153"/>
                </a:cubicBezTo>
              </a:path>
              <a:path w="3127" h="1936">
                <a:moveTo>
                  <a:pt x="14362" y="10592"/>
                </a:moveTo>
                <a:cubicBezTo>
                  <a:pt x="14729" y="10434"/>
                  <a:pt x="15121" y="10361"/>
                  <a:pt x="15503" y="10244"/>
                </a:cubicBezTo>
                <a:cubicBezTo>
                  <a:pt x="15825" y="10145"/>
                  <a:pt x="16674" y="9918"/>
                  <a:pt x="16669" y="9451"/>
                </a:cubicBezTo>
                <a:cubicBezTo>
                  <a:pt x="16666" y="9118"/>
                  <a:pt x="16210" y="8791"/>
                  <a:pt x="15925" y="8706"/>
                </a:cubicBezTo>
                <a:cubicBezTo>
                  <a:pt x="15518" y="8584"/>
                  <a:pt x="14960" y="8624"/>
                  <a:pt x="14585" y="8830"/>
                </a:cubicBezTo>
                <a:cubicBezTo>
                  <a:pt x="14135" y="9078"/>
                  <a:pt x="13638" y="9543"/>
                  <a:pt x="13543" y="10071"/>
                </a:cubicBezTo>
                <a:cubicBezTo>
                  <a:pt x="13551" y="10162"/>
                  <a:pt x="13560" y="10253"/>
                  <a:pt x="13568" y="10344"/>
                </a:cubicBezTo>
                <a:cubicBezTo>
                  <a:pt x="14016" y="10573"/>
                  <a:pt x="14288" y="10520"/>
                  <a:pt x="14784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92920" y="2509920"/>
            <a:ext cx="716040" cy="490320"/>
          </a:xfrm>
          <a:custGeom>
            <a:avLst/>
            <a:gdLst/>
            <a:ahLst/>
            <a:rect l="l" t="t" r="r" b="b"/>
            <a:pathLst>
              <a:path w="1986" h="1365">
                <a:moveTo>
                  <a:pt x="19645" y="7069"/>
                </a:moveTo>
                <a:cubicBezTo>
                  <a:pt x="19704" y="7089"/>
                  <a:pt x="19676" y="7359"/>
                  <a:pt x="19670" y="7417"/>
                </a:cubicBezTo>
                <a:cubicBezTo>
                  <a:pt x="19648" y="7525"/>
                  <a:pt x="19635" y="7582"/>
                  <a:pt x="19670" y="7466"/>
                </a:cubicBezTo>
              </a:path>
              <a:path w="1986" h="1365">
                <a:moveTo>
                  <a:pt x="20513" y="7069"/>
                </a:moveTo>
                <a:cubicBezTo>
                  <a:pt x="20537" y="7117"/>
                  <a:pt x="20513" y="7212"/>
                  <a:pt x="20513" y="7293"/>
                </a:cubicBezTo>
                <a:cubicBezTo>
                  <a:pt x="20654" y="7258"/>
                  <a:pt x="20702" y="7203"/>
                  <a:pt x="20811" y="7094"/>
                </a:cubicBezTo>
                <a:cubicBezTo>
                  <a:pt x="20811" y="7162"/>
                  <a:pt x="20794" y="7250"/>
                  <a:pt x="20886" y="7243"/>
                </a:cubicBezTo>
                <a:cubicBezTo>
                  <a:pt x="20987" y="7235"/>
                  <a:pt x="21218" y="7005"/>
                  <a:pt x="21034" y="6970"/>
                </a:cubicBezTo>
                <a:cubicBezTo>
                  <a:pt x="21001" y="6978"/>
                  <a:pt x="20968" y="6987"/>
                  <a:pt x="20935" y="6995"/>
                </a:cubicBezTo>
              </a:path>
              <a:path w="1986" h="1365">
                <a:moveTo>
                  <a:pt x="19149" y="8111"/>
                </a:moveTo>
                <a:cubicBezTo>
                  <a:pt x="19216" y="8095"/>
                  <a:pt x="19323" y="8052"/>
                  <a:pt x="19323" y="8086"/>
                </a:cubicBezTo>
              </a:path>
              <a:path w="1986" h="1365">
                <a:moveTo>
                  <a:pt x="19844" y="8037"/>
                </a:moveTo>
                <a:cubicBezTo>
                  <a:pt x="19882" y="8124"/>
                  <a:pt x="19897" y="8156"/>
                  <a:pt x="20017" y="8136"/>
                </a:cubicBezTo>
                <a:cubicBezTo>
                  <a:pt x="20086" y="8124"/>
                  <a:pt x="20079" y="8043"/>
                  <a:pt x="20092" y="7987"/>
                </a:cubicBezTo>
              </a:path>
              <a:path w="1986" h="1365">
                <a:moveTo>
                  <a:pt x="20092" y="7938"/>
                </a:moveTo>
                <a:cubicBezTo>
                  <a:pt x="20076" y="8063"/>
                  <a:pt x="20048" y="8184"/>
                  <a:pt x="20042" y="8310"/>
                </a:cubicBezTo>
                <a:cubicBezTo>
                  <a:pt x="20042" y="8318"/>
                  <a:pt x="20042" y="8326"/>
                  <a:pt x="20042" y="8334"/>
                </a:cubicBezTo>
              </a:path>
              <a:path w="1986" h="1365">
                <a:moveTo>
                  <a:pt x="20886" y="7813"/>
                </a:moveTo>
                <a:cubicBezTo>
                  <a:pt x="20886" y="7938"/>
                  <a:pt x="20839" y="8064"/>
                  <a:pt x="20811" y="8186"/>
                </a:cubicBezTo>
                <a:cubicBezTo>
                  <a:pt x="20803" y="8219"/>
                  <a:pt x="20794" y="8252"/>
                  <a:pt x="20786" y="8285"/>
                </a:cubicBezTo>
                <a:cubicBezTo>
                  <a:pt x="20928" y="8338"/>
                  <a:pt x="21025" y="8296"/>
                  <a:pt x="21109" y="8161"/>
                </a:cubicBezTo>
                <a:cubicBezTo>
                  <a:pt x="21117" y="8136"/>
                  <a:pt x="21126" y="8111"/>
                  <a:pt x="21134" y="8086"/>
                </a:cubicBezTo>
                <a:cubicBezTo>
                  <a:pt x="21075" y="8099"/>
                  <a:pt x="20892" y="8182"/>
                  <a:pt x="20935" y="8285"/>
                </a:cubicBezTo>
                <a:cubicBezTo>
                  <a:pt x="20952" y="8285"/>
                  <a:pt x="20968" y="8285"/>
                  <a:pt x="20985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0000" y="4205160"/>
            <a:ext cx="465120" cy="287640"/>
          </a:xfrm>
          <a:custGeom>
            <a:avLst/>
            <a:gdLst/>
            <a:ahLst/>
            <a:rect l="l" t="t" r="r" b="b"/>
            <a:pathLst>
              <a:path w="1291" h="795">
                <a:moveTo>
                  <a:pt x="18752" y="11757"/>
                </a:moveTo>
                <a:cubicBezTo>
                  <a:pt x="18815" y="11721"/>
                  <a:pt x="18907" y="11643"/>
                  <a:pt x="18951" y="11708"/>
                </a:cubicBezTo>
              </a:path>
              <a:path w="1291" h="795">
                <a:moveTo>
                  <a:pt x="18852" y="11857"/>
                </a:moveTo>
                <a:cubicBezTo>
                  <a:pt x="18959" y="11830"/>
                  <a:pt x="19000" y="11820"/>
                  <a:pt x="19075" y="11807"/>
                </a:cubicBezTo>
              </a:path>
              <a:path w="1291" h="795">
                <a:moveTo>
                  <a:pt x="19075" y="11807"/>
                </a:moveTo>
                <a:lnTo>
                  <a:pt x="19075" y="11807"/>
                </a:lnTo>
              </a:path>
              <a:path w="1291" h="795">
                <a:moveTo>
                  <a:pt x="19745" y="11757"/>
                </a:moveTo>
                <a:cubicBezTo>
                  <a:pt x="19753" y="11749"/>
                  <a:pt x="19761" y="11741"/>
                  <a:pt x="19769" y="11733"/>
                </a:cubicBezTo>
              </a:path>
              <a:path w="1291" h="795">
                <a:moveTo>
                  <a:pt x="20042" y="12477"/>
                </a:moveTo>
                <a:lnTo>
                  <a:pt x="20042" y="12477"/>
                </a:lnTo>
                <a:lnTo>
                  <a:pt x="20042" y="124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71920" y="4062240"/>
            <a:ext cx="652320" cy="54000"/>
          </a:xfrm>
          <a:custGeom>
            <a:avLst/>
            <a:gdLst/>
            <a:ahLst/>
            <a:rect l="l" t="t" r="r" b="b"/>
            <a:pathLst>
              <a:path w="1812" h="150">
                <a:moveTo>
                  <a:pt x="9922" y="11286"/>
                </a:moveTo>
                <a:cubicBezTo>
                  <a:pt x="9947" y="11307"/>
                  <a:pt x="9995" y="11339"/>
                  <a:pt x="10046" y="11361"/>
                </a:cubicBezTo>
                <a:cubicBezTo>
                  <a:pt x="10120" y="11392"/>
                  <a:pt x="10171" y="11371"/>
                  <a:pt x="10244" y="11385"/>
                </a:cubicBezTo>
                <a:cubicBezTo>
                  <a:pt x="10318" y="11399"/>
                  <a:pt x="10368" y="11410"/>
                  <a:pt x="10443" y="11410"/>
                </a:cubicBezTo>
                <a:cubicBezTo>
                  <a:pt x="10530" y="11410"/>
                  <a:pt x="10585" y="11431"/>
                  <a:pt x="10666" y="11435"/>
                </a:cubicBezTo>
                <a:cubicBezTo>
                  <a:pt x="10741" y="11439"/>
                  <a:pt x="10797" y="11419"/>
                  <a:pt x="10864" y="11410"/>
                </a:cubicBezTo>
                <a:cubicBezTo>
                  <a:pt x="10998" y="11392"/>
                  <a:pt x="11135" y="11415"/>
                  <a:pt x="11261" y="11435"/>
                </a:cubicBezTo>
                <a:cubicBezTo>
                  <a:pt x="11394" y="11456"/>
                  <a:pt x="11565" y="11432"/>
                  <a:pt x="11683" y="11410"/>
                </a:cubicBezTo>
                <a:cubicBezTo>
                  <a:pt x="11708" y="11410"/>
                  <a:pt x="11716" y="11410"/>
                  <a:pt x="11733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68960" y="4098960"/>
            <a:ext cx="2205000" cy="473040"/>
          </a:xfrm>
          <a:custGeom>
            <a:avLst/>
            <a:gdLst/>
            <a:ahLst/>
            <a:rect l="l" t="t" r="r" b="b"/>
            <a:pathLst>
              <a:path w="6128" h="1316">
                <a:moveTo>
                  <a:pt x="15230" y="11435"/>
                </a:moveTo>
                <a:cubicBezTo>
                  <a:pt x="15304" y="11435"/>
                  <a:pt x="15358" y="11418"/>
                  <a:pt x="15429" y="11410"/>
                </a:cubicBezTo>
                <a:cubicBezTo>
                  <a:pt x="15723" y="11376"/>
                  <a:pt x="16035" y="11452"/>
                  <a:pt x="16321" y="11385"/>
                </a:cubicBezTo>
                <a:cubicBezTo>
                  <a:pt x="16473" y="11349"/>
                  <a:pt x="16684" y="11385"/>
                  <a:pt x="16842" y="11385"/>
                </a:cubicBezTo>
              </a:path>
              <a:path w="6128" h="1316">
                <a:moveTo>
                  <a:pt x="14858" y="12278"/>
                </a:moveTo>
                <a:cubicBezTo>
                  <a:pt x="14787" y="12288"/>
                  <a:pt x="14781" y="12292"/>
                  <a:pt x="14709" y="12278"/>
                </a:cubicBezTo>
                <a:cubicBezTo>
                  <a:pt x="14697" y="12351"/>
                  <a:pt x="14660" y="12371"/>
                  <a:pt x="14635" y="12427"/>
                </a:cubicBezTo>
                <a:cubicBezTo>
                  <a:pt x="14635" y="12435"/>
                  <a:pt x="14635" y="12444"/>
                  <a:pt x="14635" y="12452"/>
                </a:cubicBezTo>
                <a:cubicBezTo>
                  <a:pt x="14673" y="12452"/>
                  <a:pt x="14755" y="12464"/>
                  <a:pt x="14784" y="12477"/>
                </a:cubicBezTo>
                <a:cubicBezTo>
                  <a:pt x="14840" y="12501"/>
                  <a:pt x="14920" y="12577"/>
                  <a:pt x="14883" y="12650"/>
                </a:cubicBezTo>
                <a:cubicBezTo>
                  <a:pt x="14862" y="12691"/>
                  <a:pt x="14705" y="12729"/>
                  <a:pt x="14660" y="12700"/>
                </a:cubicBezTo>
                <a:cubicBezTo>
                  <a:pt x="14660" y="12692"/>
                  <a:pt x="14660" y="12683"/>
                  <a:pt x="14660" y="12675"/>
                </a:cubicBezTo>
              </a:path>
              <a:path w="6128" h="1316">
                <a:moveTo>
                  <a:pt x="17537" y="11559"/>
                </a:moveTo>
                <a:cubicBezTo>
                  <a:pt x="17492" y="11693"/>
                  <a:pt x="17397" y="11823"/>
                  <a:pt x="17338" y="11956"/>
                </a:cubicBezTo>
                <a:cubicBezTo>
                  <a:pt x="17338" y="11964"/>
                  <a:pt x="17338" y="11973"/>
                  <a:pt x="17338" y="11981"/>
                </a:cubicBezTo>
                <a:cubicBezTo>
                  <a:pt x="17370" y="11808"/>
                  <a:pt x="17456" y="11630"/>
                  <a:pt x="17562" y="11485"/>
                </a:cubicBezTo>
                <a:cubicBezTo>
                  <a:pt x="17587" y="11460"/>
                  <a:pt x="17611" y="11435"/>
                  <a:pt x="17636" y="11410"/>
                </a:cubicBezTo>
                <a:cubicBezTo>
                  <a:pt x="17774" y="11465"/>
                  <a:pt x="17733" y="11655"/>
                  <a:pt x="17735" y="11782"/>
                </a:cubicBezTo>
                <a:cubicBezTo>
                  <a:pt x="17736" y="11845"/>
                  <a:pt x="17766" y="11994"/>
                  <a:pt x="17711" y="11956"/>
                </a:cubicBezTo>
              </a:path>
              <a:path w="6128" h="1316">
                <a:moveTo>
                  <a:pt x="17388" y="11906"/>
                </a:moveTo>
                <a:cubicBezTo>
                  <a:pt x="17515" y="11872"/>
                  <a:pt x="17629" y="11857"/>
                  <a:pt x="17760" y="11857"/>
                </a:cubicBezTo>
              </a:path>
              <a:path w="6128" h="1316">
                <a:moveTo>
                  <a:pt x="18008" y="11931"/>
                </a:moveTo>
                <a:cubicBezTo>
                  <a:pt x="18008" y="12035"/>
                  <a:pt x="17998" y="12127"/>
                  <a:pt x="17983" y="12229"/>
                </a:cubicBezTo>
                <a:cubicBezTo>
                  <a:pt x="18091" y="12229"/>
                  <a:pt x="18196" y="12207"/>
                  <a:pt x="18306" y="12204"/>
                </a:cubicBezTo>
                <a:cubicBezTo>
                  <a:pt x="18345" y="12203"/>
                  <a:pt x="18537" y="12237"/>
                  <a:pt x="18529" y="12179"/>
                </a:cubicBezTo>
                <a:cubicBezTo>
                  <a:pt x="18513" y="12071"/>
                  <a:pt x="18529" y="12028"/>
                  <a:pt x="18529" y="11931"/>
                </a:cubicBezTo>
                <a:cubicBezTo>
                  <a:pt x="18367" y="11941"/>
                  <a:pt x="18216" y="11974"/>
                  <a:pt x="18058" y="12005"/>
                </a:cubicBezTo>
                <a:cubicBezTo>
                  <a:pt x="18050" y="12005"/>
                  <a:pt x="18041" y="12005"/>
                  <a:pt x="18033" y="12005"/>
                </a:cubicBezTo>
              </a:path>
              <a:path w="6128" h="1316">
                <a:moveTo>
                  <a:pt x="19447" y="11485"/>
                </a:moveTo>
                <a:cubicBezTo>
                  <a:pt x="19447" y="11572"/>
                  <a:pt x="19414" y="11821"/>
                  <a:pt x="19422" y="11857"/>
                </a:cubicBezTo>
                <a:cubicBezTo>
                  <a:pt x="19430" y="11865"/>
                  <a:pt x="19439" y="11873"/>
                  <a:pt x="19447" y="11881"/>
                </a:cubicBezTo>
              </a:path>
              <a:path w="6128" h="1316">
                <a:moveTo>
                  <a:pt x="20166" y="11559"/>
                </a:moveTo>
                <a:cubicBezTo>
                  <a:pt x="20166" y="11644"/>
                  <a:pt x="20157" y="11699"/>
                  <a:pt x="20141" y="11782"/>
                </a:cubicBezTo>
                <a:cubicBezTo>
                  <a:pt x="20275" y="11840"/>
                  <a:pt x="20334" y="11771"/>
                  <a:pt x="20439" y="11683"/>
                </a:cubicBezTo>
                <a:cubicBezTo>
                  <a:pt x="20509" y="11636"/>
                  <a:pt x="20401" y="11712"/>
                  <a:pt x="20464" y="11757"/>
                </a:cubicBezTo>
                <a:cubicBezTo>
                  <a:pt x="20581" y="11840"/>
                  <a:pt x="20753" y="11710"/>
                  <a:pt x="20762" y="11584"/>
                </a:cubicBezTo>
                <a:cubicBezTo>
                  <a:pt x="20737" y="11509"/>
                  <a:pt x="20729" y="11484"/>
                  <a:pt x="20662" y="11485"/>
                </a:cubicBezTo>
              </a:path>
              <a:path w="6128" h="1316">
                <a:moveTo>
                  <a:pt x="18827" y="12402"/>
                </a:moveTo>
                <a:cubicBezTo>
                  <a:pt x="18907" y="12384"/>
                  <a:pt x="18989" y="12354"/>
                  <a:pt x="19025" y="12378"/>
                </a:cubicBezTo>
              </a:path>
              <a:path w="6128" h="1316">
                <a:moveTo>
                  <a:pt x="18876" y="12502"/>
                </a:moveTo>
                <a:cubicBezTo>
                  <a:pt x="18983" y="12495"/>
                  <a:pt x="19069" y="12478"/>
                  <a:pt x="19174" y="12452"/>
                </a:cubicBezTo>
              </a:path>
              <a:path w="6128" h="1316">
                <a:moveTo>
                  <a:pt x="19745" y="12229"/>
                </a:moveTo>
                <a:cubicBezTo>
                  <a:pt x="19712" y="12233"/>
                  <a:pt x="19605" y="12279"/>
                  <a:pt x="19571" y="12254"/>
                </a:cubicBezTo>
                <a:cubicBezTo>
                  <a:pt x="19571" y="12246"/>
                  <a:pt x="19571" y="12237"/>
                  <a:pt x="19571" y="12229"/>
                </a:cubicBezTo>
                <a:cubicBezTo>
                  <a:pt x="19532" y="12278"/>
                  <a:pt x="19492" y="12347"/>
                  <a:pt x="19472" y="12402"/>
                </a:cubicBezTo>
                <a:cubicBezTo>
                  <a:pt x="19472" y="12410"/>
                  <a:pt x="19472" y="12419"/>
                  <a:pt x="19472" y="12427"/>
                </a:cubicBezTo>
                <a:cubicBezTo>
                  <a:pt x="19545" y="12427"/>
                  <a:pt x="19631" y="12408"/>
                  <a:pt x="19695" y="12452"/>
                </a:cubicBezTo>
                <a:cubicBezTo>
                  <a:pt x="19787" y="12515"/>
                  <a:pt x="19750" y="12626"/>
                  <a:pt x="19645" y="12650"/>
                </a:cubicBezTo>
                <a:cubicBezTo>
                  <a:pt x="19594" y="12662"/>
                  <a:pt x="19390" y="12666"/>
                  <a:pt x="19496" y="12601"/>
                </a:cubicBezTo>
              </a:path>
              <a:path w="6128" h="1316">
                <a:moveTo>
                  <a:pt x="20365" y="12303"/>
                </a:moveTo>
                <a:cubicBezTo>
                  <a:pt x="20365" y="12386"/>
                  <a:pt x="20361" y="12433"/>
                  <a:pt x="20315" y="12502"/>
                </a:cubicBezTo>
                <a:cubicBezTo>
                  <a:pt x="20439" y="12516"/>
                  <a:pt x="20514" y="12506"/>
                  <a:pt x="20638" y="12477"/>
                </a:cubicBezTo>
              </a:path>
              <a:path w="6128" h="1316">
                <a:moveTo>
                  <a:pt x="20662" y="12204"/>
                </a:moveTo>
                <a:cubicBezTo>
                  <a:pt x="20615" y="12302"/>
                  <a:pt x="20566" y="12461"/>
                  <a:pt x="20538" y="12576"/>
                </a:cubicBezTo>
                <a:cubicBezTo>
                  <a:pt x="20524" y="12634"/>
                  <a:pt x="20542" y="12648"/>
                  <a:pt x="20489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30920" y="4589640"/>
            <a:ext cx="1046160" cy="179280"/>
          </a:xfrm>
          <a:custGeom>
            <a:avLst/>
            <a:gdLst/>
            <a:ahLst/>
            <a:rect l="l" t="t" r="r" b="b"/>
            <a:pathLst>
              <a:path w="2904" h="497">
                <a:moveTo>
                  <a:pt x="18852" y="13146"/>
                </a:moveTo>
                <a:cubicBezTo>
                  <a:pt x="18928" y="13140"/>
                  <a:pt x="19000" y="13129"/>
                  <a:pt x="19075" y="13122"/>
                </a:cubicBezTo>
              </a:path>
              <a:path w="2904" h="497">
                <a:moveTo>
                  <a:pt x="18951" y="13246"/>
                </a:moveTo>
                <a:cubicBezTo>
                  <a:pt x="19036" y="13246"/>
                  <a:pt x="19056" y="13252"/>
                  <a:pt x="19100" y="13221"/>
                </a:cubicBezTo>
              </a:path>
              <a:path w="2904" h="497">
                <a:moveTo>
                  <a:pt x="19100" y="13221"/>
                </a:moveTo>
                <a:lnTo>
                  <a:pt x="19100" y="13221"/>
                </a:lnTo>
              </a:path>
              <a:path w="2904" h="497">
                <a:moveTo>
                  <a:pt x="16197" y="12948"/>
                </a:moveTo>
                <a:cubicBezTo>
                  <a:pt x="16282" y="12911"/>
                  <a:pt x="16329" y="12887"/>
                  <a:pt x="16421" y="12874"/>
                </a:cubicBezTo>
              </a:path>
              <a:path w="2904" h="497">
                <a:moveTo>
                  <a:pt x="16346" y="12874"/>
                </a:moveTo>
                <a:cubicBezTo>
                  <a:pt x="16420" y="12834"/>
                  <a:pt x="16480" y="12803"/>
                  <a:pt x="16545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0800" y="4367160"/>
            <a:ext cx="642960" cy="490680"/>
          </a:xfrm>
          <a:custGeom>
            <a:avLst/>
            <a:gdLst/>
            <a:ahLst/>
            <a:rect l="l" t="t" r="r" b="b"/>
            <a:pathLst>
              <a:path w="1787" h="1366">
                <a:moveTo>
                  <a:pt x="15404" y="12923"/>
                </a:moveTo>
                <a:cubicBezTo>
                  <a:pt x="15480" y="12910"/>
                  <a:pt x="15550" y="12882"/>
                  <a:pt x="15627" y="12874"/>
                </a:cubicBezTo>
                <a:cubicBezTo>
                  <a:pt x="15605" y="13024"/>
                  <a:pt x="15520" y="13094"/>
                  <a:pt x="15453" y="13221"/>
                </a:cubicBezTo>
                <a:cubicBezTo>
                  <a:pt x="15445" y="13246"/>
                  <a:pt x="15437" y="13270"/>
                  <a:pt x="15429" y="13295"/>
                </a:cubicBezTo>
                <a:cubicBezTo>
                  <a:pt x="15574" y="13295"/>
                  <a:pt x="15626" y="13270"/>
                  <a:pt x="15751" y="13221"/>
                </a:cubicBezTo>
                <a:cubicBezTo>
                  <a:pt x="15759" y="13221"/>
                  <a:pt x="15768" y="13221"/>
                  <a:pt x="15776" y="13221"/>
                </a:cubicBezTo>
              </a:path>
              <a:path w="1787" h="1366">
                <a:moveTo>
                  <a:pt x="15875" y="12874"/>
                </a:moveTo>
                <a:cubicBezTo>
                  <a:pt x="15787" y="12979"/>
                  <a:pt x="15782" y="13042"/>
                  <a:pt x="15801" y="13171"/>
                </a:cubicBezTo>
                <a:cubicBezTo>
                  <a:pt x="15916" y="13156"/>
                  <a:pt x="16126" y="13097"/>
                  <a:pt x="16024" y="12923"/>
                </a:cubicBezTo>
                <a:cubicBezTo>
                  <a:pt x="15960" y="12881"/>
                  <a:pt x="15949" y="12865"/>
                  <a:pt x="15900" y="12874"/>
                </a:cubicBezTo>
              </a:path>
              <a:path w="1787" h="1366">
                <a:moveTo>
                  <a:pt x="16297" y="12675"/>
                </a:moveTo>
                <a:cubicBezTo>
                  <a:pt x="16260" y="12619"/>
                  <a:pt x="16173" y="12664"/>
                  <a:pt x="16173" y="12750"/>
                </a:cubicBezTo>
                <a:cubicBezTo>
                  <a:pt x="16173" y="12841"/>
                  <a:pt x="16281" y="12967"/>
                  <a:pt x="16321" y="13047"/>
                </a:cubicBezTo>
              </a:path>
              <a:path w="1787" h="1366">
                <a:moveTo>
                  <a:pt x="16470" y="12576"/>
                </a:moveTo>
                <a:cubicBezTo>
                  <a:pt x="16479" y="12711"/>
                  <a:pt x="16498" y="12842"/>
                  <a:pt x="16520" y="12973"/>
                </a:cubicBezTo>
                <a:cubicBezTo>
                  <a:pt x="16535" y="13061"/>
                  <a:pt x="16663" y="12954"/>
                  <a:pt x="16694" y="12923"/>
                </a:cubicBezTo>
              </a:path>
              <a:path w="1787" h="1366">
                <a:moveTo>
                  <a:pt x="16495" y="12353"/>
                </a:moveTo>
                <a:cubicBezTo>
                  <a:pt x="16570" y="12319"/>
                  <a:pt x="16639" y="12288"/>
                  <a:pt x="16718" y="12278"/>
                </a:cubicBezTo>
                <a:cubicBezTo>
                  <a:pt x="16706" y="12353"/>
                  <a:pt x="16668" y="12392"/>
                  <a:pt x="16644" y="12452"/>
                </a:cubicBezTo>
                <a:cubicBezTo>
                  <a:pt x="16756" y="12452"/>
                  <a:pt x="16838" y="12444"/>
                  <a:pt x="16942" y="12402"/>
                </a:cubicBezTo>
              </a:path>
              <a:path w="1787" h="1366">
                <a:moveTo>
                  <a:pt x="15354" y="13494"/>
                </a:moveTo>
                <a:cubicBezTo>
                  <a:pt x="15595" y="13481"/>
                  <a:pt x="15863" y="13473"/>
                  <a:pt x="16098" y="13419"/>
                </a:cubicBezTo>
                <a:cubicBezTo>
                  <a:pt x="16367" y="13357"/>
                  <a:pt x="16666" y="13240"/>
                  <a:pt x="16867" y="13047"/>
                </a:cubicBezTo>
                <a:cubicBezTo>
                  <a:pt x="17017" y="12903"/>
                  <a:pt x="17094" y="12783"/>
                  <a:pt x="17066" y="12576"/>
                </a:cubicBezTo>
                <a:cubicBezTo>
                  <a:pt x="17056" y="12500"/>
                  <a:pt x="17023" y="12371"/>
                  <a:pt x="16991" y="12303"/>
                </a:cubicBezTo>
                <a:cubicBezTo>
                  <a:pt x="16947" y="12208"/>
                  <a:pt x="16772" y="12176"/>
                  <a:pt x="16669" y="12154"/>
                </a:cubicBezTo>
                <a:cubicBezTo>
                  <a:pt x="16468" y="12110"/>
                  <a:pt x="16337" y="12139"/>
                  <a:pt x="16148" y="12204"/>
                </a:cubicBezTo>
                <a:cubicBezTo>
                  <a:pt x="15948" y="12272"/>
                  <a:pt x="15715" y="12334"/>
                  <a:pt x="15553" y="12477"/>
                </a:cubicBezTo>
                <a:cubicBezTo>
                  <a:pt x="15400" y="12613"/>
                  <a:pt x="15345" y="12807"/>
                  <a:pt x="15304" y="12998"/>
                </a:cubicBezTo>
                <a:cubicBezTo>
                  <a:pt x="15260" y="13204"/>
                  <a:pt x="15310" y="13315"/>
                  <a:pt x="15528" y="13345"/>
                </a:cubicBezTo>
                <a:cubicBezTo>
                  <a:pt x="15578" y="13345"/>
                  <a:pt x="15627" y="13345"/>
                  <a:pt x="15677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91200" y="4705200"/>
            <a:ext cx="295560" cy="117720"/>
          </a:xfrm>
          <a:custGeom>
            <a:avLst/>
            <a:gdLst/>
            <a:ahLst/>
            <a:rect l="l" t="t" r="r" b="b"/>
            <a:pathLst>
              <a:path w="820" h="324">
                <a:moveTo>
                  <a:pt x="19496" y="13122"/>
                </a:moveTo>
                <a:cubicBezTo>
                  <a:pt x="19556" y="13122"/>
                  <a:pt x="19610" y="13104"/>
                  <a:pt x="19670" y="13097"/>
                </a:cubicBezTo>
                <a:cubicBezTo>
                  <a:pt x="19604" y="13204"/>
                  <a:pt x="19486" y="13273"/>
                  <a:pt x="19422" y="13370"/>
                </a:cubicBezTo>
                <a:cubicBezTo>
                  <a:pt x="19551" y="13419"/>
                  <a:pt x="19657" y="13365"/>
                  <a:pt x="19794" y="13345"/>
                </a:cubicBezTo>
                <a:cubicBezTo>
                  <a:pt x="19811" y="13345"/>
                  <a:pt x="19827" y="13345"/>
                  <a:pt x="19844" y="13345"/>
                </a:cubicBezTo>
              </a:path>
              <a:path w="820" h="324">
                <a:moveTo>
                  <a:pt x="20117" y="13072"/>
                </a:moveTo>
                <a:cubicBezTo>
                  <a:pt x="19994" y="13127"/>
                  <a:pt x="19877" y="13175"/>
                  <a:pt x="19918" y="13345"/>
                </a:cubicBezTo>
                <a:cubicBezTo>
                  <a:pt x="19935" y="13362"/>
                  <a:pt x="19951" y="13378"/>
                  <a:pt x="19968" y="13395"/>
                </a:cubicBezTo>
                <a:cubicBezTo>
                  <a:pt x="20103" y="13370"/>
                  <a:pt x="20315" y="13302"/>
                  <a:pt x="20191" y="13122"/>
                </a:cubicBezTo>
                <a:cubicBezTo>
                  <a:pt x="20166" y="13105"/>
                  <a:pt x="20142" y="13089"/>
                  <a:pt x="20117" y="130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17920" y="4330800"/>
            <a:ext cx="696960" cy="608040"/>
          </a:xfrm>
          <a:custGeom>
            <a:avLst/>
            <a:gdLst/>
            <a:ahLst/>
            <a:rect l="l" t="t" r="r" b="b"/>
            <a:pathLst>
              <a:path w="1936" h="1688">
                <a:moveTo>
                  <a:pt x="9996" y="13022"/>
                </a:moveTo>
                <a:cubicBezTo>
                  <a:pt x="10064" y="12978"/>
                  <a:pt x="10145" y="12957"/>
                  <a:pt x="10220" y="12923"/>
                </a:cubicBezTo>
                <a:cubicBezTo>
                  <a:pt x="10245" y="13093"/>
                  <a:pt x="10170" y="13200"/>
                  <a:pt x="10071" y="13345"/>
                </a:cubicBezTo>
                <a:cubicBezTo>
                  <a:pt x="10046" y="13370"/>
                  <a:pt x="10038" y="13378"/>
                  <a:pt x="10071" y="13395"/>
                </a:cubicBezTo>
                <a:cubicBezTo>
                  <a:pt x="10222" y="13323"/>
                  <a:pt x="10371" y="13289"/>
                  <a:pt x="10468" y="13146"/>
                </a:cubicBezTo>
                <a:cubicBezTo>
                  <a:pt x="10484" y="13113"/>
                  <a:pt x="10501" y="13080"/>
                  <a:pt x="10517" y="13047"/>
                </a:cubicBezTo>
              </a:path>
              <a:path w="1936" h="1688">
                <a:moveTo>
                  <a:pt x="10542" y="12923"/>
                </a:moveTo>
                <a:cubicBezTo>
                  <a:pt x="10448" y="12961"/>
                  <a:pt x="10363" y="13082"/>
                  <a:pt x="10393" y="13196"/>
                </a:cubicBezTo>
                <a:cubicBezTo>
                  <a:pt x="10410" y="13213"/>
                  <a:pt x="10426" y="13229"/>
                  <a:pt x="10443" y="13246"/>
                </a:cubicBezTo>
                <a:cubicBezTo>
                  <a:pt x="10587" y="13178"/>
                  <a:pt x="10699" y="13094"/>
                  <a:pt x="10592" y="12923"/>
                </a:cubicBezTo>
                <a:cubicBezTo>
                  <a:pt x="10553" y="12885"/>
                  <a:pt x="10551" y="12868"/>
                  <a:pt x="10517" y="12874"/>
                </a:cubicBezTo>
              </a:path>
              <a:path w="1936" h="1688">
                <a:moveTo>
                  <a:pt x="10939" y="12675"/>
                </a:moveTo>
                <a:cubicBezTo>
                  <a:pt x="10871" y="12648"/>
                  <a:pt x="10790" y="12701"/>
                  <a:pt x="10815" y="12799"/>
                </a:cubicBezTo>
                <a:cubicBezTo>
                  <a:pt x="10841" y="12899"/>
                  <a:pt x="10942" y="12936"/>
                  <a:pt x="10964" y="13022"/>
                </a:cubicBezTo>
              </a:path>
              <a:path w="1936" h="1688">
                <a:moveTo>
                  <a:pt x="10765" y="13022"/>
                </a:moveTo>
                <a:cubicBezTo>
                  <a:pt x="10900" y="12962"/>
                  <a:pt x="10988" y="12941"/>
                  <a:pt x="11063" y="12824"/>
                </a:cubicBezTo>
              </a:path>
              <a:path w="1936" h="1688">
                <a:moveTo>
                  <a:pt x="11112" y="12675"/>
                </a:moveTo>
                <a:cubicBezTo>
                  <a:pt x="11129" y="12761"/>
                  <a:pt x="11116" y="12862"/>
                  <a:pt x="11137" y="12948"/>
                </a:cubicBezTo>
                <a:cubicBezTo>
                  <a:pt x="11159" y="13040"/>
                  <a:pt x="11353" y="12942"/>
                  <a:pt x="11385" y="12923"/>
                </a:cubicBezTo>
              </a:path>
              <a:path w="1936" h="1688">
                <a:moveTo>
                  <a:pt x="10988" y="12898"/>
                </a:moveTo>
                <a:cubicBezTo>
                  <a:pt x="11137" y="12820"/>
                  <a:pt x="11229" y="12799"/>
                  <a:pt x="11286" y="12650"/>
                </a:cubicBezTo>
              </a:path>
              <a:path w="1936" h="1688">
                <a:moveTo>
                  <a:pt x="11237" y="12402"/>
                </a:moveTo>
                <a:cubicBezTo>
                  <a:pt x="11242" y="12394"/>
                  <a:pt x="11327" y="12328"/>
                  <a:pt x="11361" y="12353"/>
                </a:cubicBezTo>
                <a:cubicBezTo>
                  <a:pt x="11427" y="12402"/>
                  <a:pt x="11354" y="12486"/>
                  <a:pt x="11385" y="12502"/>
                </a:cubicBezTo>
                <a:cubicBezTo>
                  <a:pt x="11448" y="12489"/>
                  <a:pt x="11506" y="12462"/>
                  <a:pt x="11559" y="12427"/>
                </a:cubicBezTo>
              </a:path>
              <a:path w="1936" h="1688">
                <a:moveTo>
                  <a:pt x="10170" y="13667"/>
                </a:moveTo>
                <a:cubicBezTo>
                  <a:pt x="10318" y="13605"/>
                  <a:pt x="10485" y="13573"/>
                  <a:pt x="10641" y="13519"/>
                </a:cubicBezTo>
                <a:cubicBezTo>
                  <a:pt x="10839" y="13450"/>
                  <a:pt x="11030" y="13375"/>
                  <a:pt x="11212" y="13271"/>
                </a:cubicBezTo>
                <a:cubicBezTo>
                  <a:pt x="11347" y="13194"/>
                  <a:pt x="11446" y="13148"/>
                  <a:pt x="11534" y="13022"/>
                </a:cubicBezTo>
                <a:cubicBezTo>
                  <a:pt x="11588" y="12944"/>
                  <a:pt x="11666" y="12844"/>
                  <a:pt x="11683" y="12750"/>
                </a:cubicBezTo>
                <a:cubicBezTo>
                  <a:pt x="11700" y="12659"/>
                  <a:pt x="11705" y="12570"/>
                  <a:pt x="11708" y="12477"/>
                </a:cubicBezTo>
                <a:cubicBezTo>
                  <a:pt x="11710" y="12414"/>
                  <a:pt x="11677" y="12279"/>
                  <a:pt x="11633" y="12229"/>
                </a:cubicBezTo>
                <a:cubicBezTo>
                  <a:pt x="11568" y="12155"/>
                  <a:pt x="11482" y="12093"/>
                  <a:pt x="11385" y="12055"/>
                </a:cubicBezTo>
                <a:cubicBezTo>
                  <a:pt x="11239" y="11997"/>
                  <a:pt x="11036" y="12044"/>
                  <a:pt x="10889" y="12080"/>
                </a:cubicBezTo>
                <a:cubicBezTo>
                  <a:pt x="10661" y="12136"/>
                  <a:pt x="10494" y="12268"/>
                  <a:pt x="10294" y="12378"/>
                </a:cubicBezTo>
                <a:cubicBezTo>
                  <a:pt x="10092" y="12489"/>
                  <a:pt x="9944" y="12634"/>
                  <a:pt x="9847" y="12849"/>
                </a:cubicBezTo>
                <a:cubicBezTo>
                  <a:pt x="9788" y="12980"/>
                  <a:pt x="9778" y="13109"/>
                  <a:pt x="9798" y="13246"/>
                </a:cubicBezTo>
                <a:cubicBezTo>
                  <a:pt x="9818" y="13379"/>
                  <a:pt x="9833" y="13568"/>
                  <a:pt x="9971" y="13643"/>
                </a:cubicBezTo>
                <a:cubicBezTo>
                  <a:pt x="10101" y="13714"/>
                  <a:pt x="10324" y="13704"/>
                  <a:pt x="10468" y="13717"/>
                </a:cubicBezTo>
                <a:cubicBezTo>
                  <a:pt x="10561" y="13726"/>
                  <a:pt x="10650" y="13704"/>
                  <a:pt x="10740" y="136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69040" y="2463840"/>
            <a:ext cx="401760" cy="304920"/>
          </a:xfrm>
          <a:custGeom>
            <a:avLst/>
            <a:gdLst/>
            <a:ahLst/>
            <a:rect l="l" t="t" r="r" b="b"/>
            <a:pathLst>
              <a:path w="1117" h="844">
                <a:moveTo>
                  <a:pt x="17562" y="7045"/>
                </a:moveTo>
                <a:cubicBezTo>
                  <a:pt x="17577" y="7208"/>
                  <a:pt x="17503" y="7341"/>
                  <a:pt x="17413" y="7491"/>
                </a:cubicBezTo>
                <a:cubicBezTo>
                  <a:pt x="17442" y="7345"/>
                  <a:pt x="17582" y="7140"/>
                  <a:pt x="17661" y="7020"/>
                </a:cubicBezTo>
                <a:cubicBezTo>
                  <a:pt x="17742" y="6919"/>
                  <a:pt x="17754" y="6898"/>
                  <a:pt x="17810" y="6846"/>
                </a:cubicBezTo>
                <a:cubicBezTo>
                  <a:pt x="17848" y="7019"/>
                  <a:pt x="17859" y="7162"/>
                  <a:pt x="17859" y="7342"/>
                </a:cubicBezTo>
                <a:cubicBezTo>
                  <a:pt x="17859" y="7419"/>
                  <a:pt x="17874" y="7468"/>
                  <a:pt x="17835" y="7417"/>
                </a:cubicBezTo>
              </a:path>
              <a:path w="1117" h="844">
                <a:moveTo>
                  <a:pt x="17587" y="7342"/>
                </a:moveTo>
                <a:cubicBezTo>
                  <a:pt x="17719" y="7308"/>
                  <a:pt x="17799" y="7293"/>
                  <a:pt x="17934" y="7293"/>
                </a:cubicBezTo>
              </a:path>
              <a:path w="1117" h="844">
                <a:moveTo>
                  <a:pt x="18033" y="7466"/>
                </a:moveTo>
                <a:cubicBezTo>
                  <a:pt x="18028" y="7556"/>
                  <a:pt x="18022" y="7606"/>
                  <a:pt x="18008" y="7689"/>
                </a:cubicBezTo>
                <a:cubicBezTo>
                  <a:pt x="18129" y="7663"/>
                  <a:pt x="18222" y="7600"/>
                  <a:pt x="18355" y="7590"/>
                </a:cubicBezTo>
                <a:cubicBezTo>
                  <a:pt x="18483" y="7580"/>
                  <a:pt x="18421" y="7601"/>
                  <a:pt x="18479" y="7491"/>
                </a:cubicBezTo>
                <a:cubicBezTo>
                  <a:pt x="18523" y="7407"/>
                  <a:pt x="18529" y="7421"/>
                  <a:pt x="18529" y="7342"/>
                </a:cubicBezTo>
                <a:cubicBezTo>
                  <a:pt x="18384" y="7357"/>
                  <a:pt x="18244" y="7388"/>
                  <a:pt x="18107" y="7441"/>
                </a:cubicBezTo>
                <a:cubicBezTo>
                  <a:pt x="18067" y="7461"/>
                  <a:pt x="18061" y="7470"/>
                  <a:pt x="18033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7080" y="3276720"/>
            <a:ext cx="285840" cy="260280"/>
          </a:xfrm>
          <a:custGeom>
            <a:avLst/>
            <a:gdLst/>
            <a:ahLst/>
            <a:rect l="l" t="t" r="r" b="b"/>
            <a:pathLst>
              <a:path w="794" h="721">
                <a:moveTo>
                  <a:pt x="3299" y="9203"/>
                </a:moveTo>
                <a:cubicBezTo>
                  <a:pt x="3108" y="9185"/>
                  <a:pt x="3016" y="9201"/>
                  <a:pt x="2853" y="9302"/>
                </a:cubicBezTo>
                <a:cubicBezTo>
                  <a:pt x="2876" y="9516"/>
                  <a:pt x="3081" y="9454"/>
                  <a:pt x="3200" y="9624"/>
                </a:cubicBezTo>
                <a:cubicBezTo>
                  <a:pt x="3225" y="9748"/>
                  <a:pt x="3234" y="9789"/>
                  <a:pt x="3125" y="9823"/>
                </a:cubicBezTo>
                <a:cubicBezTo>
                  <a:pt x="2946" y="9685"/>
                  <a:pt x="3022" y="9603"/>
                  <a:pt x="3076" y="9376"/>
                </a:cubicBezTo>
                <a:cubicBezTo>
                  <a:pt x="3076" y="9343"/>
                  <a:pt x="3084" y="9335"/>
                  <a:pt x="3125" y="9351"/>
                </a:cubicBezTo>
              </a:path>
              <a:path w="794" h="721">
                <a:moveTo>
                  <a:pt x="3373" y="9203"/>
                </a:moveTo>
                <a:cubicBezTo>
                  <a:pt x="3373" y="9278"/>
                  <a:pt x="3339" y="9466"/>
                  <a:pt x="3473" y="9451"/>
                </a:cubicBezTo>
                <a:cubicBezTo>
                  <a:pt x="3514" y="9434"/>
                  <a:pt x="3556" y="9418"/>
                  <a:pt x="3597" y="9401"/>
                </a:cubicBezTo>
              </a:path>
              <a:path w="794" h="721">
                <a:moveTo>
                  <a:pt x="3646" y="9103"/>
                </a:moveTo>
                <a:cubicBezTo>
                  <a:pt x="3599" y="9335"/>
                  <a:pt x="3564" y="9562"/>
                  <a:pt x="3547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74800" y="3697200"/>
            <a:ext cx="936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2431" y="10269"/>
                </a:moveTo>
                <a:cubicBezTo>
                  <a:pt x="2431" y="10405"/>
                  <a:pt x="2444" y="10532"/>
                  <a:pt x="2456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0160" y="2608200"/>
            <a:ext cx="6054840" cy="1704960"/>
          </a:xfrm>
          <a:custGeom>
            <a:avLst/>
            <a:gdLst/>
            <a:ahLst/>
            <a:rect l="l" t="t" r="r" b="b"/>
            <a:pathLst>
              <a:path w="16818" h="4739">
                <a:moveTo>
                  <a:pt x="19000" y="7317"/>
                </a:moveTo>
                <a:cubicBezTo>
                  <a:pt x="19043" y="7275"/>
                  <a:pt x="19074" y="7256"/>
                  <a:pt x="19124" y="7243"/>
                </a:cubicBezTo>
              </a:path>
              <a:path w="16818" h="4739">
                <a:moveTo>
                  <a:pt x="18951" y="7392"/>
                </a:moveTo>
                <a:cubicBezTo>
                  <a:pt x="19042" y="7369"/>
                  <a:pt x="19068" y="7363"/>
                  <a:pt x="19124" y="7342"/>
                </a:cubicBezTo>
              </a:path>
              <a:path w="16818" h="4739">
                <a:moveTo>
                  <a:pt x="19124" y="7342"/>
                </a:moveTo>
                <a:lnTo>
                  <a:pt x="19124" y="7342"/>
                </a:lnTo>
              </a:path>
              <a:path w="16818" h="4739">
                <a:moveTo>
                  <a:pt x="11609" y="9798"/>
                </a:moveTo>
                <a:cubicBezTo>
                  <a:pt x="11617" y="9798"/>
                  <a:pt x="11625" y="9798"/>
                  <a:pt x="11633" y="9798"/>
                </a:cubicBezTo>
              </a:path>
              <a:path w="16818" h="4739">
                <a:moveTo>
                  <a:pt x="11609" y="9426"/>
                </a:moveTo>
                <a:cubicBezTo>
                  <a:pt x="11609" y="9434"/>
                  <a:pt x="11609" y="9443"/>
                  <a:pt x="11609" y="9451"/>
                </a:cubicBezTo>
              </a:path>
              <a:path w="16818" h="4739">
                <a:moveTo>
                  <a:pt x="2307" y="10468"/>
                </a:moveTo>
                <a:cubicBezTo>
                  <a:pt x="2494" y="10387"/>
                  <a:pt x="2567" y="10357"/>
                  <a:pt x="2704" y="10319"/>
                </a:cubicBezTo>
              </a:path>
              <a:path w="16818" h="4739">
                <a:moveTo>
                  <a:pt x="2704" y="10319"/>
                </a:moveTo>
                <a:lnTo>
                  <a:pt x="2704" y="10319"/>
                </a:lnTo>
              </a:path>
              <a:path w="16818" h="4739">
                <a:moveTo>
                  <a:pt x="3497" y="10269"/>
                </a:moveTo>
                <a:cubicBezTo>
                  <a:pt x="3453" y="10403"/>
                  <a:pt x="3430" y="10439"/>
                  <a:pt x="3497" y="10517"/>
                </a:cubicBezTo>
                <a:cubicBezTo>
                  <a:pt x="3588" y="10494"/>
                  <a:pt x="3905" y="10273"/>
                  <a:pt x="3646" y="10195"/>
                </a:cubicBezTo>
                <a:cubicBezTo>
                  <a:pt x="3605" y="10203"/>
                  <a:pt x="3563" y="10212"/>
                  <a:pt x="3522" y="10220"/>
                </a:cubicBezTo>
              </a:path>
              <a:path w="16818" h="4739">
                <a:moveTo>
                  <a:pt x="4539" y="11981"/>
                </a:moveTo>
                <a:cubicBezTo>
                  <a:pt x="4706" y="11909"/>
                  <a:pt x="4757" y="11887"/>
                  <a:pt x="4862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960" y="3679920"/>
            <a:ext cx="1687320" cy="1052280"/>
          </a:xfrm>
          <a:custGeom>
            <a:avLst/>
            <a:gdLst/>
            <a:ahLst/>
            <a:rect l="l" t="t" r="r" b="b"/>
            <a:pathLst>
              <a:path w="4689" h="2927">
                <a:moveTo>
                  <a:pt x="2977" y="10244"/>
                </a:moveTo>
                <a:cubicBezTo>
                  <a:pt x="3133" y="10237"/>
                  <a:pt x="3393" y="10290"/>
                  <a:pt x="3200" y="10517"/>
                </a:cubicBezTo>
                <a:cubicBezTo>
                  <a:pt x="3081" y="10657"/>
                  <a:pt x="2987" y="10605"/>
                  <a:pt x="2877" y="10542"/>
                </a:cubicBezTo>
                <a:cubicBezTo>
                  <a:pt x="3005" y="10414"/>
                  <a:pt x="3070" y="10513"/>
                  <a:pt x="3225" y="10542"/>
                </a:cubicBezTo>
                <a:cubicBezTo>
                  <a:pt x="3258" y="10542"/>
                  <a:pt x="3291" y="10542"/>
                  <a:pt x="3324" y="10542"/>
                </a:cubicBezTo>
              </a:path>
              <a:path w="4689" h="2927">
                <a:moveTo>
                  <a:pt x="3076" y="11088"/>
                </a:moveTo>
                <a:cubicBezTo>
                  <a:pt x="3076" y="11001"/>
                  <a:pt x="3175" y="10967"/>
                  <a:pt x="3249" y="11063"/>
                </a:cubicBezTo>
                <a:cubicBezTo>
                  <a:pt x="3368" y="11218"/>
                  <a:pt x="3268" y="11574"/>
                  <a:pt x="3026" y="11509"/>
                </a:cubicBezTo>
                <a:cubicBezTo>
                  <a:pt x="3010" y="11484"/>
                  <a:pt x="2993" y="11460"/>
                  <a:pt x="2977" y="11435"/>
                </a:cubicBezTo>
                <a:cubicBezTo>
                  <a:pt x="3147" y="11301"/>
                  <a:pt x="3225" y="11299"/>
                  <a:pt x="3423" y="11410"/>
                </a:cubicBezTo>
                <a:cubicBezTo>
                  <a:pt x="3474" y="11461"/>
                  <a:pt x="3513" y="11450"/>
                  <a:pt x="3572" y="11361"/>
                </a:cubicBezTo>
              </a:path>
              <a:path w="4689" h="2927">
                <a:moveTo>
                  <a:pt x="3671" y="10988"/>
                </a:moveTo>
                <a:cubicBezTo>
                  <a:pt x="3624" y="11176"/>
                  <a:pt x="3618" y="11226"/>
                  <a:pt x="3671" y="11410"/>
                </a:cubicBezTo>
                <a:cubicBezTo>
                  <a:pt x="3788" y="11362"/>
                  <a:pt x="4146" y="11123"/>
                  <a:pt x="3870" y="10964"/>
                </a:cubicBezTo>
                <a:cubicBezTo>
                  <a:pt x="3734" y="10964"/>
                  <a:pt x="3684" y="10971"/>
                  <a:pt x="3621" y="11063"/>
                </a:cubicBezTo>
              </a:path>
              <a:path w="4689" h="2927">
                <a:moveTo>
                  <a:pt x="2356" y="11881"/>
                </a:moveTo>
                <a:cubicBezTo>
                  <a:pt x="2841" y="11735"/>
                  <a:pt x="3329" y="11627"/>
                  <a:pt x="3820" y="11509"/>
                </a:cubicBezTo>
                <a:cubicBezTo>
                  <a:pt x="4621" y="11316"/>
                  <a:pt x="3987" y="11460"/>
                  <a:pt x="4118" y="11460"/>
                </a:cubicBezTo>
              </a:path>
              <a:path w="4689" h="2927">
                <a:moveTo>
                  <a:pt x="3770" y="11931"/>
                </a:moveTo>
                <a:cubicBezTo>
                  <a:pt x="3751" y="11963"/>
                  <a:pt x="3746" y="12060"/>
                  <a:pt x="3746" y="12129"/>
                </a:cubicBezTo>
                <a:cubicBezTo>
                  <a:pt x="3914" y="12200"/>
                  <a:pt x="4032" y="12129"/>
                  <a:pt x="4192" y="12030"/>
                </a:cubicBezTo>
              </a:path>
              <a:path w="4689" h="2927">
                <a:moveTo>
                  <a:pt x="4018" y="11733"/>
                </a:moveTo>
                <a:cubicBezTo>
                  <a:pt x="3987" y="11933"/>
                  <a:pt x="3950" y="12122"/>
                  <a:pt x="3944" y="12328"/>
                </a:cubicBezTo>
                <a:cubicBezTo>
                  <a:pt x="3944" y="12345"/>
                  <a:pt x="3944" y="12361"/>
                  <a:pt x="3944" y="12378"/>
                </a:cubicBezTo>
              </a:path>
              <a:path w="4689" h="2927">
                <a:moveTo>
                  <a:pt x="2629" y="12179"/>
                </a:moveTo>
                <a:cubicBezTo>
                  <a:pt x="2655" y="12335"/>
                  <a:pt x="2654" y="12489"/>
                  <a:pt x="2654" y="12650"/>
                </a:cubicBezTo>
                <a:cubicBezTo>
                  <a:pt x="2654" y="12725"/>
                  <a:pt x="2654" y="12750"/>
                  <a:pt x="2654" y="12650"/>
                </a:cubicBezTo>
              </a:path>
              <a:path w="4689" h="2927">
                <a:moveTo>
                  <a:pt x="3001" y="12154"/>
                </a:moveTo>
                <a:cubicBezTo>
                  <a:pt x="3158" y="12055"/>
                  <a:pt x="3363" y="12033"/>
                  <a:pt x="3398" y="12278"/>
                </a:cubicBezTo>
                <a:cubicBezTo>
                  <a:pt x="3433" y="12519"/>
                  <a:pt x="3209" y="12604"/>
                  <a:pt x="3051" y="12551"/>
                </a:cubicBezTo>
                <a:cubicBezTo>
                  <a:pt x="3172" y="12386"/>
                  <a:pt x="3306" y="12418"/>
                  <a:pt x="3497" y="12502"/>
                </a:cubicBezTo>
                <a:cubicBezTo>
                  <a:pt x="3527" y="12531"/>
                  <a:pt x="3542" y="12536"/>
                  <a:pt x="3572" y="12502"/>
                </a:cubicBezTo>
              </a:path>
              <a:path w="4689" h="2927">
                <a:moveTo>
                  <a:pt x="4812" y="11584"/>
                </a:moveTo>
                <a:cubicBezTo>
                  <a:pt x="4772" y="11525"/>
                  <a:pt x="4769" y="11513"/>
                  <a:pt x="4738" y="11485"/>
                </a:cubicBezTo>
                <a:cubicBezTo>
                  <a:pt x="4501" y="11583"/>
                  <a:pt x="4599" y="11800"/>
                  <a:pt x="4638" y="12030"/>
                </a:cubicBezTo>
                <a:cubicBezTo>
                  <a:pt x="4653" y="12121"/>
                  <a:pt x="4702" y="12222"/>
                  <a:pt x="4638" y="12179"/>
                </a:cubicBezTo>
              </a:path>
              <a:path w="4689" h="2927">
                <a:moveTo>
                  <a:pt x="5035" y="11534"/>
                </a:moveTo>
                <a:cubicBezTo>
                  <a:pt x="5035" y="11726"/>
                  <a:pt x="5035" y="11895"/>
                  <a:pt x="5085" y="12080"/>
                </a:cubicBezTo>
                <a:cubicBezTo>
                  <a:pt x="5175" y="12062"/>
                  <a:pt x="5247" y="12024"/>
                  <a:pt x="5333" y="11981"/>
                </a:cubicBezTo>
              </a:path>
              <a:path w="4689" h="2927">
                <a:moveTo>
                  <a:pt x="5358" y="11286"/>
                </a:moveTo>
                <a:cubicBezTo>
                  <a:pt x="5414" y="11257"/>
                  <a:pt x="5438" y="11247"/>
                  <a:pt x="5482" y="11237"/>
                </a:cubicBezTo>
                <a:cubicBezTo>
                  <a:pt x="5511" y="11353"/>
                  <a:pt x="5469" y="11477"/>
                  <a:pt x="5407" y="11584"/>
                </a:cubicBezTo>
                <a:cubicBezTo>
                  <a:pt x="5517" y="11572"/>
                  <a:pt x="5621" y="11527"/>
                  <a:pt x="5730" y="11509"/>
                </a:cubicBezTo>
              </a:path>
              <a:path w="4689" h="2927">
                <a:moveTo>
                  <a:pt x="2853" y="13146"/>
                </a:moveTo>
                <a:cubicBezTo>
                  <a:pt x="3227" y="13072"/>
                  <a:pt x="3598" y="13012"/>
                  <a:pt x="3969" y="12923"/>
                </a:cubicBezTo>
                <a:cubicBezTo>
                  <a:pt x="4593" y="12773"/>
                  <a:pt x="5225" y="12638"/>
                  <a:pt x="5804" y="12353"/>
                </a:cubicBezTo>
                <a:cubicBezTo>
                  <a:pt x="6068" y="12223"/>
                  <a:pt x="6451" y="12001"/>
                  <a:pt x="6598" y="11733"/>
                </a:cubicBezTo>
                <a:cubicBezTo>
                  <a:pt x="6685" y="11574"/>
                  <a:pt x="6709" y="11408"/>
                  <a:pt x="6672" y="11237"/>
                </a:cubicBezTo>
                <a:cubicBezTo>
                  <a:pt x="6620" y="10999"/>
                  <a:pt x="6353" y="10917"/>
                  <a:pt x="6152" y="10864"/>
                </a:cubicBezTo>
                <a:cubicBezTo>
                  <a:pt x="6007" y="10826"/>
                  <a:pt x="5824" y="10831"/>
                  <a:pt x="5680" y="10864"/>
                </a:cubicBezTo>
                <a:cubicBezTo>
                  <a:pt x="5487" y="10908"/>
                  <a:pt x="5299" y="10983"/>
                  <a:pt x="5110" y="11038"/>
                </a:cubicBezTo>
                <a:cubicBezTo>
                  <a:pt x="4975" y="11077"/>
                  <a:pt x="4847" y="11124"/>
                  <a:pt x="4713" y="11162"/>
                </a:cubicBezTo>
                <a:cubicBezTo>
                  <a:pt x="4562" y="11204"/>
                  <a:pt x="4409" y="11270"/>
                  <a:pt x="4266" y="11336"/>
                </a:cubicBezTo>
                <a:cubicBezTo>
                  <a:pt x="4126" y="11400"/>
                  <a:pt x="3989" y="11478"/>
                  <a:pt x="3845" y="11534"/>
                </a:cubicBezTo>
                <a:cubicBezTo>
                  <a:pt x="3709" y="11587"/>
                  <a:pt x="3563" y="11621"/>
                  <a:pt x="3423" y="11658"/>
                </a:cubicBezTo>
                <a:cubicBezTo>
                  <a:pt x="3238" y="11707"/>
                  <a:pt x="3029" y="11734"/>
                  <a:pt x="2853" y="11807"/>
                </a:cubicBezTo>
                <a:cubicBezTo>
                  <a:pt x="2726" y="11860"/>
                  <a:pt x="2603" y="11941"/>
                  <a:pt x="2480" y="12005"/>
                </a:cubicBezTo>
                <a:cubicBezTo>
                  <a:pt x="2350" y="12073"/>
                  <a:pt x="2255" y="12124"/>
                  <a:pt x="2158" y="12229"/>
                </a:cubicBezTo>
                <a:cubicBezTo>
                  <a:pt x="2083" y="12310"/>
                  <a:pt x="2022" y="12412"/>
                  <a:pt x="2009" y="12526"/>
                </a:cubicBezTo>
                <a:cubicBezTo>
                  <a:pt x="2001" y="12599"/>
                  <a:pt x="2037" y="12777"/>
                  <a:pt x="2084" y="12824"/>
                </a:cubicBezTo>
                <a:cubicBezTo>
                  <a:pt x="2166" y="12906"/>
                  <a:pt x="2278" y="12904"/>
                  <a:pt x="2381" y="12923"/>
                </a:cubicBezTo>
                <a:cubicBezTo>
                  <a:pt x="2511" y="12947"/>
                  <a:pt x="2642" y="12959"/>
                  <a:pt x="2778" y="12948"/>
                </a:cubicBezTo>
                <a:cubicBezTo>
                  <a:pt x="2920" y="12937"/>
                  <a:pt x="3060" y="12927"/>
                  <a:pt x="3200" y="12898"/>
                </a:cubicBezTo>
                <a:cubicBezTo>
                  <a:pt x="3376" y="12862"/>
                  <a:pt x="3547" y="12813"/>
                  <a:pt x="3721" y="12774"/>
                </a:cubicBezTo>
                <a:cubicBezTo>
                  <a:pt x="3778" y="12755"/>
                  <a:pt x="3785" y="12747"/>
                  <a:pt x="3820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62120" y="2768760"/>
            <a:ext cx="1608120" cy="446040"/>
          </a:xfrm>
          <a:custGeom>
            <a:avLst/>
            <a:gdLst/>
            <a:ahLst/>
            <a:rect l="l" t="t" r="r" b="b"/>
            <a:pathLst>
              <a:path w="4466" h="1242">
                <a:moveTo>
                  <a:pt x="11559" y="8905"/>
                </a:moveTo>
                <a:cubicBezTo>
                  <a:pt x="11559" y="8913"/>
                  <a:pt x="11559" y="8922"/>
                  <a:pt x="11559" y="8930"/>
                </a:cubicBezTo>
              </a:path>
              <a:path w="4466" h="1242">
                <a:moveTo>
                  <a:pt x="11559" y="8731"/>
                </a:moveTo>
                <a:lnTo>
                  <a:pt x="11559" y="8731"/>
                </a:lnTo>
              </a:path>
              <a:path w="4466" h="1242">
                <a:moveTo>
                  <a:pt x="11559" y="8533"/>
                </a:moveTo>
                <a:lnTo>
                  <a:pt x="11559" y="8533"/>
                </a:lnTo>
                <a:lnTo>
                  <a:pt x="11559" y="8533"/>
                </a:lnTo>
              </a:path>
              <a:path w="4466" h="1242">
                <a:moveTo>
                  <a:pt x="11584" y="8409"/>
                </a:moveTo>
                <a:lnTo>
                  <a:pt x="11584" y="8409"/>
                </a:lnTo>
              </a:path>
              <a:path w="4466" h="1242">
                <a:moveTo>
                  <a:pt x="7119" y="7962"/>
                </a:moveTo>
                <a:cubicBezTo>
                  <a:pt x="7271" y="7912"/>
                  <a:pt x="7324" y="7894"/>
                  <a:pt x="7417" y="7838"/>
                </a:cubicBezTo>
              </a:path>
              <a:path w="4466" h="1242">
                <a:moveTo>
                  <a:pt x="7962" y="7789"/>
                </a:moveTo>
                <a:cubicBezTo>
                  <a:pt x="8053" y="7735"/>
                  <a:pt x="8131" y="7639"/>
                  <a:pt x="8111" y="7739"/>
                </a:cubicBezTo>
              </a:path>
              <a:path w="4466" h="1242">
                <a:moveTo>
                  <a:pt x="7938" y="7938"/>
                </a:moveTo>
                <a:cubicBezTo>
                  <a:pt x="8058" y="7892"/>
                  <a:pt x="8170" y="7804"/>
                  <a:pt x="8285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776680"/>
            <a:ext cx="187200" cy="188640"/>
          </a:xfrm>
          <a:custGeom>
            <a:avLst/>
            <a:gdLst/>
            <a:ahLst/>
            <a:rect l="l" t="t" r="r" b="b"/>
            <a:pathLst>
              <a:path w="522" h="522">
                <a:moveTo>
                  <a:pt x="6945" y="7714"/>
                </a:moveTo>
                <a:cubicBezTo>
                  <a:pt x="6899" y="7714"/>
                  <a:pt x="6804" y="7694"/>
                  <a:pt x="6772" y="7739"/>
                </a:cubicBezTo>
                <a:cubicBezTo>
                  <a:pt x="6736" y="7788"/>
                  <a:pt x="6723" y="7881"/>
                  <a:pt x="6697" y="7938"/>
                </a:cubicBezTo>
                <a:cubicBezTo>
                  <a:pt x="6788" y="7938"/>
                  <a:pt x="6940" y="7902"/>
                  <a:pt x="6945" y="8037"/>
                </a:cubicBezTo>
                <a:cubicBezTo>
                  <a:pt x="6949" y="8154"/>
                  <a:pt x="6766" y="8331"/>
                  <a:pt x="6672" y="8186"/>
                </a:cubicBezTo>
                <a:cubicBezTo>
                  <a:pt x="6672" y="8161"/>
                  <a:pt x="6672" y="8136"/>
                  <a:pt x="6672" y="8111"/>
                </a:cubicBezTo>
              </a:path>
              <a:path w="522" h="522">
                <a:moveTo>
                  <a:pt x="7144" y="7813"/>
                </a:moveTo>
                <a:cubicBezTo>
                  <a:pt x="7179" y="7925"/>
                  <a:pt x="7193" y="7972"/>
                  <a:pt x="7193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87760" y="2786040"/>
            <a:ext cx="90360" cy="1350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7491" y="7739"/>
                </a:moveTo>
                <a:cubicBezTo>
                  <a:pt x="7491" y="7837"/>
                  <a:pt x="7419" y="8000"/>
                  <a:pt x="7466" y="8086"/>
                </a:cubicBezTo>
                <a:cubicBezTo>
                  <a:pt x="7491" y="8094"/>
                  <a:pt x="7516" y="8103"/>
                  <a:pt x="7541" y="8111"/>
                </a:cubicBezTo>
                <a:cubicBezTo>
                  <a:pt x="7640" y="8053"/>
                  <a:pt x="7664" y="8020"/>
                  <a:pt x="7714" y="7913"/>
                </a:cubicBezTo>
                <a:cubicBezTo>
                  <a:pt x="7711" y="7915"/>
                  <a:pt x="7602" y="8064"/>
                  <a:pt x="7615" y="8062"/>
                </a:cubicBezTo>
                <a:cubicBezTo>
                  <a:pt x="7648" y="8045"/>
                  <a:pt x="7681" y="8029"/>
                  <a:pt x="7714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09960" y="2724120"/>
            <a:ext cx="88920" cy="142920"/>
          </a:xfrm>
          <a:custGeom>
            <a:avLst/>
            <a:gdLst/>
            <a:ahLst/>
            <a:rect l="l" t="t" r="r" b="b"/>
            <a:pathLst>
              <a:path w="249" h="398">
                <a:moveTo>
                  <a:pt x="8359" y="7565"/>
                </a:moveTo>
                <a:cubicBezTo>
                  <a:pt x="8359" y="7684"/>
                  <a:pt x="8284" y="8032"/>
                  <a:pt x="8409" y="7888"/>
                </a:cubicBezTo>
              </a:path>
              <a:path w="249" h="398">
                <a:moveTo>
                  <a:pt x="8558" y="7565"/>
                </a:moveTo>
                <a:cubicBezTo>
                  <a:pt x="8565" y="7673"/>
                  <a:pt x="8560" y="7851"/>
                  <a:pt x="8607" y="79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8960" y="4197240"/>
            <a:ext cx="135000" cy="71640"/>
          </a:xfrm>
          <a:custGeom>
            <a:avLst/>
            <a:gdLst/>
            <a:ahLst/>
            <a:rect l="l" t="t" r="r" b="b"/>
            <a:pathLst>
              <a:path w="373" h="200">
                <a:moveTo>
                  <a:pt x="4887" y="11857"/>
                </a:moveTo>
                <a:cubicBezTo>
                  <a:pt x="5052" y="11799"/>
                  <a:pt x="5127" y="11766"/>
                  <a:pt x="5259" y="116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 Figure Shrinky D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5:50:12Z</dcterms:created>
  <dc:creator>ccps</dc:creator>
  <dc:description/>
  <dc:language>en-US</dc:language>
  <cp:lastModifiedBy>demcgra</cp:lastModifiedBy>
  <dcterms:modified xsi:type="dcterms:W3CDTF">2012-02-16T17:56:10Z</dcterms:modified>
  <cp:revision>10</cp:revision>
  <dc:subject/>
  <dc:title>Geometry</dc:title>
</cp:coreProperties>
</file>